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7D6F-060E-49BD-B831-0426C640E8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6676-5C0C-401E-93C6-50747824CE7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876-2030-49C9-9E6E-599B815E37F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9731-E6D4-44A2-8707-59FC5475AA6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C285-242A-4845-887D-A59589CA1AA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105A-0475-494B-9B21-97398F70B75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4E4B-5D58-4724-8260-5D621966E2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918F-4FE8-4D92-8517-B60382BD2DE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15A1-3379-4918-9828-772CC972B75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8616-B5B7-486A-9095-DD84DD7F61F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FA78-F708-4BB6-8B9A-7EC621FBD93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138-BA0F-4149-B6E2-433455BF636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E183-F54A-4D7F-8E5C-2FE9A124AEB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97B-6E93-4717-B35B-BA608902F69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09CA-FA1E-4330-8D81-2DAEB8B19FA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2349-CE24-4D2E-BC46-4B586123FD8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501-2395-4696-BFC3-2C6AC7EE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3A0-3B1C-4159-9EDE-D6C64266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9E1-AA51-4989-AEA6-00E8AA38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29B-89BE-49FC-8E44-8FECD09D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FCC0-E6FD-4FD5-B002-AAAD3A60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3643-011B-4F20-8B95-7ADA84E2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66AA-E2FB-42F2-AADC-010681F4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F03E-38FE-4542-8308-76E4E9EC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EF26-4D74-4D6D-8992-E5619B9E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F57E-00B4-4AC9-B1CF-5B695DD2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AE69-9870-4CA0-B708-A8F69CF1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04E-A0AD-4B76-829E-C6D5B39E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EDAB-BF0B-45B2-9087-0D1F1893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520E-E48D-4480-80F4-8FD5320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71EA-858D-455D-8B39-926E20E0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E249-6970-4ABA-B806-A57631DE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5571-A15F-48B7-BB4E-155AA1DC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A09-8FB3-46E4-A12B-3033F164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F53-BE91-4509-B4B6-AAFE07F9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D19-8DDA-4C6C-B6EA-AED77073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A48-D8A9-449E-A3A1-BCC4F511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DB0-BE52-4F1B-B929-B9FF66A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B92-A4A8-468E-8FA9-926A7890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091-2E22-4AE5-97A8-D1855F1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CA0-AB5E-483A-A700-BD07FDBA31E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5F6A-76C4-4027-86E8-2D717BF07F02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img88.imageshack.us/img88/9154/spirogyra430mp7.png&amp;imgrefurl=http://botanic-ar.co.cc/%3Fp%3D151&amp;usg=__gS6XDQK9AgTBgDUcZrErRAUCfQo=&amp;h=333&amp;w=500&amp;sz=383&amp;hl=ar&amp;start=1&amp;itbs=1&amp;tbnid=aGUj6OrOkzMzcM:&amp;tbnh=87&amp;tbnw=130&amp;prev=/images%3Fq%3DSpirogyra%26hl%3Dar%26safe%3Dactive%26sa%3DG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sa/imgres?imgurl=http://botit.botany.wisc.edu/Interface/web-lessons/Diversity/Chlorophyta/images/Spirogyra.jpg&amp;imgrefurl=http://biologyhw.blogspot.com/2009_01_01_archive.html&amp;usg=__7UhI1LCh_bIJdZwamAY9RVaS9bg=&amp;h=257&amp;w=400&amp;sz=19&amp;hl=ar&amp;start=18&amp;itbs=1&amp;tbnid=639nx1TKGpfD5M:&amp;tbnh=80&amp;tbnw=124&amp;prev=/images%3Fq%3DSpirogyra%26hl%3Dar%26safe%3Dactive%26sa%3DG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b8ff"/>
                </a:solidFill>
                <a:latin typeface="Arial"/>
              </a:rPr>
              <a:t>280</a:t>
            </a:r>
            <a:r>
              <a:rPr b="1" lang="en-US" sz="32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b8b8ff"/>
                </a:solidFill>
                <a:latin typeface="Arial"/>
              </a:rPr>
              <a:t>mi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8b8ff"/>
                </a:solidFill>
                <a:latin typeface="Arial"/>
              </a:rPr>
              <a:t> (أحيائية الطحالب الدقيق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2b2bfe"/>
                </a:solidFill>
                <a:uFillTx/>
                <a:latin typeface="Arial"/>
              </a:rPr>
              <a:t>المعمل السابع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بسم الله الرحمن الرحيم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http://plants.ifas.ufl.edu/images/chaspe/chara2.jpg"/>
          <p:cNvPicPr/>
          <p:nvPr/>
        </p:nvPicPr>
        <p:blipFill>
          <a:blip r:embed="rId1"/>
          <a:srcRect l="0" t="21573" r="0" b="0"/>
          <a:stretch/>
        </p:blipFill>
        <p:spPr>
          <a:xfrm>
            <a:off x="1547640" y="189000"/>
            <a:ext cx="62946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http://uqu.edu.sa/files2/tiny_mce/plugins/imagemanager/files/4281680/2/3/4/5/76.jpg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556000" y="1700280"/>
            <a:ext cx="4464000" cy="4176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3"/>
          <p:cNvSpPr/>
          <p:nvPr/>
        </p:nvSpPr>
        <p:spPr>
          <a:xfrm>
            <a:off x="973440" y="40464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مستطيل 5"/>
          <p:cNvSpPr/>
          <p:nvPr/>
        </p:nvSpPr>
        <p:spPr>
          <a:xfrm>
            <a:off x="5867280" y="2205000"/>
            <a:ext cx="505080" cy="2872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مستطيل 6"/>
          <p:cNvSpPr/>
          <p:nvPr/>
        </p:nvSpPr>
        <p:spPr>
          <a:xfrm>
            <a:off x="6019920" y="2781360"/>
            <a:ext cx="712800" cy="2872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مستطيل 7"/>
          <p:cNvSpPr/>
          <p:nvPr/>
        </p:nvSpPr>
        <p:spPr>
          <a:xfrm>
            <a:off x="5940360" y="3500280"/>
            <a:ext cx="503280" cy="28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مستطيل 8"/>
          <p:cNvSpPr/>
          <p:nvPr/>
        </p:nvSpPr>
        <p:spPr>
          <a:xfrm>
            <a:off x="5940360" y="4365720"/>
            <a:ext cx="503280" cy="2872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مستطيل 9"/>
          <p:cNvSpPr/>
          <p:nvPr/>
        </p:nvSpPr>
        <p:spPr>
          <a:xfrm>
            <a:off x="4859280" y="5013360"/>
            <a:ext cx="936720" cy="2872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http://nathistoc.bio.uci.edu/Algae/Chara/Chara%203.jpg"/>
          <p:cNvPicPr/>
          <p:nvPr/>
        </p:nvPicPr>
        <p:blipFill>
          <a:blip r:embed="rId1"/>
          <a:stretch/>
        </p:blipFill>
        <p:spPr>
          <a:xfrm>
            <a:off x="4788000" y="81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3"/>
          <p:cNvSpPr/>
          <p:nvPr/>
        </p:nvSpPr>
        <p:spPr>
          <a:xfrm>
            <a:off x="973440" y="-2700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http://nathistoc.bio.uci.edu/Algae/Chara/Chara%201.jpg"/>
          <p:cNvPicPr/>
          <p:nvPr/>
        </p:nvPicPr>
        <p:blipFill>
          <a:blip r:embed="rId2"/>
          <a:srcRect l="0" t="0" r="0" b="26827"/>
          <a:stretch/>
        </p:blipFill>
        <p:spPr>
          <a:xfrm>
            <a:off x="826920" y="1125360"/>
            <a:ext cx="3600720" cy="3511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nathistoc.bio.uci.edu/Algae/Chara/Chara%204.jpg"/>
          <p:cNvPicPr/>
          <p:nvPr/>
        </p:nvPicPr>
        <p:blipFill>
          <a:blip r:embed="rId3"/>
          <a:stretch/>
        </p:blipFill>
        <p:spPr>
          <a:xfrm>
            <a:off x="179280" y="4076640"/>
            <a:ext cx="3600720" cy="2611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nathistoc.bio.uci.edu/Algae/Chara/Chara%205.jpg"/>
          <p:cNvPicPr/>
          <p:nvPr/>
        </p:nvPicPr>
        <p:blipFill>
          <a:blip r:embed="rId4"/>
          <a:srcRect l="0" t="0" r="5504" b="0"/>
          <a:stretch/>
        </p:blipFill>
        <p:spPr>
          <a:xfrm>
            <a:off x="4572000" y="3141720"/>
            <a:ext cx="4321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0" y="907920"/>
            <a:ext cx="52563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Xanthophyt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Xanthophy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Vauchariales or heterosiphon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Vaucheri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Picture"/>
          <p:cNvPicPr/>
          <p:nvPr/>
        </p:nvPicPr>
        <p:blipFill>
          <a:blip r:embed="rId1"/>
          <a:stretch/>
        </p:blipFill>
        <p:spPr>
          <a:xfrm>
            <a:off x="5148360" y="4941720"/>
            <a:ext cx="3816360" cy="1773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0"/>
          <p:cNvSpPr/>
          <p:nvPr/>
        </p:nvSpPr>
        <p:spPr>
          <a:xfrm>
            <a:off x="468360" y="549360"/>
            <a:ext cx="382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Vaucheri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2" descr="ANd9GcSrYMzO9su07TXgq4vf9P8GHM3Lhp5_oi_XHXALJMr-VABeHN4X"/>
          <p:cNvPicPr/>
          <p:nvPr/>
        </p:nvPicPr>
        <p:blipFill>
          <a:blip r:embed="rId2"/>
          <a:stretch/>
        </p:blipFill>
        <p:spPr>
          <a:xfrm>
            <a:off x="5148360" y="2997360"/>
            <a:ext cx="3816360" cy="180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ANd9GcTBS8fnJ5zCB8KUkbE7us5hnAht44g5IXPmdLprLJNzZvYdTd1O"/>
          <p:cNvPicPr/>
          <p:nvPr/>
        </p:nvPicPr>
        <p:blipFill>
          <a:blip r:embed="rId3"/>
          <a:stretch/>
        </p:blipFill>
        <p:spPr>
          <a:xfrm>
            <a:off x="611280" y="5129280"/>
            <a:ext cx="3673440" cy="16128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/>
          <p:cNvSpPr/>
          <p:nvPr/>
        </p:nvSpPr>
        <p:spPr>
          <a:xfrm>
            <a:off x="3343320" y="2610000"/>
            <a:ext cx="24573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9" descr="C0052464-Vaucheria_Yellow-Green_Algae_with_zygotes-SPL"/>
          <p:cNvPicPr/>
          <p:nvPr/>
        </p:nvPicPr>
        <p:blipFill>
          <a:blip r:embed="rId4"/>
          <a:stretch/>
        </p:blipFill>
        <p:spPr>
          <a:xfrm>
            <a:off x="5148360" y="549360"/>
            <a:ext cx="3817800" cy="2232000"/>
          </a:xfrm>
          <a:prstGeom prst="rect">
            <a:avLst/>
          </a:prstGeom>
          <a:ln w="0">
            <a:noFill/>
          </a:ln>
        </p:spPr>
      </p:pic>
      <p:sp>
        <p:nvSpPr>
          <p:cNvPr id="185" name="مستطيل 8"/>
          <p:cNvSpPr/>
          <p:nvPr/>
        </p:nvSpPr>
        <p:spPr>
          <a:xfrm>
            <a:off x="0" y="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http://upload.wikimedia.org/wikipedia/commons/thumb/2/2c/Vaucheria_sesselis.JPG/250px-Vaucheria_sesselis.JPG"/>
          <p:cNvPicPr/>
          <p:nvPr/>
        </p:nvPicPr>
        <p:blipFill>
          <a:blip r:embed="rId1"/>
          <a:stretch/>
        </p:blipFill>
        <p:spPr>
          <a:xfrm>
            <a:off x="2124000" y="1844640"/>
            <a:ext cx="5334120" cy="34354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0"/>
          <p:cNvSpPr/>
          <p:nvPr/>
        </p:nvSpPr>
        <p:spPr>
          <a:xfrm>
            <a:off x="468360" y="549360"/>
            <a:ext cx="382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Vaucheri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مستطيل 3"/>
          <p:cNvSpPr/>
          <p:nvPr/>
        </p:nvSpPr>
        <p:spPr>
          <a:xfrm>
            <a:off x="2556000" y="220500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85ff"/>
                </a:solidFill>
                <a:latin typeface="Monotype Corsiva"/>
                <a:ea typeface="DecoType Naskh Swashes"/>
              </a:rPr>
              <a:t>Thank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50356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Zygnematal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Zygnematacea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spirogyra430mp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60280"/>
            <a:ext cx="38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Spirogy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2565360"/>
            <a:ext cx="3887640" cy="18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irogyra"/>
          <p:cNvPicPr/>
          <p:nvPr/>
        </p:nvPicPr>
        <p:blipFill>
          <a:blip r:embed="rId5"/>
          <a:stretch/>
        </p:blipFill>
        <p:spPr>
          <a:xfrm>
            <a:off x="4788000" y="4724280"/>
            <a:ext cx="3887640" cy="18734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160560" y="83016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pirogy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مستطيل 6"/>
          <p:cNvSpPr/>
          <p:nvPr/>
        </p:nvSpPr>
        <p:spPr>
          <a:xfrm>
            <a:off x="0" y="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http://www.arthursclipart.org/biologyp/biology/algae%20spirogyra.gif"/>
          <p:cNvPicPr/>
          <p:nvPr/>
        </p:nvPicPr>
        <p:blipFill>
          <a:blip r:embed="rId1"/>
          <a:stretch/>
        </p:blipFill>
        <p:spPr>
          <a:xfrm>
            <a:off x="900000" y="115920"/>
            <a:ext cx="755964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http://elearn.shams.edu.eg/edu/elec-c/biodiversity/ch3-20.gif"/>
          <p:cNvPicPr/>
          <p:nvPr/>
        </p:nvPicPr>
        <p:blipFill>
          <a:blip r:embed="rId1"/>
          <a:stretch/>
        </p:blipFill>
        <p:spPr>
          <a:xfrm>
            <a:off x="1538280" y="1628640"/>
            <a:ext cx="6778800" cy="447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43440" y="40464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pirogy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http://uqu.edu.sa/files2/tiny_mce/plugins/imagemanager/files/4281680/2/3/4/5/74.jpg.jpg"/>
          <p:cNvPicPr/>
          <p:nvPr/>
        </p:nvPicPr>
        <p:blipFill>
          <a:blip r:embed="rId1"/>
          <a:stretch/>
        </p:blipFill>
        <p:spPr>
          <a:xfrm>
            <a:off x="2124000" y="2276640"/>
            <a:ext cx="536436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343440" y="40464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pirogy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مستطيل 5"/>
          <p:cNvSpPr/>
          <p:nvPr/>
        </p:nvSpPr>
        <p:spPr>
          <a:xfrm>
            <a:off x="6659640" y="5084640"/>
            <a:ext cx="792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مستطيل 6"/>
          <p:cNvSpPr/>
          <p:nvPr/>
        </p:nvSpPr>
        <p:spPr>
          <a:xfrm>
            <a:off x="5219640" y="4581360"/>
            <a:ext cx="79236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مستطيل 7"/>
          <p:cNvSpPr/>
          <p:nvPr/>
        </p:nvSpPr>
        <p:spPr>
          <a:xfrm>
            <a:off x="4211640" y="5013360"/>
            <a:ext cx="792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مستطيل 8"/>
          <p:cNvSpPr/>
          <p:nvPr/>
        </p:nvSpPr>
        <p:spPr>
          <a:xfrm>
            <a:off x="3132000" y="4581360"/>
            <a:ext cx="93528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مستطيل 9"/>
          <p:cNvSpPr/>
          <p:nvPr/>
        </p:nvSpPr>
        <p:spPr>
          <a:xfrm>
            <a:off x="2195640" y="4941720"/>
            <a:ext cx="12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4680000" cy="446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Zygnematal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Zygnematacea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zygnema"/>
          <p:cNvPicPr/>
          <p:nvPr/>
        </p:nvPicPr>
        <p:blipFill>
          <a:blip r:embed="rId1"/>
          <a:stretch/>
        </p:blipFill>
        <p:spPr>
          <a:xfrm>
            <a:off x="4716360" y="189000"/>
            <a:ext cx="4283280" cy="2160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395280" y="836640"/>
            <a:ext cx="377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Zygne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ANd9GcRkQJO6aYHnkVJ_i78vk618BTkPR6bnAkWUkVvRtz7ywGjC0v4DPg"/>
          <p:cNvPicPr/>
          <p:nvPr/>
        </p:nvPicPr>
        <p:blipFill>
          <a:blip r:embed="rId2"/>
          <a:stretch/>
        </p:blipFill>
        <p:spPr>
          <a:xfrm>
            <a:off x="4716360" y="2421000"/>
            <a:ext cx="4248360" cy="217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ANd9GcQOVNkpslbZj3udBhQAT_VuCiqFoY0jdUs9UIR7wVQGPrf9Q8Je5w"/>
          <p:cNvPicPr/>
          <p:nvPr/>
        </p:nvPicPr>
        <p:blipFill>
          <a:blip r:embed="rId3"/>
          <a:stretch/>
        </p:blipFill>
        <p:spPr>
          <a:xfrm>
            <a:off x="4716360" y="4653000"/>
            <a:ext cx="4248360" cy="2205000"/>
          </a:xfrm>
          <a:prstGeom prst="rect">
            <a:avLst/>
          </a:prstGeom>
          <a:ln w="0">
            <a:noFill/>
          </a:ln>
        </p:spPr>
      </p:pic>
      <p:sp>
        <p:nvSpPr>
          <p:cNvPr id="134" name="مستطيل 6"/>
          <p:cNvSpPr/>
          <p:nvPr/>
        </p:nvSpPr>
        <p:spPr>
          <a:xfrm>
            <a:off x="0" y="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2280" y="417600"/>
            <a:ext cx="4726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ladophor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Cladophor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Cladophor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9" descr="ANd9GcT8Zl5UHlcVglMBSXRzFYWbHGfO95AcQy3XuHPwj1hG23UyM9oy_g"/>
          <p:cNvPicPr/>
          <p:nvPr/>
        </p:nvPicPr>
        <p:blipFill>
          <a:blip r:embed="rId1"/>
          <a:stretch/>
        </p:blipFill>
        <p:spPr>
          <a:xfrm>
            <a:off x="2771640" y="4508640"/>
            <a:ext cx="1998720" cy="216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ANd9GcTSdCsPIqGn3OBUDGC0Em92FQkF7oZL7te0kgFQ1f9BdUJPr3MZIA"/>
          <p:cNvPicPr/>
          <p:nvPr/>
        </p:nvPicPr>
        <p:blipFill>
          <a:blip r:embed="rId2"/>
          <a:stretch/>
        </p:blipFill>
        <p:spPr>
          <a:xfrm>
            <a:off x="5219640" y="4869000"/>
            <a:ext cx="3672000" cy="187308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3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5" descr="ANd9GcR7c-YHZ9GW-vlclykgdnPB7JkjfMykpn23C59dmVo6NBf4ohXXQw"/>
          <p:cNvPicPr/>
          <p:nvPr/>
        </p:nvPicPr>
        <p:blipFill>
          <a:blip r:embed="rId3"/>
          <a:stretch/>
        </p:blipFill>
        <p:spPr>
          <a:xfrm>
            <a:off x="179280" y="4508640"/>
            <a:ext cx="249552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Cladophora%20100x%20MC%20"/>
          <p:cNvPicPr/>
          <p:nvPr/>
        </p:nvPicPr>
        <p:blipFill>
          <a:blip r:embed="rId4"/>
          <a:stretch/>
        </p:blipFill>
        <p:spPr>
          <a:xfrm>
            <a:off x="5219640" y="333360"/>
            <a:ext cx="3745080" cy="4390920"/>
          </a:xfrm>
          <a:prstGeom prst="rect">
            <a:avLst/>
          </a:prstGeom>
          <a:ln w="0">
            <a:noFill/>
          </a:ln>
        </p:spPr>
      </p:pic>
      <p:sp>
        <p:nvSpPr>
          <p:cNvPr id="143" name="مستطيل 9"/>
          <p:cNvSpPr/>
          <p:nvPr/>
        </p:nvSpPr>
        <p:spPr>
          <a:xfrm>
            <a:off x="-181080" y="4428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>
            <a:off x="8354880" y="-1371600"/>
            <a:ext cx="38102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http://starcentral.mbl.edu/msr/rawdata/viewable/cladophora_1342823312_a_543w.jpg"/>
          <p:cNvPicPr/>
          <p:nvPr/>
        </p:nvPicPr>
        <p:blipFill>
          <a:blip r:embed="rId1"/>
          <a:stretch/>
        </p:blipFill>
        <p:spPr>
          <a:xfrm>
            <a:off x="2457360" y="2054160"/>
            <a:ext cx="4533840" cy="67658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422280" y="417600"/>
            <a:ext cx="4726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ladopho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arophyta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arophyceae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Charal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Char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5" descr="chara"/>
          <p:cNvPicPr/>
          <p:nvPr/>
        </p:nvPicPr>
        <p:blipFill>
          <a:blip r:embed="rId1"/>
          <a:stretch/>
        </p:blipFill>
        <p:spPr>
          <a:xfrm>
            <a:off x="6948360" y="333360"/>
            <a:ext cx="2124360" cy="3527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3"/>
          <p:cNvSpPr/>
          <p:nvPr/>
        </p:nvSpPr>
        <p:spPr>
          <a:xfrm>
            <a:off x="973440" y="40464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5" descr="ANd9GcQKH2WZyeEdGAdqq5jEHaFtobGffnnZVj069lMp2-eH17qwMuLD"/>
          <p:cNvPicPr/>
          <p:nvPr/>
        </p:nvPicPr>
        <p:blipFill>
          <a:blip r:embed="rId2"/>
          <a:stretch/>
        </p:blipFill>
        <p:spPr>
          <a:xfrm>
            <a:off x="4500720" y="333360"/>
            <a:ext cx="2376360" cy="36003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7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1" descr="chara_fil_algae"/>
          <p:cNvPicPr/>
          <p:nvPr/>
        </p:nvPicPr>
        <p:blipFill>
          <a:blip r:embed="rId3"/>
          <a:stretch/>
        </p:blipFill>
        <p:spPr>
          <a:xfrm>
            <a:off x="324000" y="4292640"/>
            <a:ext cx="3095640" cy="234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ANd9GcS7C2h7B_GWv1trW0GelGVcO2k882aifBJOfRkHjh0tZqYreTAR6A"/>
          <p:cNvPicPr/>
          <p:nvPr/>
        </p:nvPicPr>
        <p:blipFill>
          <a:blip r:embed="rId4"/>
          <a:stretch/>
        </p:blipFill>
        <p:spPr>
          <a:xfrm>
            <a:off x="3708360" y="4221000"/>
            <a:ext cx="2438280" cy="2376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ANd9GcR3dcv6oln5i8Y3qgiNYSXNAYLs3ZGQOFLPtrisNrLpEk3prW8s"/>
          <p:cNvPicPr/>
          <p:nvPr/>
        </p:nvPicPr>
        <p:blipFill>
          <a:blip r:embed="rId5"/>
          <a:stretch/>
        </p:blipFill>
        <p:spPr>
          <a:xfrm>
            <a:off x="6300720" y="4221000"/>
            <a:ext cx="2374920" cy="2349720"/>
          </a:xfrm>
          <a:prstGeom prst="rect">
            <a:avLst/>
          </a:prstGeom>
          <a:ln w="0">
            <a:noFill/>
          </a:ln>
        </p:spPr>
      </p:pic>
      <p:sp>
        <p:nvSpPr>
          <p:cNvPr id="158" name="مستطيل 10"/>
          <p:cNvSpPr/>
          <p:nvPr/>
        </p:nvSpPr>
        <p:spPr>
          <a:xfrm>
            <a:off x="0" y="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user</cp:lastModifiedBy>
  <dcterms:modified xsi:type="dcterms:W3CDTF">2013-11-09T12:20:06Z</dcterms:modified>
  <cp:revision>37</cp:revision>
  <dc:subject/>
  <dc:title>الطحالب الخضراء  Green Algae</dc:title>
</cp:coreProperties>
</file>