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90F5-630F-4230-8DCB-33785AC5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363-08F6-4523-97DF-0A1C15F4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DDCE-56E5-4B8F-9C19-A8766BB3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C65-6F75-4A83-ABB0-44ABC815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1941-1611-4EDB-94FB-943B78BF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EA9B-1FE6-4EF5-B739-EA16841B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55D1-9E96-462E-AB2E-16D65430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EF97-5452-44C7-B7B0-56E25951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95C4-E15A-4AD3-A0F7-1C8783C6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C19D-2498-4F9E-AC8B-2731E4E2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D7FC-BA60-44FE-979A-B2680DEE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F421-567B-4065-9DEA-4CDD8182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37CC-470A-4726-86BB-E7AE48A0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F9C3-B503-4EBA-B8A9-00475FB5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EE67-2212-4405-AF87-07AFD4A9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F4C4-6D13-4F8F-98E4-13996B1C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7B37-2355-400F-BE2B-684100B5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CB0-BD4E-4B92-A3E2-ADCA9C8F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AE57-AE1C-48DD-86BE-F5889F9C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F083-A405-4BF2-8159-7B82C0FD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A9D6-3211-41D9-9593-858A9B81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125-C9A1-40F2-8380-48AFC773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65F0-4177-46A3-97BB-B93E02FC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AF54-6F70-40E8-B66B-7039E8A9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93BA-678B-4BA3-B207-CFFE1D027D6D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BAB7-5EDE-42C8-9A46-42FABBC19E57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4510800" y="291960"/>
            <a:ext cx="46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eec85e"/>
                </a:solidFill>
                <a:uFillTx/>
                <a:latin typeface="Verdana"/>
              </a:rPr>
              <a:t>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Verdana"/>
              </a:rPr>
              <a:t>ثانيا :ـ  جدار الخليه النباتيه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632720" cy="4129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-1622160" y="5529240"/>
            <a:ext cx="117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يتكون من مواد غير حيه تفرز من قبل الدكتوسومات ليحيط ببروتوبلاست الخليه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له اهميه في حماية الخليه عند تشربها للماء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2040" y="76320"/>
            <a:ext cx="1032444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Verdana"/>
              </a:rPr>
              <a:t>الكيوتين :ـ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ماده دهنيه  لاتذوب بسهوله في مذيبات الدهون مكون من حموض دهنيه عالية البلمره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ff00"/>
                </a:solidFill>
                <a:uFillTx/>
                <a:latin typeface="Verdana"/>
              </a:rPr>
              <a:t>الكشف عنه:ـ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- حضري قطاعات من اوراق الدفله وضعيها على شريحه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- اضيفي بضع قطرات من هيدروكسيد  البوتاسيم 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ظهور اللون الاصفر يدل على ترسيب الكيوتين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في الخطوه الاخيره من الانقسام الخلوي تتكون الصفيحه الخلويه التي تتحول الى جدار بكتيني يسمى - الصفيحه الوسطى  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middlelamella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 وهي الطبقه التي تربط بين الخلايا وتتكون من مواد بكتينيه  وقد يدخل في تركيبها اللجنين </a:t>
            </a:r>
            <a:r>
              <a:rPr b="0" lang="ar-SA" sz="2400" spc="-1" strike="noStrike">
                <a:solidFill>
                  <a:srgbClr val="00ff00"/>
                </a:solidFill>
                <a:latin typeface="Verdana"/>
              </a:rPr>
              <a:t>خصوصا في الانسجه الخشبيه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8224920" y="1787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3213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ff00"/>
                </a:solidFill>
                <a:latin typeface="Verdana"/>
              </a:rPr>
              <a:t>1</a:t>
            </a:r>
            <a:r>
              <a:rPr b="0" lang="ar-SA" sz="2400" spc="-1" strike="noStrike">
                <a:solidFill>
                  <a:srgbClr val="00ff00"/>
                </a:solidFill>
                <a:latin typeface="Verdana"/>
              </a:rPr>
              <a:t>- الجدار الابتدائي..</a:t>
            </a:r>
            <a:r>
              <a:rPr b="0" lang="ar-SA" sz="2400" spc="-1" strike="noStrike">
                <a:solidFill>
                  <a:srgbClr val="eaeaea"/>
                </a:solidFill>
                <a:latin typeface="Verdana"/>
              </a:rPr>
              <a:t>وهو الجدار الاساسي في حياة الخليه المرستيميه ويتكون من</a:t>
            </a:r>
            <a:r>
              <a:rPr b="0" lang="ar-SA" sz="2400" spc="-1" strike="noStrike">
                <a:solidFill>
                  <a:srgbClr val="00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cc"/>
                </a:solidFill>
                <a:latin typeface="Verdana"/>
              </a:rPr>
              <a:t>السليلوز واشباه السليلوز</a:t>
            </a:r>
            <a:r>
              <a:rPr b="0" lang="ar-SA" sz="2400" spc="-1" strike="noStrike">
                <a:solidFill>
                  <a:srgbClr val="00ff00"/>
                </a:solidFill>
                <a:latin typeface="Verdana"/>
              </a:rPr>
              <a:t>. </a:t>
            </a: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وقد يدخل اللجنين او السوبرين او الكيوتين في</a:t>
            </a:r>
            <a:r>
              <a:rPr b="0" lang="ar-SA" sz="24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Verdana"/>
              </a:rPr>
              <a:t>تركيبه  وقد يكون رقيق او سميك </a:t>
            </a:r>
            <a:r>
              <a:rPr b="0" lang="ar-SA" sz="2400" spc="-1" strike="noStrike">
                <a:solidFill>
                  <a:srgbClr val="00ff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5003640" y="4643280"/>
            <a:ext cx="3384720" cy="2214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2"/>
          <a:stretch/>
        </p:blipFill>
        <p:spPr>
          <a:xfrm>
            <a:off x="250920" y="4584600"/>
            <a:ext cx="3889440" cy="227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3"/>
          <a:stretch/>
        </p:blipFill>
        <p:spPr>
          <a:xfrm>
            <a:off x="3492360" y="1628640"/>
            <a:ext cx="2880000" cy="155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60200" y="344520"/>
            <a:ext cx="10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قد يكون الجدار الابتدائي رقيق مثل الخلايا المرستيميه او البرنشيميه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6" descr="جدار اولي"/>
          <p:cNvPicPr/>
          <p:nvPr/>
        </p:nvPicPr>
        <p:blipFill>
          <a:blip r:embed="rId1"/>
          <a:stretch/>
        </p:blipFill>
        <p:spPr>
          <a:xfrm>
            <a:off x="179280" y="3141720"/>
            <a:ext cx="5004000" cy="230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125360" y="5950080"/>
            <a:ext cx="91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Verdana"/>
              </a:rPr>
              <a:t>او قد يكون سميك كما في خلايا اندسبيرم بذرة النخيل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8" descr="نسيج برنشيمي متساوي الاقطار يوضح الجدر الابتدائيه"/>
          <p:cNvPicPr/>
          <p:nvPr/>
        </p:nvPicPr>
        <p:blipFill>
          <a:blip r:embed="rId2"/>
          <a:stretch/>
        </p:blipFill>
        <p:spPr>
          <a:xfrm>
            <a:off x="5292720" y="981000"/>
            <a:ext cx="3673440" cy="275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-1853280" y="243000"/>
            <a:ext cx="1262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Verdana"/>
              </a:rPr>
              <a:t>الجدار الثانوي:ـ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بعد نضج الخليه وتوقفها عن النمو تترسب مادة الجدار الثانوي فوق الجدار الابتدائي 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باتجاه فراغ الخليه وهو لايغطي تماما الجدار الابتدائي  بل يترك مسافات تسمى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Verdana"/>
              </a:rPr>
              <a:t>بالنقر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ff00"/>
                </a:solidFill>
                <a:latin typeface="Verdana"/>
              </a:rPr>
              <a:t>ويتكون من  السليلوز واشباه السليلوز واللجنين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5" descr="root1600"/>
          <p:cNvPicPr/>
          <p:nvPr/>
        </p:nvPicPr>
        <p:blipFill>
          <a:blip r:embed="rId1"/>
          <a:stretch/>
        </p:blipFill>
        <p:spPr>
          <a:xfrm>
            <a:off x="4859280" y="2781360"/>
            <a:ext cx="4033800" cy="2879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plasmo2"/>
          <p:cNvPicPr/>
          <p:nvPr/>
        </p:nvPicPr>
        <p:blipFill>
          <a:blip r:embed="rId2"/>
          <a:stretch/>
        </p:blipFill>
        <p:spPr>
          <a:xfrm>
            <a:off x="395280" y="27082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fibers"/>
          <p:cNvPicPr/>
          <p:nvPr/>
        </p:nvPicPr>
        <p:blipFill>
          <a:blip r:embed="rId1"/>
          <a:stretch/>
        </p:blipFill>
        <p:spPr>
          <a:xfrm>
            <a:off x="4788000" y="3584520"/>
            <a:ext cx="4356000" cy="3273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7173000" y="18900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Verdana"/>
              </a:rPr>
              <a:t>النقره :ـ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468360" y="3586320"/>
            <a:ext cx="4248000" cy="32716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0" y="83664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هي تجاويف في الجدار الابتدائي والثانوي للخليه النباتيه   تسمى </a:t>
            </a: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بالحقول النقريه الابتدائيه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 في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 حالة وجود الجدار الابتدائي  فقط ويتخللها عدد كبير من الروابط السيتوبلازميه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 وتسمى </a:t>
            </a: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نقره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 اذا كان هناك جدار ثانوي حيث تفتح في فراغ الخليه  بفتحة النقره ويحد النهايه الاخرى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 غشاء النقره ( الصفيحه الوسطى )  وطبقة رقيقه من الجدار الابتدائي  وتكون عادة في ازواج متقابله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0" y="149400"/>
            <a:ext cx="862488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Verdana"/>
              </a:rPr>
              <a:t>انواع النقر:ـ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Verdana"/>
              </a:rPr>
              <a:t>نقر بسيطه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  كما في الخلايا الحجريه  والياف الخشب  والياف خارج  الخشب ، بحيث يكون تجويف النقره مساويا لفتحتها  وقد تكون متفرعه او غير متفرعه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تتكون من 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تجويف النقره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فتحتة النقره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غشاء النقره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قد تكون زوج من النقر البسيطه  اذا تقابلت نقرتان بسيطتان 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او نقره عمياء اذا تقابلت النقره البسيطه لفراغ بين خلوي 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7" descr="Sclereids 1"/>
          <p:cNvPicPr/>
          <p:nvPr/>
        </p:nvPicPr>
        <p:blipFill>
          <a:blip r:embed="rId1"/>
          <a:stretch/>
        </p:blipFill>
        <p:spPr>
          <a:xfrm>
            <a:off x="324000" y="3860640"/>
            <a:ext cx="3963960" cy="2500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Simple sclereids 3"/>
          <p:cNvPicPr/>
          <p:nvPr/>
        </p:nvPicPr>
        <p:blipFill>
          <a:blip r:embed="rId2"/>
          <a:stretch/>
        </p:blipFill>
        <p:spPr>
          <a:xfrm>
            <a:off x="5724360" y="3784680"/>
            <a:ext cx="3122640" cy="2452680"/>
          </a:xfrm>
          <a:prstGeom prst="rect">
            <a:avLst/>
          </a:prstGeom>
          <a:ln w="0">
            <a:noFill/>
          </a:ln>
        </p:spPr>
      </p:pic>
      <p:sp>
        <p:nvSpPr>
          <p:cNvPr id="137" name="مستطيل 10"/>
          <p:cNvSpPr/>
          <p:nvPr/>
        </p:nvSpPr>
        <p:spPr>
          <a:xfrm>
            <a:off x="3906360" y="609300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الخلايا الحجريه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6" descr="plasmo2"/>
          <p:cNvPicPr/>
          <p:nvPr/>
        </p:nvPicPr>
        <p:blipFill>
          <a:blip r:embed="rId3"/>
          <a:stretch/>
        </p:blipFill>
        <p:spPr>
          <a:xfrm>
            <a:off x="395280" y="1628640"/>
            <a:ext cx="2736720" cy="2052720"/>
          </a:xfrm>
          <a:prstGeom prst="rect">
            <a:avLst/>
          </a:prstGeom>
          <a:ln w="0">
            <a:noFill/>
          </a:ln>
        </p:spPr>
      </p:pic>
      <p:cxnSp>
        <p:nvCxnSpPr>
          <p:cNvPr id="139" name="رابط كسهم مستقيم 13"/>
          <p:cNvCxnSpPr/>
          <p:nvPr/>
        </p:nvCxnSpPr>
        <p:spPr>
          <a:xfrm flipV="1">
            <a:off x="2050560" y="4292280"/>
            <a:ext cx="2737800" cy="721440"/>
          </a:xfrm>
          <a:prstGeom prst="straightConnector1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</p:cxnSp>
      <p:sp>
        <p:nvSpPr>
          <p:cNvPr id="140" name="مربع نص 14"/>
          <p:cNvSpPr/>
          <p:nvPr/>
        </p:nvSpPr>
        <p:spPr>
          <a:xfrm>
            <a:off x="4574160" y="400536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نقره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النقر المضفوفه منظر جانبي"/>
          <p:cNvPicPr/>
          <p:nvPr/>
        </p:nvPicPr>
        <p:blipFill>
          <a:blip r:embed="rId1"/>
          <a:stretch/>
        </p:blipFill>
        <p:spPr>
          <a:xfrm>
            <a:off x="6156360" y="2997360"/>
            <a:ext cx="2987640" cy="3382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Pinus03"/>
          <p:cNvPicPr/>
          <p:nvPr/>
        </p:nvPicPr>
        <p:blipFill>
          <a:blip r:embed="rId2"/>
          <a:stretch/>
        </p:blipFill>
        <p:spPr>
          <a:xfrm>
            <a:off x="0" y="2924280"/>
            <a:ext cx="4292640" cy="3502080"/>
          </a:xfrm>
          <a:prstGeom prst="rect">
            <a:avLst/>
          </a:prstGeom>
          <a:ln w="9360">
            <a:solidFill>
              <a:srgbClr val="3b3b3b"/>
            </a:solidFill>
            <a:miter/>
          </a:ln>
        </p:spPr>
      </p:pic>
      <p:sp>
        <p:nvSpPr>
          <p:cNvPr id="143" name="Text Box 6"/>
          <p:cNvSpPr/>
          <p:nvPr/>
        </p:nvSpPr>
        <p:spPr>
          <a:xfrm>
            <a:off x="5586840" y="640080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نقر مضفوفه  منظر جانبي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-404280" y="6396120"/>
            <a:ext cx="556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نقر مضفوفه منظر جانبي +   سطحي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مستطيل 5"/>
          <p:cNvSpPr/>
          <p:nvPr/>
        </p:nvSpPr>
        <p:spPr>
          <a:xfrm>
            <a:off x="0" y="189000"/>
            <a:ext cx="88884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ff00"/>
                </a:solidFill>
                <a:latin typeface="Verdana"/>
              </a:rPr>
              <a:t>نقر مضفوفه 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كما في القصيبات وعاريات البذور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وفيها يتقوس الجدار الثانوي على تجويف النقره مكونا ما يسمى بالضفه ، وقد يوجد في بعض النقركما في قصيبات عاريات البذور  انتفاخ يسمى التخت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tou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واذا كان الجدار سميك جدا فيتكون ما يسمى بقناة النقره  بحيث تفتح بتجويف النقره ومن الجهه الاخرى تفتح  الى فراغ الخليه 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اذا تقابلت نقرتان مضفوفتان سمي الوضع زوج من النقر المضفوفه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واذا تقابلت نقره مضفوفه مع اخرى بسيطه سمي الوضع بالنقره نصف مضفوفه 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مثل تقابل نقرتان في نسيج برنشمي  وبين قصيبات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46" name="رابط كسهم مستقيم 7"/>
          <p:cNvCxnSpPr/>
          <p:nvPr/>
        </p:nvCxnSpPr>
        <p:spPr>
          <a:xfrm flipV="1">
            <a:off x="3276720" y="3212280"/>
            <a:ext cx="1367280" cy="577080"/>
          </a:xfrm>
          <a:prstGeom prst="straightConnector1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</p:cxnSp>
      <p:sp>
        <p:nvSpPr>
          <p:cNvPr id="147" name="مربع نص 8"/>
          <p:cNvSpPr/>
          <p:nvPr/>
        </p:nvSpPr>
        <p:spPr>
          <a:xfrm>
            <a:off x="4558680" y="29973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ضفه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48" name="رابط كسهم مستقيم 10"/>
          <p:cNvCxnSpPr/>
          <p:nvPr/>
        </p:nvCxnSpPr>
        <p:spPr>
          <a:xfrm>
            <a:off x="3131640" y="4005360"/>
            <a:ext cx="1585080" cy="1008720"/>
          </a:xfrm>
          <a:prstGeom prst="straightConnector1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</p:cxnSp>
      <p:sp>
        <p:nvSpPr>
          <p:cNvPr id="149" name="مربع نص 12"/>
          <p:cNvSpPr/>
          <p:nvPr/>
        </p:nvSpPr>
        <p:spPr>
          <a:xfrm>
            <a:off x="4285080" y="508464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تجويف النقره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cxnSp>
        <p:nvCxnSpPr>
          <p:cNvPr id="150" name="رابط كسهم مستقيم 14"/>
          <p:cNvCxnSpPr/>
          <p:nvPr/>
        </p:nvCxnSpPr>
        <p:spPr>
          <a:xfrm>
            <a:off x="4067280" y="5444640"/>
            <a:ext cx="1010160" cy="505800"/>
          </a:xfrm>
          <a:prstGeom prst="straightConnector1">
            <a:avLst/>
          </a:prstGeom>
          <a:ln w="9360">
            <a:solidFill>
              <a:srgbClr val="ffffcc"/>
            </a:solidFill>
            <a:miter/>
            <a:tailEnd len="med" type="arrow" w="med"/>
          </a:ln>
        </p:spPr>
      </p:cxnSp>
      <p:sp>
        <p:nvSpPr>
          <p:cNvPr id="151" name="مربع نص 15"/>
          <p:cNvSpPr/>
          <p:nvPr/>
        </p:nvSpPr>
        <p:spPr>
          <a:xfrm>
            <a:off x="4408560" y="59500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aeaea"/>
                </a:solidFill>
                <a:latin typeface="Verdana"/>
              </a:rPr>
              <a:t>فتحة النقره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0" y="3789360"/>
            <a:ext cx="4321080" cy="2905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Pinus07"/>
          <p:cNvPicPr/>
          <p:nvPr/>
        </p:nvPicPr>
        <p:blipFill>
          <a:blip r:embed="rId2"/>
          <a:stretch/>
        </p:blipFill>
        <p:spPr>
          <a:xfrm>
            <a:off x="1908000" y="115920"/>
            <a:ext cx="5077080" cy="3349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النقر المضفوفه منظر سطحي"/>
          <p:cNvPicPr/>
          <p:nvPr/>
        </p:nvPicPr>
        <p:blipFill>
          <a:blip r:embed="rId3"/>
          <a:stretch/>
        </p:blipFill>
        <p:spPr>
          <a:xfrm>
            <a:off x="5508720" y="3618000"/>
            <a:ext cx="3500280" cy="3240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324000" y="1268280"/>
            <a:ext cx="12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Verdana"/>
              </a:rPr>
              <a:t>منظر جانبي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4086000" y="479736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Verdana"/>
              </a:rPr>
              <a:t>منظر سطحي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4366440" y="344520"/>
            <a:ext cx="513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Verdana"/>
              </a:rPr>
              <a:t>التركيب الكيميائي للجدار الخلوي:ـ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-1973160" y="865080"/>
            <a:ext cx="127522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- السليلوز: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 هي ماده اساسيه في تكوين الجدار الابتدائي  وهو عباره عن وحدات من الجلوكوز اللامائي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SA" sz="2800" spc="-1" strike="noStrike" u="sng">
                <a:solidFill>
                  <a:srgbClr val="00ff00"/>
                </a:solidFill>
                <a:uFillTx/>
                <a:latin typeface="Verdana"/>
              </a:rPr>
              <a:t>يكشف عنه :ـ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- خذي جزء من الياف  القطن وضعيها على شريحه زجاجيه مع قطره ماء وتفحص مجهريا 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- خذي مره اخرى الياف القطن واضيفي لها قطرة يود ....... يتلون الجدار باللون الاصفر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- يضاف قطره من محلول الكبريتيك 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75</a:t>
            </a:r>
            <a:r>
              <a:rPr b="1" lang="ar-SA" sz="2000" spc="-1" strike="noStrike">
                <a:solidFill>
                  <a:srgbClr val="eaeaea"/>
                </a:solidFill>
                <a:latin typeface="Verdana"/>
              </a:rPr>
              <a:t>% وعدة قطرات من الماء  ........ سيتلون الجدار باللون الازرق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-711360" y="3152880"/>
            <a:ext cx="11405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Verdana"/>
              </a:rPr>
              <a:t>اللجنين: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 وهو ماده صلبه تتكون من بروبانويد فينيل  ويعد ناتج نهائي للايض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ff00"/>
                </a:solidFill>
                <a:uFillTx/>
                <a:latin typeface="Verdana"/>
              </a:rPr>
              <a:t>يكشف عنه :ـ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تغمس ساق نبات خشبي مجهز مسبقا في  محلول فلوروجليسينول 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1" lang="ar-SA" sz="2400" spc="-1" strike="noStrike">
                <a:solidFill>
                  <a:srgbClr val="eaeaea"/>
                </a:solidFill>
                <a:latin typeface="Verdana"/>
              </a:rPr>
              <a:t>-  يضاف الى القطاع محلول الهيدروكلوريك  .. سيتلون الخشب باللون الاحمر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6:08:29Z</dcterms:created>
  <dc:creator>HELP</dc:creator>
  <dc:description/>
  <dc:language>en-US</dc:language>
  <cp:lastModifiedBy>a</cp:lastModifiedBy>
  <dcterms:modified xsi:type="dcterms:W3CDTF">2016-10-08T11:21:03Z</dcterms:modified>
  <cp:revision>36</cp:revision>
  <dc:subject/>
  <dc:title>الشريحة 1</dc:title>
</cp:coreProperties>
</file>