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2AA-3973-46F8-894E-8680A1F5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A0C-F5FE-4DDB-9558-07FC3283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CFE-89F9-4D75-9B81-89B3119B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5AB-887C-4791-999D-1DD6144E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04A7-972D-4A7F-A398-ADFE81B9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F785-CD8D-476F-9BF1-C6C3CC0C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DEA5-0CB7-495F-813E-ECB631CD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32B0-161B-4BAB-B2A8-1A291D2A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9AE-5291-4775-B781-75223BB8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B397-4926-4D64-8835-D05C405D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F94F-DC0E-45B8-B05E-5EB92005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0FC-63C4-48D8-88D2-ED6EC72B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F200-8E7B-470A-A83F-5C3F1539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F960-ADD4-4FF5-992C-CE7CBDCC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6A0B-9B7A-46E0-8DFD-AC4AABC1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6DEC-A112-4607-B70F-6A19F7F9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5196-64BF-448B-84CA-F8E91EA6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1C6-9B31-424E-865A-8D7B9D6E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F02-EA4D-48EE-BFF3-B3FB514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F22-872D-4886-9071-F7783AB8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2DC-6756-49C8-8543-B4E91103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3A4-6575-478F-8527-819D0C8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568-A0B8-4D45-ADE2-EBBEF77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2ED-937E-415E-B177-D1F0528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9BEB-9E38-408E-AA7F-D4DB6AE7E4C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5AB2-F00C-4BE7-94D5-95ACBEE23689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510800" y="29196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eec85e"/>
                </a:solidFill>
                <a:uFillTx/>
                <a:latin typeface="Verdana"/>
              </a:rPr>
              <a:t>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ثانيا :ـ  جدار الخليه النباتي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632720" cy="4129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-1622160" y="5529240"/>
            <a:ext cx="117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يتكون من مواد غير حيه تفرز من قبل الدكتوسومات ليحيط ببروتوبلاست الخليه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له اهميه في حماية الخليه عند تشربها للماء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2040" y="76320"/>
            <a:ext cx="103244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الكيوتين 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اده دهنيه  لاتذوب بسهوله في مذيبات الدهون مكون من حموض دهنيه عالية البلمر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Verdana"/>
              </a:rPr>
              <a:t>الكشف عنه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حضري قطاعات من اوراق الدفله وضعيها على شريحه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اضيفي بضع قطرات من هيدروكسيد  البوتاسيم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ظهور اللون الاصفر يدل على ترسيب الكيوتين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في الخطوه الاخيره من الانقسام الخلوي تتكون الصفيحه الخلويه التي تتحول الى جدار بكتيني يسمى - الصفيحه الوسطى 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middlelamella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وهي الطبقه التي تربط بين الخلايا وتتكون من مواد بكتينيه  وقد يدخل في تركيبها اللجنين 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خصوصا في الانسجه الخشبيه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224920" y="178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21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- الجدار الابتدائي..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وهو الجدار الاساسي في حياة الخليه المرستيميه ويتكون من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cc"/>
                </a:solidFill>
                <a:latin typeface="Verdana"/>
              </a:rPr>
              <a:t>السليلوز واشباه السليلوز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. 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وقد يدخل اللجنين او السوبرين او الكيوتين في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تركيبه  وقد يكون رقيق او سميك 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003640" y="4643280"/>
            <a:ext cx="3384720" cy="221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250920" y="4584600"/>
            <a:ext cx="3889440" cy="227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3492360" y="1628640"/>
            <a:ext cx="2880000" cy="155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60200" y="344520"/>
            <a:ext cx="10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قد يكون الجدار الابتدائي رقيق مثل الخلايا المرستيميه او البرنشيميه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6" descr="جدار اولي"/>
          <p:cNvPicPr/>
          <p:nvPr/>
        </p:nvPicPr>
        <p:blipFill>
          <a:blip r:embed="rId1"/>
          <a:stretch/>
        </p:blipFill>
        <p:spPr>
          <a:xfrm>
            <a:off x="179280" y="3141720"/>
            <a:ext cx="5004000" cy="230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125360" y="5950080"/>
            <a:ext cx="91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Verdana"/>
              </a:rPr>
              <a:t>او قد يكون سميك كما في خلايا اندسبيرم بذرة النخيل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8" descr="نسيج برنشيمي متساوي الاقطار يوضح الجدر الابتدائيه"/>
          <p:cNvPicPr/>
          <p:nvPr/>
        </p:nvPicPr>
        <p:blipFill>
          <a:blip r:embed="rId2"/>
          <a:stretch/>
        </p:blipFill>
        <p:spPr>
          <a:xfrm>
            <a:off x="5292720" y="98100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853280" y="243000"/>
            <a:ext cx="1262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Verdana"/>
              </a:rPr>
              <a:t>الجدار الثانوي:ـ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بعد نضج الخليه وتوقفها عن النمو تترسب مادة الجدار الثانوي فوق الجدار الابتدائي 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باتجاه فراغ الخليه وهو لايغطي تماما الجدار الابتدائي  بل يترك مسافات تسمى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بالنقر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Verdana"/>
              </a:rPr>
              <a:t>ويتكون من  السليلوز واشباه السليلوز واللجني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root1600"/>
          <p:cNvPicPr/>
          <p:nvPr/>
        </p:nvPicPr>
        <p:blipFill>
          <a:blip r:embed="rId1"/>
          <a:stretch/>
        </p:blipFill>
        <p:spPr>
          <a:xfrm>
            <a:off x="4859280" y="2781360"/>
            <a:ext cx="4033800" cy="287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plasmo2"/>
          <p:cNvPicPr/>
          <p:nvPr/>
        </p:nvPicPr>
        <p:blipFill>
          <a:blip r:embed="rId2"/>
          <a:stretch/>
        </p:blipFill>
        <p:spPr>
          <a:xfrm>
            <a:off x="395280" y="2708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fibers"/>
          <p:cNvPicPr/>
          <p:nvPr/>
        </p:nvPicPr>
        <p:blipFill>
          <a:blip r:embed="rId1"/>
          <a:stretch/>
        </p:blipFill>
        <p:spPr>
          <a:xfrm>
            <a:off x="4788000" y="3584520"/>
            <a:ext cx="4356000" cy="3273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7173000" y="189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Verdana"/>
              </a:rPr>
              <a:t>النقره :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468360" y="3586320"/>
            <a:ext cx="4248000" cy="3271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0" y="8366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هي تجاويف في الجدار الابتدائي والثانوي للخليه النباتيه   تسمى </a:t>
            </a: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بالحقول النقريه الابتدائيه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ف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حالة وجود الجدار الابتدائي  فقط ويتخللها عدد كبير من الروابط السيتوبلازميه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وتسمى </a:t>
            </a: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نقره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اذا كان هناك جدار ثانوي حيث تفتح في فراغ الخليه  بفتحة النقره ويحد النهايه الاخرى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غشاء النقره ( الصفيحه الوسطى )  وطبقة رقيقه من الجدار الابتدائي  وتكون عادة في ازواج متقابله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0" y="149400"/>
            <a:ext cx="86248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انواع النقر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نقر بسيطه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  كما في الخلايا الحجريه  والياف الخشب  والياف خارج  الخشب ، بحيث يكون تجويف النقره مساويا لفتحتها  وقد تكون متفرعه او غير متفرع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تتكون من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جويف النقر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فتحتة النقر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غشاء النقر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قد تكون زوج من النقر البسيطه  اذا تقابلت نقرتان بسيطتان 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او نقره عمياء اذا تقابلت النقره البسيطه لفراغ بين خلوي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7" descr="Sclereids 1"/>
          <p:cNvPicPr/>
          <p:nvPr/>
        </p:nvPicPr>
        <p:blipFill>
          <a:blip r:embed="rId1"/>
          <a:stretch/>
        </p:blipFill>
        <p:spPr>
          <a:xfrm>
            <a:off x="324000" y="3860640"/>
            <a:ext cx="3963960" cy="2500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Simple sclereids 3"/>
          <p:cNvPicPr/>
          <p:nvPr/>
        </p:nvPicPr>
        <p:blipFill>
          <a:blip r:embed="rId2"/>
          <a:stretch/>
        </p:blipFill>
        <p:spPr>
          <a:xfrm>
            <a:off x="5724360" y="3784680"/>
            <a:ext cx="3122640" cy="2452680"/>
          </a:xfrm>
          <a:prstGeom prst="rect">
            <a:avLst/>
          </a:prstGeom>
          <a:ln w="0">
            <a:noFill/>
          </a:ln>
        </p:spPr>
      </p:pic>
      <p:sp>
        <p:nvSpPr>
          <p:cNvPr id="137" name="مستطيل 10"/>
          <p:cNvSpPr/>
          <p:nvPr/>
        </p:nvSpPr>
        <p:spPr>
          <a:xfrm>
            <a:off x="3906360" y="60930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خلايا الحجريه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6" descr="plasmo2"/>
          <p:cNvPicPr/>
          <p:nvPr/>
        </p:nvPicPr>
        <p:blipFill>
          <a:blip r:embed="rId3"/>
          <a:stretch/>
        </p:blipFill>
        <p:spPr>
          <a:xfrm>
            <a:off x="395280" y="1628640"/>
            <a:ext cx="2736720" cy="2052720"/>
          </a:xfrm>
          <a:prstGeom prst="rect">
            <a:avLst/>
          </a:prstGeom>
          <a:ln w="0">
            <a:noFill/>
          </a:ln>
        </p:spPr>
      </p:pic>
      <p:cxnSp>
        <p:nvCxnSpPr>
          <p:cNvPr id="139" name="رابط كسهم مستقيم 13"/>
          <p:cNvCxnSpPr/>
          <p:nvPr/>
        </p:nvCxnSpPr>
        <p:spPr>
          <a:xfrm flipV="1">
            <a:off x="2050560" y="4292280"/>
            <a:ext cx="2737800" cy="721440"/>
          </a:xfrm>
          <a:prstGeom prst="straightConnector1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40" name="مربع نص 14"/>
          <p:cNvSpPr/>
          <p:nvPr/>
        </p:nvSpPr>
        <p:spPr>
          <a:xfrm>
            <a:off x="4574160" y="400536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نقره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النقر المضفوفه منظر جانبي"/>
          <p:cNvPicPr/>
          <p:nvPr/>
        </p:nvPicPr>
        <p:blipFill>
          <a:blip r:embed="rId1"/>
          <a:stretch/>
        </p:blipFill>
        <p:spPr>
          <a:xfrm>
            <a:off x="6156360" y="2997360"/>
            <a:ext cx="2987640" cy="3382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inus03"/>
          <p:cNvPicPr/>
          <p:nvPr/>
        </p:nvPicPr>
        <p:blipFill>
          <a:blip r:embed="rId2"/>
          <a:stretch/>
        </p:blipFill>
        <p:spPr>
          <a:xfrm>
            <a:off x="0" y="2924280"/>
            <a:ext cx="4292640" cy="3502080"/>
          </a:xfrm>
          <a:prstGeom prst="rect">
            <a:avLst/>
          </a:prstGeom>
          <a:ln w="9360">
            <a:solidFill>
              <a:srgbClr val="3b3b3b"/>
            </a:solidFill>
            <a:miter/>
          </a:ln>
        </p:spPr>
      </p:pic>
      <p:sp>
        <p:nvSpPr>
          <p:cNvPr id="143" name="Text Box 6"/>
          <p:cNvSpPr/>
          <p:nvPr/>
        </p:nvSpPr>
        <p:spPr>
          <a:xfrm>
            <a:off x="5586840" y="640080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نقر مضفوفه  منظر جانب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-404280" y="639612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نقر مضفوفه منظر جانبي +   سطح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مستطيل 5"/>
          <p:cNvSpPr/>
          <p:nvPr/>
        </p:nvSpPr>
        <p:spPr>
          <a:xfrm>
            <a:off x="0" y="189000"/>
            <a:ext cx="88884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نقر مضفوفه 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كما في القصيبات وعاريات البذور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وفيها يتقوس الجدار الثانوي على تجويف النقره مكونا ما يسمى بالضفه ، وقد يوجد في بعض النقركما في قصيبات عاريات البذور  انتفاخ يسمى التخت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ou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واذا كان الجدار سميك جدا فيتكون ما يسمى بقناة النقره  بحيث تفتح بتجويف النقره ومن الجهه الاخرى تفتح  الى فراغ الخليه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اذا تقابلت نقرتان مضفوفتان سمي الوضع زوج من النقر المضفوف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واذا تقابلت نقره مضفوفه مع اخرى بسيطه سمي الوضع بالنقره نصف مضفوفه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ثل تقابل نقرتان في نسيج برنشمي  وبين قصيبات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46" name="رابط كسهم مستقيم 7"/>
          <p:cNvCxnSpPr/>
          <p:nvPr/>
        </p:nvCxnSpPr>
        <p:spPr>
          <a:xfrm flipV="1">
            <a:off x="3276720" y="3212280"/>
            <a:ext cx="1367280" cy="577080"/>
          </a:xfrm>
          <a:prstGeom prst="straightConnector1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47" name="مربع نص 8"/>
          <p:cNvSpPr/>
          <p:nvPr/>
        </p:nvSpPr>
        <p:spPr>
          <a:xfrm>
            <a:off x="4558680" y="299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ضفه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48" name="رابط كسهم مستقيم 10"/>
          <p:cNvCxnSpPr/>
          <p:nvPr/>
        </p:nvCxnSpPr>
        <p:spPr>
          <a:xfrm>
            <a:off x="3131640" y="4005360"/>
            <a:ext cx="1585080" cy="1008720"/>
          </a:xfrm>
          <a:prstGeom prst="straightConnector1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49" name="مربع نص 12"/>
          <p:cNvSpPr/>
          <p:nvPr/>
        </p:nvSpPr>
        <p:spPr>
          <a:xfrm>
            <a:off x="4285080" y="508464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تجويف النقره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0" name="رابط كسهم مستقيم 14"/>
          <p:cNvCxnSpPr/>
          <p:nvPr/>
        </p:nvCxnSpPr>
        <p:spPr>
          <a:xfrm>
            <a:off x="4067280" y="5444640"/>
            <a:ext cx="1010160" cy="505800"/>
          </a:xfrm>
          <a:prstGeom prst="straightConnector1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51" name="مربع نص 15"/>
          <p:cNvSpPr/>
          <p:nvPr/>
        </p:nvSpPr>
        <p:spPr>
          <a:xfrm>
            <a:off x="4408560" y="59500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فتحة النقره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3789360"/>
            <a:ext cx="4321080" cy="2905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Pinus07"/>
          <p:cNvPicPr/>
          <p:nvPr/>
        </p:nvPicPr>
        <p:blipFill>
          <a:blip r:embed="rId2"/>
          <a:stretch/>
        </p:blipFill>
        <p:spPr>
          <a:xfrm>
            <a:off x="1908000" y="115920"/>
            <a:ext cx="5077080" cy="33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النقر المضفوفه منظر سطحي"/>
          <p:cNvPicPr/>
          <p:nvPr/>
        </p:nvPicPr>
        <p:blipFill>
          <a:blip r:embed="rId3"/>
          <a:stretch/>
        </p:blipFill>
        <p:spPr>
          <a:xfrm>
            <a:off x="5508720" y="3618000"/>
            <a:ext cx="3500280" cy="3240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324000" y="1268280"/>
            <a:ext cx="12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منظر جانبي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086000" y="4797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منظر سطحي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4366440" y="344520"/>
            <a:ext cx="51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لتركيب الكيميائي للجدار الخلوي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-1973160" y="865080"/>
            <a:ext cx="127522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- السليلوز: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 هي ماده اساسيه في تكوين الجدار الابتدائي  وهو عباره عن وحدات من الجلوكوز اللامائي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800" spc="-1" strike="noStrike" u="sng">
                <a:solidFill>
                  <a:srgbClr val="00ff00"/>
                </a:solidFill>
                <a:uFillTx/>
                <a:latin typeface="Verdana"/>
              </a:rPr>
              <a:t>يكشف عنه 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خذي جزء من الياف  القطن وضعيها على شريحه زجاجيه مع قطره ماء وتفحص مجهريا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خذي مره اخرى الياف القطن واضيفي لها قطرة يود ....... يتلون الجدار باللون الاصف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يضاف قطره من محلول الكبريتيك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75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% وعدة قطرات من الماء  ........ سيتلون الجدار باللون الازر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-711360" y="3152880"/>
            <a:ext cx="1140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لجنين: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وهو ماده صلبه تتكون من بروبانويد فينيل  ويعد ناتج نهائي للايض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Verdana"/>
              </a:rPr>
              <a:t>يكشف عنه 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غمس ساق نبات خشبي مجهز مسبقا في  محلول فلوروجليسينول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 يضاف الى القطاع محلول الهيدروكلوريك  .. سيتلون الخشب باللون الاحمر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6:08:29Z</dcterms:created>
  <dc:creator>HELP</dc:creator>
  <dc:description/>
  <dc:language>en-US</dc:language>
  <cp:lastModifiedBy>a</cp:lastModifiedBy>
  <dcterms:modified xsi:type="dcterms:W3CDTF">2016-10-08T11:21:03Z</dcterms:modified>
  <cp:revision>36</cp:revision>
  <dc:subject/>
  <dc:title>الشريحة 1</dc:title>
</cp:coreProperties>
</file>