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6BE8-16DB-4B89-91F9-F35E8C6E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9F1-0596-476D-9432-1DC104D8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0A3-E52E-4260-8B0E-37B60D9C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D2B-67C2-435C-9D32-99480B26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599C-C46A-47CD-8976-5F740BA0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E22C-B799-42D9-9451-10F4762B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1EE4-37CF-4D5C-9538-A9B20037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1B25-0A45-4938-B5DE-10613CF1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436B-79F8-4E96-9E80-64AFECFC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4084-1288-45F8-BD44-6A9EDA53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FA0F-72C1-4C3F-8F6F-8A411AEA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3EDF-3C9D-477C-AE2B-95D12E97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F5AD-D9E9-45F5-8795-6D2D8D3F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F8E9-FE70-431E-8B40-63F5D8AD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06DE-53AA-4608-9E56-F6448192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2955-07D6-4C05-9A09-CB7E1365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4FD5-4E41-403D-81EC-4297D4BE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FCA142-F185-40C5-9A01-D2352E7B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89973-B31F-485E-993F-B6E24AC0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766CA-C784-4798-B05F-8522471C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BDB6B-02DF-4228-AC9A-1FFAE672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B7D66-FB66-468A-B8EC-434C7B86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604-556E-44BE-AF56-A358B9F1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3A1C8-9CAA-4457-ACA1-6E631E96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02C83-0051-4725-B5F7-473996DC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7BFF0-0795-4476-B5BA-62DD298D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31FB1B-CD14-41DB-9573-A8B50AD6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76F50A-B56A-4E54-BFD1-4BAC0CF0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FE2305-07C0-4084-AAB2-CE63696E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903F87-1FDC-4108-995E-F27E3673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E1358-4A51-47F4-B92D-B96ED1A7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EB6E3-5510-4259-9DC3-BE5FC668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0D321-086A-43A7-A977-9B92CC57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60B-03D9-4977-8B83-30E729BF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2B9AD-0B0D-4B71-80F7-6E9DA8ED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54FE9-335F-4A3F-BB80-7C19EA94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A5B95-EC85-4846-9B04-15E77609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2BCB1-7A3B-4069-988A-99DC2380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6DC28-2513-4D78-B40F-0D9FCC1B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6CF03-E942-4FE9-B817-42391F9C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AA1BB-FFA5-4374-8637-2713D992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FA615-FDFA-4BEF-A01D-4EBE2EB5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D2232-1CBB-45D3-8506-CB1605A6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9B53-AB56-4D6D-8FBC-6EF2B973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E1A1-AF7B-4321-B08E-16DDB129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E00-9EFF-4019-BDFD-1D035B86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F1EF-BA5B-4681-8923-964CF896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F99-3A6A-45C7-81BD-8C704BE8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BF7D-A5B7-4D13-B029-46EA976EAFB7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EF19-6D71-4C8E-9B83-2E1DE572F5C9}" type="slidenum"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9776-4DDA-462A-8F3C-A868962B6324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0D22-1EF2-44EA-9B42-64CFF89E05D6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0584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helometer and Turbidimeter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Picture 4" descr="http://2.imimg.com/data2/GU/XU/MY-1649452/turbidity-nephelometers-mic-250x250.jpg"/>
          <p:cNvPicPr/>
          <p:nvPr/>
        </p:nvPicPr>
        <p:blipFill>
          <a:blip r:embed="rId1"/>
          <a:stretch/>
        </p:blipFill>
        <p:spPr>
          <a:xfrm>
            <a:off x="4643280" y="3933720"/>
            <a:ext cx="3429000" cy="2381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Turbidity and Nephelometers Digital"/>
          <p:cNvPicPr/>
          <p:nvPr/>
        </p:nvPicPr>
        <p:blipFill>
          <a:blip r:embed="rId2"/>
          <a:stretch/>
        </p:blipFill>
        <p:spPr>
          <a:xfrm>
            <a:off x="34920" y="8568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مستطيل 1"/>
          <p:cNvSpPr/>
          <p:nvPr/>
        </p:nvSpPr>
        <p:spPr>
          <a:xfrm>
            <a:off x="428760" y="1052640"/>
            <a:ext cx="87152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phelo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efined as the detection of light energy </a:t>
            </a:r>
            <a:r>
              <a:rPr b="0" lang="en-US" sz="36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scatte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wards a detector that is not in the direct path of the transmitted l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684360" y="1844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nephelometers measure the intensity of the scattered light at right angles to the incident light, but some have detectors placed at angles of 60-7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2305080" y="750960"/>
            <a:ext cx="38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phelo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"/>
          <p:cNvSpPr/>
          <p:nvPr/>
        </p:nvSpPr>
        <p:spPr>
          <a:xfrm>
            <a:off x="468360" y="1844640"/>
            <a:ext cx="835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nables to take advantage of the increased forward scatter intensity caused by light scattering from large particl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: The amount of light scattered is proportional to the concentration of antigen or antibody(protein) in the 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"/>
          <p:cNvSpPr/>
          <p:nvPr/>
        </p:nvSpPr>
        <p:spPr>
          <a:xfrm>
            <a:off x="2635920" y="746280"/>
            <a:ext cx="38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phelo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"/>
          <p:cNvSpPr/>
          <p:nvPr/>
        </p:nvSpPr>
        <p:spPr>
          <a:xfrm>
            <a:off x="412920" y="765000"/>
            <a:ext cx="840708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‘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ndall effect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s the phenomenon in which light is scattered by very small particles in its path; (or in colloid systems, such as suspensions or emulsions) it makes a beam of light visible; the scattered light is mainly 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"/>
          <p:cNvSpPr/>
          <p:nvPr/>
        </p:nvSpPr>
        <p:spPr>
          <a:xfrm>
            <a:off x="684360" y="5408640"/>
            <a:ext cx="7488000" cy="947160"/>
          </a:xfrm>
          <a:prstGeom prst="rect">
            <a:avLst/>
          </a:prstGeom>
          <a:solidFill>
            <a:srgbClr val="dff7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amed after the 19th century physicist John Tynd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"/>
          <p:cNvSpPr/>
          <p:nvPr/>
        </p:nvSpPr>
        <p:spPr>
          <a:xfrm>
            <a:off x="2748600" y="324468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ndall sca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2087640" y="2319480"/>
            <a:ext cx="496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1"/>
          <p:cNvSpPr/>
          <p:nvPr/>
        </p:nvSpPr>
        <p:spPr>
          <a:xfrm>
            <a:off x="539640" y="1052640"/>
            <a:ext cx="79930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en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ndall effect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ppen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suspension is viewed at right angle to the direction of the incident light the system appears shining due to the reflection of the light from the parti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susp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"/>
          <p:cNvSpPr/>
          <p:nvPr/>
        </p:nvSpPr>
        <p:spPr>
          <a:xfrm>
            <a:off x="468360" y="162864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rbidi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measured on most routine analysers by 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 spectrophotomete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bsorbed lig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nsity of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cattered ligh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normally measured by 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ephelo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684360" y="2205000"/>
            <a:ext cx="748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uses of nephelometers relate to air quality measurement for pollu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contaminants include mold, fungus, bacteria, virus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2503440" y="981000"/>
            <a:ext cx="38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phelo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Content Placeholder 2"/>
          <p:cNvSpPr/>
          <p:nvPr/>
        </p:nvSpPr>
        <p:spPr>
          <a:xfrm>
            <a:off x="406440" y="593640"/>
            <a:ext cx="871524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rumentation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ight source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ngsten its relatively low intensity makes it less useful for samples with low light scattering. Alternatives ar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z halogen lam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enon lamp and laser which have higher intensities than tungsten lam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1"/>
          <p:cNvSpPr/>
          <p:nvPr/>
        </p:nvSpPr>
        <p:spPr>
          <a:xfrm>
            <a:off x="2498040" y="2500200"/>
            <a:ext cx="39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1"/>
          <p:cNvSpPr/>
          <p:nvPr/>
        </p:nvSpPr>
        <p:spPr>
          <a:xfrm>
            <a:off x="611280" y="1700280"/>
            <a:ext cx="7561080" cy="31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ens assembly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enter the sample holder through lens assembly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1"/>
          <p:cNvSpPr/>
          <p:nvPr/>
        </p:nvSpPr>
        <p:spPr>
          <a:xfrm>
            <a:off x="468360" y="1212840"/>
            <a:ext cx="835812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onochromator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rovision for the insertion of filter between the sample and source of ligh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485640" y="1052640"/>
            <a:ext cx="82803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 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tector (photo –cell)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hielded to minimize interference from stray light to measure  light reflected (nephelome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uld be movable detector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allow operator to vary the angle of detec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Content Placeholder 2"/>
          <p:cNvSpPr/>
          <p:nvPr/>
        </p:nvSpPr>
        <p:spPr>
          <a:xfrm>
            <a:off x="457200" y="793800"/>
            <a:ext cx="822960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ad out device</a:t>
            </a:r>
            <a:r>
              <a:rPr b="1" lang="en-GB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hlometer measure the intensity of a scattered light. Light intensity is converted to an electrical signal by the detecto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479520" y="692280"/>
            <a:ext cx="819612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arison of Nephelometry and Turbidimetry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helometry methods ar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sensitiv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 turbidimetric methods, with a detection limit of approx. 10ug/mL whereas the detection limit of Turbidimetry methods are 20 to 30 ug/m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1"/>
          <p:cNvSpPr/>
          <p:nvPr/>
        </p:nvSpPr>
        <p:spPr>
          <a:xfrm>
            <a:off x="468360" y="14130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helometry shows a slightly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tection limi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compared to  turbidimetry in case of lipemic samples and also in case of pure media such as CS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907920"/>
            <a:ext cx="8496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phlometry is differs from turbidimetery in th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ment of the phot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nce turbidity measurements are made in the same direction as the propagation of the light from the sour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the nephlometry is measure the light scattered at right angle to the direction of the propagation of light from the 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13880" y="2138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iteria for analysi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99680" y="1285560"/>
            <a:ext cx="8358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- Number and size of the particles should remain constant</a:t>
            </a:r>
            <a:r>
              <a:rPr b="1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f repeated preparation are made.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2- The precipitate must be fine enough so as not to settle rapidly.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85840" y="42840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and disadvantages 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dvantages are : rapidity of procedure and simplicity of the measurements.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isadvantages: lack of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accuracy</a:t>
            </a: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of the measurements.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nciple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8000" y="155700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he turbidity of a dilute </a:t>
            </a:r>
            <a:r>
              <a:rPr b="0" lang="en-GB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arium sulphate </a:t>
            </a: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uspension  is difficult to reproduce so we have to follow procedure accurately.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he concentration of the reactants must be controlled by adding pure solid barium chloride of definite grain size.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مستطيل 1"/>
          <p:cNvSpPr/>
          <p:nvPr/>
        </p:nvSpPr>
        <p:spPr>
          <a:xfrm>
            <a:off x="487440" y="836640"/>
            <a:ext cx="86439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rbidi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for determining the amount of </a:t>
            </a:r>
            <a:r>
              <a:rPr b="1" i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loudiness, or turbidity</a:t>
            </a:r>
            <a:r>
              <a:rPr b="1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solution based upon measurement of the effect of this turbidity upon the transmission and  scattering of l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23640" y="620280"/>
            <a:ext cx="842940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odium chloride and hydrochloride acid </a:t>
            </a: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re added before the precipitation in order to inhibit the growth of microcrystal of barium sulphate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 glycerol ethanol solution </a:t>
            </a: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helps to stabilise the turbidity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he reaction vessels is shaken gently in order to obtain  a uniform particle size. Each vessel should be shaken at the same rate and the same number of times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4991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do we need?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95280" y="1052280"/>
            <a:ext cx="8569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- Preparation of standards =  1 mg/ml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.814 g of potassium sulphate dissolve in 1 litter of H₂O.  O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0.3 g of p. Sulphate to 300 ml of H₂O.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-NACL-HCL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40 g of NACL + 20 ml of conc. HCL to 1 litter of water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-Glycerol-ethano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00 ml of glycerol +200 ml of absolute alcoho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-barium chloride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issolve in the weighing boat before addition of water which is (100 ml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cedure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39640" y="141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- Preparation of standards in (ml)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85840" y="2143080"/>
          <a:ext cx="8286840" cy="3146400"/>
        </p:xfrm>
        <a:graphic>
          <a:graphicData uri="http://schemas.openxmlformats.org/drawingml/2006/table">
            <a:tbl>
              <a:tblPr/>
              <a:tblGrid>
                <a:gridCol w="2214360"/>
                <a:gridCol w="776520"/>
                <a:gridCol w="865080"/>
                <a:gridCol w="787320"/>
                <a:gridCol w="928800"/>
                <a:gridCol w="928800"/>
                <a:gridCol w="928440"/>
                <a:gridCol w="857520"/>
              </a:tblGrid>
              <a:tr h="47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d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d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d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d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d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d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. of  potassium sulphate std(1 mg/ml)=0.001 g/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7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L-H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YCEROL-ETHA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95280" y="404280"/>
            <a:ext cx="8353440" cy="562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ASURMENTS: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- Plug the instrument into ground outlet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2- Choose desirable scale starting with the highest conc. (scale 10 is good)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3- Turn power switch on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4- Select desirable range by range selector at desirable position 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5- Select filter required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95280" y="764640"/>
            <a:ext cx="85694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6- Transfer your standards in the cleaned cell and place them in cell holder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7- Adjust the standards control to obtain the maximum reading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8- Remove the standards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9- Fill the second cell with blank to set zero 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0- Check the reading of the standards again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1- Replace the std.  With other std (less conc.) and note the various scale reading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2- Draw calibration curve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95280" y="549000"/>
            <a:ext cx="77630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caution:</a:t>
            </a: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- Clean cell.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2- Clean filter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3- Avoid air bubbles (high reading).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4- Dilute sample if there is need.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5- Prepare the blank ,standards, sample at the same time.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285840" y="357120"/>
            <a:ext cx="82296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 uses:</a:t>
            </a:r>
            <a:endParaRPr b="0" lang="en-US" sz="4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- Nephlometery: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tudy of lipoprotein, determination of specific protein by immunological methods.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- Turbidimetry: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Liver disease and protein contents of urine and CSF.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82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5759280" cy="2881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1692360" y="3789360"/>
            <a:ext cx="575928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"/>
          <p:cNvSpPr/>
          <p:nvPr/>
        </p:nvSpPr>
        <p:spPr>
          <a:xfrm>
            <a:off x="755640" y="191628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bidity in a liquid is caused by the 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resence of finely divided suspended particl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2322720" y="836640"/>
            <a:ext cx="376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rbidi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468360" y="1916280"/>
            <a:ext cx="857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beam of light is passed through a turbid sample, its intensity is </a:t>
            </a:r>
            <a:r>
              <a:rPr b="1" lang="en-US" sz="36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reduced</a:t>
            </a:r>
            <a:r>
              <a:rPr b="0" lang="en-US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cattering, and the quantity of light scattered is dependent upon the concentration and size distribution of the particl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2538720" y="907920"/>
            <a:ext cx="376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rbidi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مستطيل 1"/>
          <p:cNvSpPr/>
          <p:nvPr/>
        </p:nvSpPr>
        <p:spPr>
          <a:xfrm>
            <a:off x="539640" y="1844640"/>
            <a:ext cx="86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easurement of the intensity of light </a:t>
            </a:r>
            <a:r>
              <a:rPr b="0" lang="en-US" sz="36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transmit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rough the sample, the unscattered light, is measu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2580120" y="849240"/>
            <a:ext cx="376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rbidi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"/>
          <p:cNvSpPr/>
          <p:nvPr/>
        </p:nvSpPr>
        <p:spPr>
          <a:xfrm>
            <a:off x="539640" y="2492280"/>
            <a:ext cx="77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bidimetry is the technology used to protein assays such as Apolipoproteins, Lp(a), CRP, RF, ASO, C3, C4, Immunoglobulins et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2651400" y="1014480"/>
            <a:ext cx="376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rbidi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2519280" y="2714760"/>
            <a:ext cx="38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phelomet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2-03-19T06:12:50Z</dcterms:modified>
  <cp:revision>38</cp:revision>
  <dc:subject/>
  <dc:title>الشريحة 1</dc:title>
</cp:coreProperties>
</file>