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D8F-273B-4CD6-AE1C-86F986DC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52E-5EDE-4656-9AF0-621308D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317-97D3-4C1A-A633-0A7BAB8E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71E-C35F-4113-A058-B54CFBA0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DADA-62E8-42FC-B1CC-E3574083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96C0-7353-4C14-BA65-64201429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248-8089-4A27-8A06-7155C1B0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7732-CE72-400C-BC39-81D34E91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3B5-82DF-4408-A5A8-E23FBC4A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D821-1D0A-4E80-B827-97851868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E648-4012-45A5-96FB-BDA830F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11E-7F67-4E52-A41E-9D132499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5144-2848-48DB-8E29-E8DA151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1943-5C62-4EF8-92A9-2EF1B57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784-BEC9-4DC1-B82C-97970DDE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68E2-D6C9-4158-9163-29D0F849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CC3F-8569-4156-8E9A-419AE61E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18306-847C-4167-9CD6-B062974C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83DA4-07F5-4BAE-B207-9CCB8975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6AE0C-AC94-4F7F-AF86-45215F1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3DB10-AAC0-47F4-ACBF-022DE061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73AB7-D9DB-4B09-8070-FAE05E51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CAA-54FA-42AD-BFAF-9736D70A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EC58E-3573-47BF-B994-D1F9D0B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C604D-DB4B-4487-807A-019CFF96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1E620-E7A5-4E67-BFE5-5F3C5C9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B2903-E124-4E47-AFB6-1C6CAB2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A13EC-55E6-42F6-A1E7-75EB3C55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B9ABF-7A23-4FBA-85EC-EC2B6EC6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04559-21A1-414A-9982-23B7C334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90F0-053E-497F-9EA1-9D502729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E05A-8EFD-485D-A109-CA33141F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EACE-9DBA-47E7-A77A-CFA0CD9D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598-423C-4B70-ABFD-B0020261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7666-406C-489B-9A22-C17D5B4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A9CD-32B0-469E-A5FD-42F04DBD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030D-869B-4BCB-A316-C2C4AB8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2F8B-4BF4-4C06-AE00-695FE93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7E515-B9E0-4C73-B3F7-FAB290E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679E8-192D-4661-830F-9E89F224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D1934-E14C-4B14-84CE-4443353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39F27-B728-40A1-BEC3-17488338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0745-CE6B-4B7F-830B-812C46F5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D7E-9056-4D0A-9E5C-FA410DE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24E-6F2A-4C2C-B37E-82CAA1E6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710-EF51-40C5-86A9-C6DD1FA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D6C-F156-45EA-A706-A660B35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C85-AD75-4D02-AAF7-7728349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F805-150F-4142-82C6-1179E5D35BA0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5C9D-7097-4B97-B50B-BFEFF51AAC1F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D46-D444-4957-BD34-C2F4D025A748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1FB8-81C3-49F5-810F-C9ED20F66815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elometer and Turbidimeter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4" descr="http://2.imimg.com/data2/GU/XU/MY-1649452/turbidity-nephelometers-mic-250x250.jpg"/>
          <p:cNvPicPr/>
          <p:nvPr/>
        </p:nvPicPr>
        <p:blipFill>
          <a:blip r:embed="rId1"/>
          <a:stretch/>
        </p:blipFill>
        <p:spPr>
          <a:xfrm>
            <a:off x="4643280" y="393372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Turbidity and Nephelometers Digital"/>
          <p:cNvPicPr/>
          <p:nvPr/>
        </p:nvPicPr>
        <p:blipFill>
          <a:blip r:embed="rId2"/>
          <a:stretch/>
        </p:blipFill>
        <p:spPr>
          <a:xfrm>
            <a:off x="34920" y="856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مستطيل 1"/>
          <p:cNvSpPr/>
          <p:nvPr/>
        </p:nvSpPr>
        <p:spPr>
          <a:xfrm>
            <a:off x="428760" y="105264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fined as the detection of light energy </a:t>
            </a:r>
            <a:r>
              <a:rPr b="0" lang="en-US" sz="3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scatte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wards a detector that is not in the direct path of the transmitted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684360" y="1844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nephelometers measure the intensity of the scattered light at right angles to the incident light, but some have detectors placed at angles of 60-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2305080" y="75096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468360" y="184464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nables to take advantage of the increased forward scatter intensity caused by light scattering from large part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: The amount of light scattered is proportional to the concentration of antigen or antibody(protein) in th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2635920" y="74628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412920" y="765000"/>
            <a:ext cx="840708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‘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ndall effect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e phenomenon in which light is scattered by very small particles in its path; (or in colloid systems, such as suspensions or emulsions) it makes a beam of light visible; the scattered light is mainly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684360" y="5408640"/>
            <a:ext cx="7488000" cy="947160"/>
          </a:xfrm>
          <a:prstGeom prst="rect">
            <a:avLst/>
          </a:prstGeom>
          <a:solidFill>
            <a:srgbClr val="dff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amed after the 19th century physicist John Tynd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2748600" y="324468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ndall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2087640" y="2319480"/>
            <a:ext cx="496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539640" y="1052640"/>
            <a:ext cx="799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ndall effect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ppen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uspension is viewed at right angle to the direction of the incident light the system appears shining due to the reflection of the light from the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468360" y="162864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measured on most routine analysers by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spectrophotome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sorbed 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ttered ligh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rmally measured by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phel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684360" y="2205000"/>
            <a:ext cx="74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uses of nephelometers relate to air quality measurement for pollu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contaminants include mold, fungus, bacteria, viru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2503440" y="98100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Content Placeholder 2"/>
          <p:cNvSpPr/>
          <p:nvPr/>
        </p:nvSpPr>
        <p:spPr>
          <a:xfrm>
            <a:off x="406440" y="593640"/>
            <a:ext cx="871524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ation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ight source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its relatively low intensity makes it less useful for samples with low light scattering. Alternatives ar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halogen lam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non lamp and laser which have higher intensities than tungsten lam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2498040" y="2500200"/>
            <a:ext cx="39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611280" y="1700280"/>
            <a:ext cx="7561080" cy="31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ens assembly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enter the sample holder through lens assembly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468360" y="1212840"/>
            <a:ext cx="83581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onochromator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rovision for the insertion of filter between the sample and source of ligh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485640" y="1052640"/>
            <a:ext cx="82803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tector (photo –cell)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hielded to minimize interference from stray light to measure  light reflected (nephelome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movable detector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llow operator to vary the angle of detec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Content Placeholder 2"/>
          <p:cNvSpPr/>
          <p:nvPr/>
        </p:nvSpPr>
        <p:spPr>
          <a:xfrm>
            <a:off x="457200" y="793800"/>
            <a:ext cx="82296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ad out device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lometer measure the intensity of a scattered light. Light intensity is converted to an electrical signal by the detecto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479520" y="692280"/>
            <a:ext cx="81961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arison of Nephelometry and Turbidimetr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elometry methods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ensitiv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turbidimetric methods, with a detection limit of approx. 10ug/mL whereas the detection limit of Turbidimetry methods are 20 to 30 ug/m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"/>
          <p:cNvSpPr/>
          <p:nvPr/>
        </p:nvSpPr>
        <p:spPr>
          <a:xfrm>
            <a:off x="468360" y="1413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elometry shows a slightly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tection limi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compared to  turbidimetry in case of lipemic samples and also in case of pure media such as CS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90792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lometry is differs from turbidimetery in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ce turbidity measurements are made in the same direction as the propagation of the light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e nephlometry is measure the light scattered at right angle to the direction of the propagation of light from the 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iteria for analysi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285560"/>
            <a:ext cx="835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- Number and size of the particles should remain constant</a:t>
            </a:r>
            <a:r>
              <a:rPr b="1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f repeated preparation are made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- The precipitate must be fine enough so as not to settle rapidly.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5840" y="42840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and disadvantages 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dvantages are : rapidity of procedure and simplicity of the measurements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advantages: lack of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accuracy</a:t>
            </a: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of the measurements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000" y="155700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turbidity of a dilute </a:t>
            </a:r>
            <a:r>
              <a:rPr b="0" lang="en-GB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rium sulphate </a:t>
            </a: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uspension  is difficult to reproduce so we have to follow procedure accurately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concentration of the reactants must be controlled by adding pure solid barium chloride of definite grain size.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مستطيل 1"/>
          <p:cNvSpPr/>
          <p:nvPr/>
        </p:nvSpPr>
        <p:spPr>
          <a:xfrm>
            <a:off x="487440" y="836640"/>
            <a:ext cx="8643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for determining the amount of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oudiness, or turbidity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solution based upon measurement of the effect of this turbidity upon the transmission and  scattering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3640" y="620280"/>
            <a:ext cx="84294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dium chloride and hydrochloride acid </a:t>
            </a: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re added before the precipitation in order to inhibit the growth of microcrystal of barium sulphat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glycerol ethanol solution </a:t>
            </a: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elps to stabilise the turbidity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reaction vessels is shaken gently in order to obtain  a uniform particle size. Each vessel should be shaken at the same rate and the same number of times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99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 we need?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5280" y="1052280"/>
            <a:ext cx="8569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Preparation of standards =  1 mg/ml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814 g of potassium sulphate dissolve in 1 litter of H₂O.  O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0.3 g of p. Sulphate to 300 ml of H₂O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NACL-HCL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40 g of NACL + 20 ml of conc. HCL to 1 litter of water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Glycerol-ethan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00 ml of glycerol +200 ml of absolute alcoh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barium chloride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solve in the weighing boat before addition of water which is (100 ml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3964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- Preparation of standards in (ml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85840" y="2143080"/>
          <a:ext cx="8286840" cy="3146400"/>
        </p:xfrm>
        <a:graphic>
          <a:graphicData uri="http://schemas.openxmlformats.org/drawingml/2006/table">
            <a:tbl>
              <a:tblPr/>
              <a:tblGrid>
                <a:gridCol w="2214360"/>
                <a:gridCol w="776520"/>
                <a:gridCol w="865080"/>
                <a:gridCol w="787320"/>
                <a:gridCol w="928800"/>
                <a:gridCol w="928800"/>
                <a:gridCol w="928440"/>
                <a:gridCol w="857520"/>
              </a:tblGrid>
              <a:tr h="47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. of  potassium sulphate std(1 mg/ml)=0.001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7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L-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YCEROL-ETH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404280"/>
            <a:ext cx="8353440" cy="562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MENTS: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- Plug the instrument into ground outlet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- Choose desirable scale starting with the highest conc. (scale 10 is good)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- Turn power switch on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4- Select desirable range by range selector at desirable position 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5- Select filter required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5280" y="764640"/>
            <a:ext cx="8569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6- Transfer your standards in the cleaned cell and place them in cell holder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7- Adjust the standards control to obtain the maximum reading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8- Remove the standards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9- Fill the second cell with blank to set zero 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0- Check the reading of the standards again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1- Replace the std.  With other std (less conc.) and note the various scale reading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2- Draw calibration curve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5280" y="549000"/>
            <a:ext cx="7763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: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- Clean cell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- Clean filter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- Avoid air bubbles (high reading)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4- Dilute sample if there is need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5- Prepare the blank ,standards, sample at the same time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85840" y="35712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 uses:</a:t>
            </a:r>
            <a:endParaRPr b="0" lang="en-US" sz="4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Nephlometery: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tudy of lipoprotein, determination of specific protein by immunological methods.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 Turbidimetry: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iver disease and protein contents of urine and CSF.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59280" cy="2881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5759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755640" y="19162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dity in a liquid is caused by the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esence of finely divided suspended part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2322720" y="83664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468360" y="1916280"/>
            <a:ext cx="85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beam of light is passed through a turbid sample, its intensity is 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reduced</a:t>
            </a:r>
            <a:r>
              <a:rPr b="0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cattering, and the quantity of light scattered is dependent upon the concentration and size distribution of the part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2538720" y="90792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مستطيل 1"/>
          <p:cNvSpPr/>
          <p:nvPr/>
        </p:nvSpPr>
        <p:spPr>
          <a:xfrm>
            <a:off x="539640" y="184464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easurement of the intensity of light </a:t>
            </a:r>
            <a:r>
              <a:rPr b="0" lang="en-US" sz="3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the sample, the unscattered light, is measu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580120" y="84924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539640" y="2492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dimetry is the technology used to protein assays such as Apolipoproteins, Lp(a), CRP, RF, ASO, C3, C4, Immunoglobulins et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2651400" y="101448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2519280" y="271476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2-03-19T06:12:50Z</dcterms:modified>
  <cp:revision>38</cp:revision>
  <dc:subject/>
  <dc:title>الشريحة 1</dc:title>
</cp:coreProperties>
</file>