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90720" y="583920"/>
            <a:ext cx="1101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018880"/>
            <a:ext cx="5943600" cy="266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5156280"/>
            <a:ext cx="594360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-825480" y="4724280"/>
            <a:ext cx="7597800" cy="29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4680" y="7543800"/>
            <a:ext cx="1173492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69696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7980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5148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4584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2904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302904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9040" indent="-45684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90720" y="2654280"/>
            <a:ext cx="513072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1732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04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77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6840" indent="-3279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717840" indent="-4417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81600" indent="-4417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3840" indent="-4417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08760" indent="-44208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2160" indent="-4417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2972160" indent="-441720">
              <a:spcBef>
                <a:spcPts val="11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2972160" indent="-441720">
              <a:spcBef>
                <a:spcPts val="11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1040" y="1523880"/>
            <a:ext cx="11290320" cy="307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4584600"/>
            <a:ext cx="12433320" cy="482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717840" indent="-4417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81600" indent="-4417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3840" indent="-4417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08760" indent="-44208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2972160" indent="-441720">
              <a:spcBef>
                <a:spcPts val="20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2972160" indent="-441720">
              <a:spcBef>
                <a:spcPts val="11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2972160" indent="-441720">
              <a:spcBef>
                <a:spcPts val="11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873920" y="2654280"/>
            <a:ext cx="41277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6620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056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700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000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2436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12436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124360" indent="-2955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1040" y="1523880"/>
            <a:ext cx="11290320" cy="307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51040" y="5156280"/>
            <a:ext cx="1129032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7000"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4584600"/>
            <a:ext cx="12433320" cy="482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90720" y="2654280"/>
            <a:ext cx="1101096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65556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3840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81008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2404440" indent="-4158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98728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98728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987280" indent="-41544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90720" y="965160"/>
            <a:ext cx="11010960" cy="781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68940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6576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096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1848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299520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299520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2995200" indent="-451800">
              <a:spcBef>
                <a:spcPts val="46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90720" y="2654280"/>
            <a:ext cx="513072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1732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04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277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96840" indent="-32796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6560" indent="-327600">
              <a:spcBef>
                <a:spcPts val="3699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2433320" cy="48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7480440" y="1930320"/>
            <a:ext cx="4444920" cy="5994360"/>
            <a:chOff x="7480440" y="1930320"/>
            <a:chExt cx="4444920" cy="5994360"/>
          </a:xfrm>
        </p:grpSpPr>
        <p:pic>
          <p:nvPicPr>
            <p:cNvPr id="464" name="" descr=""/>
            <p:cNvPicPr/>
            <p:nvPr/>
          </p:nvPicPr>
          <p:blipFill>
            <a:blip r:embed="rId2"/>
            <a:srcRect l="29978" t="16551" r="38443" b="16571"/>
            <a:stretch/>
          </p:blipFill>
          <p:spPr>
            <a:xfrm>
              <a:off x="7759800" y="2209680"/>
              <a:ext cx="3886200" cy="543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7480440" y="1930320"/>
              <a:ext cx="4444920" cy="599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7920" y="3847680"/>
            <a:ext cx="3568680" cy="8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ACTICAL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5156280"/>
            <a:ext cx="594360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71400"/>
                </a:solidFill>
                <a:uFillTx/>
                <a:latin typeface="Lucida Grande"/>
                <a:ea typeface="Lucida Grande"/>
              </a:rPr>
              <a:t>SELECTION OF THE TISSUE BLOCK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 rot="5400000">
            <a:off x="6909480" y="2959920"/>
            <a:ext cx="5587920" cy="3929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9" name=""/>
          <p:cNvSpPr/>
          <p:nvPr/>
        </p:nvSpPr>
        <p:spPr>
          <a:xfrm>
            <a:off x="700200" y="7746840"/>
            <a:ext cx="270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. Khadija Al-Zahr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1133c"/>
                </a:solidFill>
                <a:uFillTx/>
                <a:latin typeface="Big Caslon"/>
                <a:ea typeface="Big Caslon"/>
              </a:rPr>
              <a:t>1. DE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3054240"/>
            <a:ext cx="114426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To remove fixative and water from the tissue and replacing them with dehydration flui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first stage of processing is the removal of aqueous fluids from the tissues by various compounds, many of which are alcohols of various types. There are numerous dehydration strength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ing ethanol for instance, tissue is immersed first in </a:t>
            </a: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70% ethanol, 95% to 100% ethanol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8184b"/>
                </a:solidFill>
                <a:uFillTx/>
                <a:latin typeface="Big Caslon"/>
                <a:ea typeface="Big Caslon"/>
              </a:rPr>
              <a:t>2. CLE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20" y="2635200"/>
            <a:ext cx="11569680" cy="58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placing the dehydration fluid with a fluid that totally miscible with both the dehydration fluid with the embedding med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Most clearing agents are flammable liqu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Prolonged exposure to most clearing agents causes the tissue to become brittle and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refore more difficult to s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0e2f"/>
                </a:solidFill>
                <a:latin typeface="Lucida Grande"/>
                <a:ea typeface="Lucida Grande"/>
              </a:rPr>
              <a:t>THE CRITERIA FOR CHOOSING A SUITABLE CLEARING AGENT ARE</a:t>
            </a:r>
            <a:r>
              <a:rPr b="0" lang="en-US" sz="2000" spc="-1" strike="noStrike">
                <a:solidFill>
                  <a:srgbClr val="640e2f"/>
                </a:solidFill>
                <a:latin typeface="Lucida Grande"/>
                <a:ea typeface="Lucida Gran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peedy removal of dehydration ag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ase or removal by molten paraffin w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inimal tissue dam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lamm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xicity and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98040" y="2603160"/>
            <a:ext cx="84711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90000"/>
                </a:solidFill>
                <a:uFillTx/>
                <a:latin typeface="Copperplate Bold"/>
                <a:ea typeface="Copperplate Bold"/>
              </a:rPr>
              <a:t>THE CLEARING AGENTS SUITABLE FOR ROUTIN USE</a:t>
            </a:r>
            <a:r>
              <a:rPr b="0" lang="en-US" sz="2400" spc="-1" strike="noStrike" u="sng">
                <a:solidFill>
                  <a:srgbClr val="490000"/>
                </a:solidFill>
                <a:uFillTx/>
                <a:latin typeface="Copperplate"/>
                <a:ea typeface="Copperplat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1280" y="3822840"/>
            <a:ext cx="11582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XYLEN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generally suitable for most routine histology schedules of less than 24 hr an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en blocks is less than 5 mm in thick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TOLUENE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has similar properties to xylene, although it is less damaging with prolong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mmersion of t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CHLOROFORM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is slower in action than xylene but causes less brittleness. Thicker tiss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locks can be processed, even those up to 1cm in thick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2396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133e"/>
                </a:solidFill>
                <a:uFillTx/>
                <a:latin typeface="Big Caslon"/>
                <a:ea typeface="Big Caslon"/>
              </a:rPr>
              <a:t>3. IMPREGNATION OR INFIL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4960" y="2730600"/>
            <a:ext cx="11646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eplacing  the clearing agent with the embedding medium. The medium of choice is Paraffin wax .It is of different melting points abo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merican Typewriter"/>
                <a:ea typeface="American Typewriter"/>
              </a:rPr>
              <a:t>40-70°c.</a:t>
            </a:r>
            <a:r>
              <a:rPr b="0" lang="en-US" sz="2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merican Typewriter"/>
                <a:ea typeface="American Typewriter"/>
              </a:rPr>
              <a:t>Soft wax has a lower melting point</a:t>
            </a:r>
            <a:r>
              <a:rPr b="0" lang="en-US" sz="2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, wherea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merican Typewriter"/>
                <a:ea typeface="American Typewriter"/>
              </a:rPr>
              <a:t>hard wax higher melting</a:t>
            </a:r>
            <a:r>
              <a:rPr b="0" lang="en-US" sz="2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buClr>
                <a:srgbClr val="000000"/>
              </a:buClr>
              <a:buSzPct val="8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me substances are added to paraffin wax these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ees,  Wax,  Cerecin,  Rubber,  Plas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0a1f"/>
                </a:solidFill>
                <a:latin typeface="Copperplate Bold"/>
                <a:ea typeface="Copperplate Bold"/>
              </a:rPr>
              <a:t>THE ADDITION OF THE SUBSTANSES</a:t>
            </a:r>
            <a:r>
              <a:rPr b="0" lang="en-US" sz="2000" spc="-1" strike="noStrike">
                <a:solidFill>
                  <a:srgbClr val="430a1f"/>
                </a:solidFill>
                <a:latin typeface="Copperplate"/>
                <a:ea typeface="Copperplat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crease the hardness of the wax in order to cut thinner s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o aid the production of serial s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lter the crystalline structure or paraffin wa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crease the hardness to give the necessary support when cutting harder t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865080" y="2895480"/>
            <a:ext cx="1176048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133e"/>
                </a:solidFill>
                <a:uFillTx/>
                <a:latin typeface="Big Caslon"/>
                <a:ea typeface="Big Caslon"/>
              </a:rPr>
              <a:t>Factors influence the rate of proces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AGITATION</a:t>
            </a: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rate of agi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HEAT</a:t>
            </a: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increase the rate of penetration and hence inter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VISCOCITY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Lucida Grande"/>
                <a:ea typeface="Lucida Grande"/>
              </a:rPr>
              <a:t>VACUMM: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can be applied to speed up wax impreg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83920" y="583920"/>
            <a:ext cx="11417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1400"/>
                </a:solidFill>
                <a:latin typeface="Copperplate Bold"/>
                <a:ea typeface="Copperplate Bold"/>
              </a:rPr>
              <a:t>Before the specimens come to the laborato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3560" y="3124080"/>
            <a:ext cx="11417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. Immediate fixation &amp; the suitable fix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Enough amount of fix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. Suitable contai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4. Filling the request form with necessary data to accompany the speci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5. Labeling the container with necessary inform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8800" y="583920"/>
            <a:ext cx="1125252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0000"/>
                </a:solidFill>
                <a:latin typeface="Copperplate Bold"/>
                <a:ea typeface="Copperplate Bold"/>
              </a:rPr>
              <a:t>When receiving the specimen check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7560" y="2908440"/>
            <a:ext cx="116460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he specimen is for hist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it is the correct speci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f the specimen is in the suitable fix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ake sure that all the necessary information is complete both the request form and the contai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gistration (giving numb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election of the suitable blo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dequate fix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calcification if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utralization if decalcifi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rocessing: dehydration, clearing, wax impregn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mbedding (orientation of tissue blocks in paraffin wax) to make a paraffin wax bl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842080" y="3657600"/>
            <a:ext cx="566424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0515"/>
                </a:solidFill>
                <a:latin typeface="Lucida Grande"/>
                <a:ea typeface="Lucida Grande"/>
              </a:rPr>
              <a:t>Decalcific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24760" y="3924360"/>
            <a:ext cx="584280" cy="520560"/>
          </a:xfrm>
          <a:prstGeom prst="diamond">
            <a:avLst/>
          </a:prstGeom>
          <a:solidFill>
            <a:srgbClr val="430a1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92160" y="1117440"/>
            <a:ext cx="1101096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0515"/>
                </a:solidFill>
                <a:latin typeface="Baskerville Bold"/>
                <a:ea typeface="Baskerville Bold"/>
              </a:rPr>
              <a:t>Decalcification me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SzPct val="69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removal of calcium salts. Even the tissue contain calcium salts naturally or due to some dis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681280" y="2997360"/>
            <a:ext cx="763272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0500"/>
                </a:solidFill>
                <a:latin typeface="Baskerville Bold"/>
                <a:ea typeface="Baskerville Bold"/>
              </a:rPr>
              <a:t>Calcium salts should be removed (Why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) it is difficult to end up with a satisfactory s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) if calcium salts not removed. Knives will be destroy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65160" y="4997520"/>
            <a:ext cx="1160784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0e2f"/>
                </a:solidFill>
                <a:latin typeface="Baskerville Bold"/>
                <a:ea typeface="Baskerville Bold"/>
              </a:rPr>
              <a:t>The criteria of a good decalcifying ag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plete removal of calcium sal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bsence of damage to tissue, cells fibers or other constitu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n-impairing of subsequent stai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asonable speed of decal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583920"/>
            <a:ext cx="1101096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133e"/>
                </a:solidFill>
                <a:latin typeface="Copperplate Bold"/>
                <a:ea typeface="Copperplate Bold"/>
              </a:rPr>
              <a:t>The process of decalc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2360" y="3346560"/>
            <a:ext cx="11010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6858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election of the tissue bl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dequate or complete fixation of the tissue blo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ecalcification using the decalcifying sol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esting the end point of decalcification to get sure that it is complete (removal of calcium sal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eutralization of the acid using 5% lithium or sodium sulphate for 12-18 hours or by washing in running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228600">
              <a:lnSpc>
                <a:spcPct val="115000"/>
              </a:lnSpc>
              <a:spcBef>
                <a:spcPts val="1001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ashing in running tap water to remove the alkaline solutions used for neutralization to avoid interfering with stai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5943600" y="6184800"/>
            <a:ext cx="6134040" cy="2781360"/>
            <a:chOff x="5943600" y="6184800"/>
            <a:chExt cx="6134040" cy="2781360"/>
          </a:xfrm>
        </p:grpSpPr>
        <p:pic>
          <p:nvPicPr>
            <p:cNvPr id="482" name="" descr=""/>
            <p:cNvPicPr/>
            <p:nvPr/>
          </p:nvPicPr>
          <p:blipFill>
            <a:blip r:embed="rId2"/>
            <a:stretch/>
          </p:blipFill>
          <p:spPr>
            <a:xfrm>
              <a:off x="6299280" y="6540480"/>
              <a:ext cx="5410080" cy="20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5943600" y="6184800"/>
              <a:ext cx="6134040" cy="278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"/>
          <p:cNvGrpSpPr/>
          <p:nvPr/>
        </p:nvGrpSpPr>
        <p:grpSpPr>
          <a:xfrm>
            <a:off x="482760" y="419040"/>
            <a:ext cx="6197400" cy="2832120"/>
            <a:chOff x="482760" y="419040"/>
            <a:chExt cx="6197400" cy="2832120"/>
          </a:xfrm>
        </p:grpSpPr>
        <p:pic>
          <p:nvPicPr>
            <p:cNvPr id="485" name="" descr=""/>
            <p:cNvPicPr/>
            <p:nvPr/>
          </p:nvPicPr>
          <p:blipFill>
            <a:blip r:embed="rId4"/>
            <a:stretch/>
          </p:blipFill>
          <p:spPr>
            <a:xfrm>
              <a:off x="838080" y="774720"/>
              <a:ext cx="547164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5"/>
            <a:stretch/>
          </p:blipFill>
          <p:spPr>
            <a:xfrm>
              <a:off x="482760" y="419040"/>
              <a:ext cx="6197400" cy="283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"/>
          <p:cNvGrpSpPr/>
          <p:nvPr/>
        </p:nvGrpSpPr>
        <p:grpSpPr>
          <a:xfrm>
            <a:off x="3429000" y="3454560"/>
            <a:ext cx="6134040" cy="2832120"/>
            <a:chOff x="3429000" y="3454560"/>
            <a:chExt cx="6134040" cy="2832120"/>
          </a:xfrm>
        </p:grpSpPr>
        <p:pic>
          <p:nvPicPr>
            <p:cNvPr id="488" name="" descr=""/>
            <p:cNvPicPr/>
            <p:nvPr/>
          </p:nvPicPr>
          <p:blipFill>
            <a:blip r:embed="rId6"/>
            <a:stretch/>
          </p:blipFill>
          <p:spPr>
            <a:xfrm>
              <a:off x="3784680" y="3810240"/>
              <a:ext cx="54100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7"/>
            <a:stretch/>
          </p:blipFill>
          <p:spPr>
            <a:xfrm>
              <a:off x="3429000" y="3454560"/>
              <a:ext cx="6134040" cy="2832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787320" y="558720"/>
            <a:ext cx="6134040" cy="2781360"/>
            <a:chOff x="787320" y="558720"/>
            <a:chExt cx="6134040" cy="2781360"/>
          </a:xfrm>
        </p:grpSpPr>
        <p:pic>
          <p:nvPicPr>
            <p:cNvPr id="491" name="" descr=""/>
            <p:cNvPicPr/>
            <p:nvPr/>
          </p:nvPicPr>
          <p:blipFill>
            <a:blip r:embed="rId2"/>
            <a:stretch/>
          </p:blipFill>
          <p:spPr>
            <a:xfrm>
              <a:off x="1143000" y="914400"/>
              <a:ext cx="5410080" cy="20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" descr=""/>
            <p:cNvPicPr/>
            <p:nvPr/>
          </p:nvPicPr>
          <p:blipFill>
            <a:blip r:embed="rId3"/>
            <a:stretch/>
          </p:blipFill>
          <p:spPr>
            <a:xfrm>
              <a:off x="787320" y="558720"/>
              <a:ext cx="6134040" cy="278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"/>
          <p:cNvGrpSpPr/>
          <p:nvPr/>
        </p:nvGrpSpPr>
        <p:grpSpPr>
          <a:xfrm>
            <a:off x="3403440" y="3467160"/>
            <a:ext cx="6197760" cy="2806560"/>
            <a:chOff x="3403440" y="3467160"/>
            <a:chExt cx="6197760" cy="2806560"/>
          </a:xfrm>
        </p:grpSpPr>
        <p:pic>
          <p:nvPicPr>
            <p:cNvPr id="494" name="" descr=""/>
            <p:cNvPicPr/>
            <p:nvPr/>
          </p:nvPicPr>
          <p:blipFill>
            <a:blip r:embed="rId4"/>
            <a:stretch/>
          </p:blipFill>
          <p:spPr>
            <a:xfrm>
              <a:off x="3759120" y="3822840"/>
              <a:ext cx="5472000" cy="20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5"/>
            <a:stretch/>
          </p:blipFill>
          <p:spPr>
            <a:xfrm>
              <a:off x="3403440" y="3467160"/>
              <a:ext cx="6197760" cy="28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"/>
          <p:cNvGrpSpPr/>
          <p:nvPr/>
        </p:nvGrpSpPr>
        <p:grpSpPr>
          <a:xfrm>
            <a:off x="5981760" y="6426360"/>
            <a:ext cx="6197400" cy="2806560"/>
            <a:chOff x="5981760" y="6426360"/>
            <a:chExt cx="6197400" cy="2806560"/>
          </a:xfrm>
        </p:grpSpPr>
        <p:pic>
          <p:nvPicPr>
            <p:cNvPr id="497" name="" descr=""/>
            <p:cNvPicPr/>
            <p:nvPr/>
          </p:nvPicPr>
          <p:blipFill>
            <a:blip r:embed="rId6"/>
            <a:stretch/>
          </p:blipFill>
          <p:spPr>
            <a:xfrm>
              <a:off x="6337080" y="6782040"/>
              <a:ext cx="5471640" cy="20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7"/>
            <a:stretch/>
          </p:blipFill>
          <p:spPr>
            <a:xfrm>
              <a:off x="5981760" y="6426360"/>
              <a:ext cx="6197400" cy="2806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12880" y="583920"/>
            <a:ext cx="11188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28600" indent="-228600">
              <a:lnSpc>
                <a:spcPct val="115000"/>
              </a:lnSpc>
              <a:buClr>
                <a:srgbClr val="000000"/>
              </a:buClr>
              <a:buSzPct val="6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133e"/>
                </a:solidFill>
                <a:uFillTx/>
                <a:latin typeface="Copperplate Bold"/>
                <a:ea typeface="Copperplate Bold"/>
              </a:rPr>
              <a:t>Principle of tissue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7560" y="3054240"/>
            <a:ext cx="1203984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The aim of tissue processing is to embed the tissue in a solid mediu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merican Typewriter"/>
                <a:ea typeface="American Typewriter"/>
              </a:rPr>
              <a:t>firm enough to support</a:t>
            </a:r>
            <a:r>
              <a:rPr b="0" lang="en-US" sz="2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 the tissue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merican Typewriter"/>
                <a:ea typeface="American Typewriter"/>
              </a:rPr>
              <a:t>enable thin sections to be cu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- The most satisfactory embedding material for routine histology is paraffin wax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stages involve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. DEHYD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CLEA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3. IMPREGNATION OR INFILT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