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1308-82CA-4979-92A5-E63605F7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61D-B489-46A4-818D-793CDE13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79A-2CAB-4133-A478-7EC4B2A2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FFF-783F-476A-B8B5-D60B0DA3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6276-FF41-4329-9F36-C1D7386B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A613-5C2E-49CA-910A-77759818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A330-573B-4E66-8504-0AABAD52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8105-4180-4EC9-AE52-31E71B25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E8AB-0148-4B13-A8EA-974ABDE2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8BCC-39F0-4ADB-9BD5-854EC6A0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B891-4EB8-4E16-BC9D-FAB31A82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A35-33E9-4452-BEA7-B2008C8B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7BEE-E223-47D1-9519-5F2134BB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F894-6EA7-45EA-95C8-C46F691C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39EE-6AEB-44DE-B34D-DA1064F9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2B42-C630-43D2-8245-D77B90A6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B337-DBA3-43BD-A1B1-F10B4FAD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D11-C2A6-424C-83DD-F8893E84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1C0-6CFF-420C-8A6D-309138B7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EA2-4283-44FF-862B-D5E98363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4BB-A152-47AF-AF97-C847AAA2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408-3AA5-46DD-8CAD-DA36F751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FA1-FEE3-47E5-8BB6-4AF0A097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E64-3C33-4E25-B9A9-4C8E4547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A834-E1CB-4487-85C2-3BF581EE94B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2DBB-BA61-4293-8C6C-2CA40FFE86F0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332000" y="7920"/>
            <a:ext cx="750888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للخلايا المرستيميه صفات اهمها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صغيره</a:t>
            </a:r>
            <a:r>
              <a:rPr b="1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متساوية الاقطارفي المرستيم القمي ومستطيله في الانسجه المرستيميه الجانبي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نواتها كبير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جدارها سليلوزي رقي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فجوات صغير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قابله للانقسا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حدى مشتقات الخلايا المرستيميه تضاف للنسيج المستديم بعد تميزها بحيث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يتغير شكل الخلايا وحجمها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غير في تركيب الجدار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ظهور الفجوات الكبيره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قد يختفي البوتوبلازم في الخلايا الميته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5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راكم المواد الغذائيه والنواتج الايضيه 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6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فقد القابليه للانقسام.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Picture 5" descr="phot0028"/>
          <p:cNvPicPr/>
          <p:nvPr/>
        </p:nvPicPr>
        <p:blipFill>
          <a:blip r:embed="rId1"/>
          <a:stretch/>
        </p:blipFill>
        <p:spPr>
          <a:xfrm>
            <a:off x="0" y="907920"/>
            <a:ext cx="3600360" cy="2237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Longitudinal section of a corn root showing a (closed) type "/>
          <p:cNvPicPr/>
          <p:nvPr/>
        </p:nvPicPr>
        <p:blipFill>
          <a:blip r:embed="rId2"/>
          <a:stretch/>
        </p:blipFill>
        <p:spPr>
          <a:xfrm>
            <a:off x="3708360" y="1989000"/>
            <a:ext cx="3095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a\Desktop\New حقيبة 102 نبت النظري\مقرر 102 نبت العملي -مها\الانقسام الاختزالي (ميوزي) الإنقسام الغير مباشر (ميتوزي)ا\الإنقسام الغير مباشر (ميتوزي)ا\ميتوزي تمهيدي.jpg"/>
          <p:cNvPicPr/>
          <p:nvPr/>
        </p:nvPicPr>
        <p:blipFill>
          <a:blip r:embed="rId1"/>
          <a:stretch/>
        </p:blipFill>
        <p:spPr>
          <a:xfrm>
            <a:off x="324000" y="620640"/>
            <a:ext cx="3900240" cy="2925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a\Desktop\New حقيبة 102 نبت النظري\مقرر 102 نبت العملي -مها\الانقسام الاختزالي (ميوزي) الإنقسام الغير مباشر (ميتوزي)ا\الإنقسام الغير مباشر (ميتوزي)ا\ميتوزىتمهيدىوأستوائى.jpg"/>
          <p:cNvPicPr/>
          <p:nvPr/>
        </p:nvPicPr>
        <p:blipFill>
          <a:blip r:embed="rId2"/>
          <a:stretch/>
        </p:blipFill>
        <p:spPr>
          <a:xfrm>
            <a:off x="4932360" y="549360"/>
            <a:ext cx="3900600" cy="2925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Users\a\Desktop\New حقيبة 102 نبت النظري\مقرر 102 نبت العملي -مها\الانقسام الاختزالي (ميوزي) الإنقسام الغير مباشر (ميتوزي)ا\الإنقسام الغير مباشر (ميتوزي)ا\ميتوزىأنفصالىوأستوائى.jpg"/>
          <p:cNvPicPr/>
          <p:nvPr/>
        </p:nvPicPr>
        <p:blipFill>
          <a:blip r:embed="rId3"/>
          <a:stretch/>
        </p:blipFill>
        <p:spPr>
          <a:xfrm>
            <a:off x="395280" y="3716280"/>
            <a:ext cx="3902040" cy="2927520"/>
          </a:xfrm>
          <a:prstGeom prst="rect">
            <a:avLst/>
          </a:prstGeom>
          <a:ln w="0">
            <a:noFill/>
          </a:ln>
        </p:spPr>
      </p:pic>
      <p:cxnSp>
        <p:nvCxnSpPr>
          <p:cNvPr id="120" name="رابط كسهم مستقيم 5"/>
          <p:cNvCxnSpPr/>
          <p:nvPr/>
        </p:nvCxnSpPr>
        <p:spPr>
          <a:xfrm flipH="1">
            <a:off x="6084000" y="2276640"/>
            <a:ext cx="864360" cy="2016720"/>
          </a:xfrm>
          <a:prstGeom prst="straightConnector1">
            <a:avLst/>
          </a:prstGeom>
          <a:ln w="9360">
            <a:solidFill>
              <a:srgbClr val="2f9864"/>
            </a:solidFill>
            <a:miter/>
            <a:tailEnd len="med" type="arrow" w="med"/>
          </a:ln>
        </p:spPr>
      </p:cxnSp>
      <p:sp>
        <p:nvSpPr>
          <p:cNvPr id="121" name="مربع نص 6"/>
          <p:cNvSpPr/>
          <p:nvPr/>
        </p:nvSpPr>
        <p:spPr>
          <a:xfrm>
            <a:off x="5303520" y="4365720"/>
            <a:ext cx="18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طور ااستوائي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22" name="رابط كسهم مستقيم 8"/>
          <p:cNvCxnSpPr/>
          <p:nvPr/>
        </p:nvCxnSpPr>
        <p:spPr>
          <a:xfrm flipH="1">
            <a:off x="6442920" y="2421000"/>
            <a:ext cx="361080" cy="19454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123" name="رابط كسهم مستقيم 10"/>
          <p:cNvCxnSpPr/>
          <p:nvPr/>
        </p:nvCxnSpPr>
        <p:spPr>
          <a:xfrm>
            <a:off x="2987280" y="4723920"/>
            <a:ext cx="2521800" cy="10087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24" name="مربع نص 11"/>
          <p:cNvSpPr/>
          <p:nvPr/>
        </p:nvSpPr>
        <p:spPr>
          <a:xfrm>
            <a:off x="5115960" y="58770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طور انفصالي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2268360" y="2204640"/>
            <a:ext cx="2736000" cy="16563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26" name="مربع نص 14"/>
          <p:cNvSpPr/>
          <p:nvPr/>
        </p:nvSpPr>
        <p:spPr>
          <a:xfrm>
            <a:off x="4001400" y="39337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الطور التمهيدي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27" name="رابط كسهم مستقيم 16"/>
          <p:cNvCxnSpPr/>
          <p:nvPr/>
        </p:nvCxnSpPr>
        <p:spPr>
          <a:xfrm>
            <a:off x="8459640" y="1197000"/>
            <a:ext cx="145440" cy="3240720"/>
          </a:xfrm>
          <a:prstGeom prst="straightConnector1">
            <a:avLst/>
          </a:prstGeom>
          <a:ln w="9360">
            <a:solidFill>
              <a:srgbClr val="ffff9e"/>
            </a:solidFill>
            <a:miter/>
            <a:tailEnd len="med" type="arrow" w="med"/>
          </a:ln>
        </p:spPr>
      </p:cxnSp>
      <p:sp>
        <p:nvSpPr>
          <p:cNvPr id="128" name="مربع نص 17"/>
          <p:cNvSpPr/>
          <p:nvPr/>
        </p:nvSpPr>
        <p:spPr>
          <a:xfrm>
            <a:off x="7689240" y="4724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طور نهائي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مربع نص 18"/>
          <p:cNvSpPr/>
          <p:nvPr/>
        </p:nvSpPr>
        <p:spPr>
          <a:xfrm>
            <a:off x="6037920" y="6165720"/>
            <a:ext cx="34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59"/>
                </a:solidFill>
                <a:latin typeface="Verdana"/>
              </a:rPr>
              <a:t>الانقسام الميتوزي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684360" y="87480"/>
            <a:ext cx="8084880" cy="70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نواع المرستيمات او الانسجه الانشائيه 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5cffff"/>
                </a:solidFill>
                <a:uFillTx/>
                <a:latin typeface="Verdana"/>
              </a:rPr>
              <a:t>الرأي الاول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تنقسم المرستيمات او الانسجه الانشائيه  حسب الموقع الى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 او منشئات انسجه قميه . </a:t>
            </a:r>
            <a:r>
              <a:rPr b="1" lang="ar-SA" sz="1800" spc="-1" strike="noStrike">
                <a:solidFill>
                  <a:srgbClr val="ffffcc"/>
                </a:solidFill>
                <a:latin typeface="Verdana"/>
              </a:rPr>
              <a:t>قمم السيقان والجذور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 او منشئات انسجه بينيه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0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(الاغلفه الورقيه للنجيليات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، و الجزء القاعدي من نصل الورقه وقواعد السلاميات 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او منشئات انسجه جانبيه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.تقع موازيه للمحور الطولي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للعضو النباتي ( كامبيوم وعائي (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حزمي –بين حزمي)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، كامبيوم فليني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affff"/>
                </a:solidFill>
                <a:uFillTx/>
                <a:latin typeface="Verdana"/>
              </a:rPr>
              <a:t>الرأي الثاني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تنقسم المرستيمات او الانسجه الانشائيه حسب المنشأ الى :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ابتدائي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- مرستيم ثانوي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meristems2"/>
          <p:cNvPicPr/>
          <p:nvPr/>
        </p:nvPicPr>
        <p:blipFill>
          <a:blip r:embed="rId1"/>
          <a:stretch/>
        </p:blipFill>
        <p:spPr>
          <a:xfrm>
            <a:off x="0" y="260280"/>
            <a:ext cx="2881440" cy="6048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DSC00014"/>
          <p:cNvPicPr/>
          <p:nvPr/>
        </p:nvPicPr>
        <p:blipFill>
          <a:blip r:embed="rId2"/>
          <a:stretch/>
        </p:blipFill>
        <p:spPr>
          <a:xfrm>
            <a:off x="2987640" y="2852640"/>
            <a:ext cx="1841400" cy="2592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meristem over view"/>
          <p:cNvPicPr/>
          <p:nvPr/>
        </p:nvPicPr>
        <p:blipFill>
          <a:blip r:embed="rId3"/>
          <a:stretch/>
        </p:blipFill>
        <p:spPr>
          <a:xfrm>
            <a:off x="4859280" y="2852640"/>
            <a:ext cx="2021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8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611280" y="220680"/>
            <a:ext cx="772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تركيب المنشئات القميه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affff"/>
                </a:solidFill>
                <a:uFillTx/>
                <a:latin typeface="Verdana"/>
              </a:rPr>
              <a:t>قمة المجموع الخضري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1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- نظرية الخليه القميه 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Apical cell theory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:ـ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وجد في قمة المجموع الخضري او الجذري لبعض النباتات  الغير وعائيه ىخليه قميه واحده تمثل النسيج الانشائي  أي تقوم بانشاء جميع خلايا العضو النباتي او انسجته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5" descr="نظرية الخليه القميه - قمة طحلب الدكتيوتا"/>
          <p:cNvPicPr/>
          <p:nvPr/>
        </p:nvPicPr>
        <p:blipFill>
          <a:blip r:embed="rId1"/>
          <a:stretch/>
        </p:blipFill>
        <p:spPr>
          <a:xfrm>
            <a:off x="0" y="2852640"/>
            <a:ext cx="3630600" cy="3602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958480" y="63961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طحلب الدكتيوتا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7" descr="Dictyota"/>
          <p:cNvPicPr/>
          <p:nvPr/>
        </p:nvPicPr>
        <p:blipFill>
          <a:blip r:embed="rId2"/>
          <a:stretch/>
        </p:blipFill>
        <p:spPr>
          <a:xfrm>
            <a:off x="5003640" y="2897280"/>
            <a:ext cx="4140360" cy="3960720"/>
          </a:xfrm>
          <a:prstGeom prst="rect">
            <a:avLst/>
          </a:prstGeom>
          <a:ln w="0">
            <a:noFill/>
          </a:ln>
        </p:spPr>
      </p:pic>
      <p:cxnSp>
        <p:nvCxnSpPr>
          <p:cNvPr id="138" name="رابط كسهم مستقيم 8"/>
          <p:cNvCxnSpPr/>
          <p:nvPr/>
        </p:nvCxnSpPr>
        <p:spPr>
          <a:xfrm flipH="1" flipV="1">
            <a:off x="4571640" y="3212640"/>
            <a:ext cx="937440" cy="2880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9" name="مربع نص 9"/>
          <p:cNvSpPr/>
          <p:nvPr/>
        </p:nvSpPr>
        <p:spPr>
          <a:xfrm>
            <a:off x="3693960" y="29242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خليه قميه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40" name="رابط كسهم مستقيم 12"/>
          <p:cNvCxnSpPr/>
          <p:nvPr/>
        </p:nvCxnSpPr>
        <p:spPr>
          <a:xfrm flipH="1" flipV="1">
            <a:off x="4716000" y="3212640"/>
            <a:ext cx="3385440" cy="2167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908000" y="474840"/>
            <a:ext cx="66646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2</a:t>
            </a: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- نظرية المناطق الخلويه:ـ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  </a:t>
            </a: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Cytologic zone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ar-SA" sz="2000" spc="-1" strike="noStrike" u="sng">
                <a:solidFill>
                  <a:srgbClr val="eaeaea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affff"/>
                </a:solidFill>
                <a:latin typeface="Verdana"/>
              </a:rPr>
              <a:t>   يقسم النسيج الانشائي الى مناطق 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نطقه محوريه بعيده -  القميه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نطقه خارجيه -  تتميز الى بشره والنسيج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الاساسي ما عدا النخاع والاسطوانه الوعائي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وبدايات الاوراق  والبراعم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buClr>
                <a:srgbClr val="eaeae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نطقه داخليه – المحوري -   تتميز الى نخا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11"/>
          <p:cNvPicPr/>
          <p:nvPr/>
        </p:nvPicPr>
        <p:blipFill>
          <a:blip r:embed="rId1"/>
          <a:stretch/>
        </p:blipFill>
        <p:spPr>
          <a:xfrm>
            <a:off x="0" y="234936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-852480" y="6237360"/>
            <a:ext cx="726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ق.ط في القمة الانشائيه لساق نبات الجنكو- عاريات البذور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DSC00017"/>
          <p:cNvPicPr/>
          <p:nvPr/>
        </p:nvPicPr>
        <p:blipFill>
          <a:blip r:embed="rId2"/>
          <a:stretch/>
        </p:blipFill>
        <p:spPr>
          <a:xfrm>
            <a:off x="5219640" y="2852640"/>
            <a:ext cx="371952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468360" y="27288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3</a:t>
            </a:r>
            <a:r>
              <a:rPr b="1" lang="ar-SA" sz="2400" spc="-1" strike="noStrike" u="sng">
                <a:solidFill>
                  <a:srgbClr val="eaeaea"/>
                </a:solidFill>
                <a:uFillTx/>
                <a:latin typeface="Verdana"/>
              </a:rPr>
              <a:t>- نظرية الغطاء و الجسد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Tunica- corpus theory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2582640" y="6165720"/>
            <a:ext cx="396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59"/>
                </a:solidFill>
                <a:latin typeface="Verdana"/>
              </a:rPr>
              <a:t>ق.ط في القمه الانشائيه لساق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59"/>
                </a:solidFill>
                <a:latin typeface="Verdana"/>
              </a:rPr>
              <a:t>الفول- كاسيات بذور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9" descr="Meristem 4"/>
          <p:cNvPicPr/>
          <p:nvPr/>
        </p:nvPicPr>
        <p:blipFill>
          <a:blip r:embed="rId1"/>
          <a:stretch/>
        </p:blipFill>
        <p:spPr>
          <a:xfrm>
            <a:off x="6156360" y="2970360"/>
            <a:ext cx="2987640" cy="38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Meristem 2"/>
          <p:cNvPicPr/>
          <p:nvPr/>
        </p:nvPicPr>
        <p:blipFill>
          <a:blip r:embed="rId2"/>
          <a:stretch/>
        </p:blipFill>
        <p:spPr>
          <a:xfrm>
            <a:off x="0" y="2844720"/>
            <a:ext cx="3348000" cy="4013280"/>
          </a:xfrm>
          <a:prstGeom prst="rect">
            <a:avLst/>
          </a:prstGeom>
          <a:ln w="0">
            <a:noFill/>
          </a:ln>
        </p:spPr>
      </p:pic>
      <p:sp>
        <p:nvSpPr>
          <p:cNvPr id="149" name="مربع نص 7"/>
          <p:cNvSpPr/>
          <p:nvPr/>
        </p:nvSpPr>
        <p:spPr>
          <a:xfrm>
            <a:off x="0" y="83664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تتركب  القمه في نباتات كاسيات البذور من منطقتين  </a:t>
            </a:r>
            <a:r>
              <a:rPr b="1" lang="ar-SA" sz="2000" spc="-1" strike="noStrike">
                <a:solidFill>
                  <a:srgbClr val="ffff59"/>
                </a:solidFill>
                <a:latin typeface="Verdana"/>
              </a:rPr>
              <a:t>هما الغطاء والجسد  </a:t>
            </a: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وتختلف منطقة الغطاء  بين النباتات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بحيث قد تكون طبقتين كما في ساق الفول  او طبقه واحده مثل ساق  الذره  ، وتنقسم خلاياها بشكل عمودي على السطح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وغالبا ما تتكون البشره من الطبقه الخارجيه للغطاء </a:t>
            </a: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اما خلايا الجسد يكون باقي الخلايا الانشائيه في القمه  بحيث تنقسم خلاياه في جميع الاتجاهات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aeaea"/>
                </a:solidFill>
                <a:latin typeface="Verdana"/>
              </a:rPr>
              <a:t>و يشترك الغطاء والجسد في تكوين الانسجه في جسم النبات .</a:t>
            </a:r>
            <a:r>
              <a:rPr b="0" lang="ar-SA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0" name="رابط كسهم مستقيم 9"/>
          <p:cNvCxnSpPr/>
          <p:nvPr/>
        </p:nvCxnSpPr>
        <p:spPr>
          <a:xfrm flipH="1" flipV="1">
            <a:off x="5434920" y="4365000"/>
            <a:ext cx="1873800" cy="935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1" name="مربع نص 10"/>
          <p:cNvSpPr/>
          <p:nvPr/>
        </p:nvSpPr>
        <p:spPr>
          <a:xfrm>
            <a:off x="4584600" y="378936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غطاء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2" name="رابط كسهم مستقيم 12"/>
          <p:cNvCxnSpPr/>
          <p:nvPr/>
        </p:nvCxnSpPr>
        <p:spPr>
          <a:xfrm flipH="1">
            <a:off x="5147640" y="5589360"/>
            <a:ext cx="2377080" cy="432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3" name="مربع نص 13"/>
          <p:cNvSpPr/>
          <p:nvPr/>
        </p:nvSpPr>
        <p:spPr>
          <a:xfrm>
            <a:off x="3922560" y="56610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الجسد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4" name="رابط كسهم مستقيم 15"/>
          <p:cNvCxnSpPr/>
          <p:nvPr/>
        </p:nvCxnSpPr>
        <p:spPr>
          <a:xfrm flipV="1">
            <a:off x="1692000" y="4149000"/>
            <a:ext cx="2951640" cy="1151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5" name="رابط كسهم مستقيم 17"/>
          <p:cNvCxnSpPr>
            <a:endCxn id="153" idx="1"/>
          </p:cNvCxnSpPr>
          <p:nvPr/>
        </p:nvCxnSpPr>
        <p:spPr>
          <a:xfrm>
            <a:off x="1763640" y="5516280"/>
            <a:ext cx="2323440" cy="376920"/>
          </a:xfrm>
          <a:prstGeom prst="straightConnector1">
            <a:avLst/>
          </a:prstGeom>
          <a:ln w="9360">
            <a:solidFill>
              <a:srgbClr val="ffff5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Tunica &amp; Corpus"/>
          <p:cNvPicPr/>
          <p:nvPr/>
        </p:nvPicPr>
        <p:blipFill>
          <a:blip r:embed="rId1"/>
          <a:stretch/>
        </p:blipFill>
        <p:spPr>
          <a:xfrm>
            <a:off x="0" y="1052640"/>
            <a:ext cx="3430440" cy="4105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Tunica &amp; Corpus 2"/>
          <p:cNvPicPr/>
          <p:nvPr/>
        </p:nvPicPr>
        <p:blipFill>
          <a:blip r:embed="rId2"/>
          <a:stretch/>
        </p:blipFill>
        <p:spPr>
          <a:xfrm>
            <a:off x="3924360" y="981000"/>
            <a:ext cx="5091120" cy="4549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-133200" y="6165720"/>
            <a:ext cx="82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59"/>
                </a:solidFill>
                <a:latin typeface="Verdana"/>
              </a:rPr>
              <a:t>ق.ط في القمه الانشائيه لساق نبات زهرة الغمد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9" name="رابط كسهم مستقيم 7"/>
          <p:cNvCxnSpPr/>
          <p:nvPr/>
        </p:nvCxnSpPr>
        <p:spPr>
          <a:xfrm flipH="1" flipV="1">
            <a:off x="4858560" y="548640"/>
            <a:ext cx="1297800" cy="719640"/>
          </a:xfrm>
          <a:prstGeom prst="straightConnector1">
            <a:avLst/>
          </a:prstGeom>
          <a:ln w="9360">
            <a:solidFill>
              <a:srgbClr val="ffff59"/>
            </a:solidFill>
            <a:miter/>
            <a:tailEnd len="med" type="arrow" w="med"/>
          </a:ln>
        </p:spPr>
      </p:cxnSp>
      <p:sp>
        <p:nvSpPr>
          <p:cNvPr id="160" name="مربع نص 8"/>
          <p:cNvSpPr/>
          <p:nvPr/>
        </p:nvSpPr>
        <p:spPr>
          <a:xfrm>
            <a:off x="3792600" y="2602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غطاء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61" name="رابط كسهم مستقيم 10"/>
          <p:cNvCxnSpPr/>
          <p:nvPr/>
        </p:nvCxnSpPr>
        <p:spPr>
          <a:xfrm flipH="1">
            <a:off x="5148000" y="4941720"/>
            <a:ext cx="1224720" cy="936000"/>
          </a:xfrm>
          <a:prstGeom prst="straightConnector1">
            <a:avLst/>
          </a:prstGeom>
          <a:ln w="9360">
            <a:solidFill>
              <a:srgbClr val="ffff59"/>
            </a:solidFill>
            <a:miter/>
            <a:tailEnd len="med" type="arrow" w="med"/>
          </a:ln>
        </p:spPr>
      </p:cxnSp>
      <p:sp>
        <p:nvSpPr>
          <p:cNvPr id="162" name="مربع نص 11"/>
          <p:cNvSpPr/>
          <p:nvPr/>
        </p:nvSpPr>
        <p:spPr>
          <a:xfrm>
            <a:off x="4148280" y="580536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الجسد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4:30:12Z</dcterms:created>
  <dc:creator>HELP</dc:creator>
  <dc:description/>
  <dc:language>en-US</dc:language>
  <cp:lastModifiedBy>a</cp:lastModifiedBy>
  <dcterms:modified xsi:type="dcterms:W3CDTF">2016-10-18T15:36:34Z</dcterms:modified>
  <cp:revision>44</cp:revision>
  <dc:subject/>
  <dc:title>الشريحة 1</dc:title>
</cp:coreProperties>
</file>