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77D-C404-45F3-9B42-2AF9AC63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522-0C92-4BA7-879A-466F1C0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75F-59CB-48E2-A485-1444347C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EDB-95F6-4AAE-A5F4-1E03549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7A9C-E1D1-42C6-927A-923061C9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B92B-D75C-4874-B838-E6AC35C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2C92-0D76-4A9F-840D-06983C70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9B4-0129-45F8-AB10-5327D41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3360-1C75-4600-9799-1CB3505D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0C7E-8987-468E-A7DA-58D3055B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95F-CAB9-436F-B613-83EB1F75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E93-3C26-46C9-9ECA-8D5E019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64EA-DF19-4BDE-BE05-7F7BCDE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92AD-F998-4212-9778-16329C4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73F-3640-4CEE-B27E-B2DCE9CD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341C-7AD9-42A9-9A41-129A4DA6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EA51-6C36-4085-B6E8-6FAE7E1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F08-C375-452A-BFDE-7857D008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BAC-C64C-4516-82D3-DF50B08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91B-3D5A-4C37-9E67-F21E6829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BEB-A84A-4063-94F9-F2C75733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E9D-673C-47AD-B566-7FD25F3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B23-617E-4F54-990E-5A981C5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E42-DB9F-4B5A-B9C2-DCACC0A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38F-DD3D-4A24-867B-B6441E8CB56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F6E9-4E28-46CD-BABA-60E074BD31F3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332000" y="7920"/>
            <a:ext cx="750888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للخلايا المرستيميه صفات اهمها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صغيره</a:t>
            </a: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تساوية الاقطارفي المرستيم القمي ومستطيله في الانسجه المرستيميه الجانبي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واتها كبير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جدارها سليلوزي رقي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جوات صغير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ابله للانقسا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حدى مشتقات الخلايا المرستيميه تضاف للنسيج المستديم بعد تميزها بحيث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يتغير شكل الخلايا وحجمها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ير في تركيب الجدار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ظهور الفجوات الكبير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د يختفي البوتوبلازم في الخلايا الميت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راكم المواد الغذائيه والنواتج الايضيه 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قد القابليه للانقسام.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5" descr="phot0028"/>
          <p:cNvPicPr/>
          <p:nvPr/>
        </p:nvPicPr>
        <p:blipFill>
          <a:blip r:embed="rId1"/>
          <a:stretch/>
        </p:blipFill>
        <p:spPr>
          <a:xfrm>
            <a:off x="0" y="907920"/>
            <a:ext cx="3600360" cy="223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Longitudinal section of a corn root showing a (closed) type "/>
          <p:cNvPicPr/>
          <p:nvPr/>
        </p:nvPicPr>
        <p:blipFill>
          <a:blip r:embed="rId2"/>
          <a:stretch/>
        </p:blipFill>
        <p:spPr>
          <a:xfrm>
            <a:off x="3708360" y="198900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ي تمهيدي.jpg"/>
          <p:cNvPicPr/>
          <p:nvPr/>
        </p:nvPicPr>
        <p:blipFill>
          <a:blip r:embed="rId1"/>
          <a:stretch/>
        </p:blipFill>
        <p:spPr>
          <a:xfrm>
            <a:off x="324000" y="620640"/>
            <a:ext cx="3900240" cy="292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ىتمهيدىوأستوائى.jpg"/>
          <p:cNvPicPr/>
          <p:nvPr/>
        </p:nvPicPr>
        <p:blipFill>
          <a:blip r:embed="rId2"/>
          <a:stretch/>
        </p:blipFill>
        <p:spPr>
          <a:xfrm>
            <a:off x="4932360" y="549360"/>
            <a:ext cx="3900600" cy="292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ىأنفصالىوأستوائى.jpg"/>
          <p:cNvPicPr/>
          <p:nvPr/>
        </p:nvPicPr>
        <p:blipFill>
          <a:blip r:embed="rId3"/>
          <a:stretch/>
        </p:blipFill>
        <p:spPr>
          <a:xfrm>
            <a:off x="395280" y="3716280"/>
            <a:ext cx="3902040" cy="2927520"/>
          </a:xfrm>
          <a:prstGeom prst="rect">
            <a:avLst/>
          </a:prstGeom>
          <a:ln w="0">
            <a:noFill/>
          </a:ln>
        </p:spPr>
      </p:pic>
      <p:cxnSp>
        <p:nvCxnSpPr>
          <p:cNvPr id="120" name="رابط كسهم مستقيم 5"/>
          <p:cNvCxnSpPr/>
          <p:nvPr/>
        </p:nvCxnSpPr>
        <p:spPr>
          <a:xfrm flipH="1">
            <a:off x="6084000" y="2276640"/>
            <a:ext cx="864360" cy="2016720"/>
          </a:xfrm>
          <a:prstGeom prst="straightConnector1">
            <a:avLst/>
          </a:prstGeom>
          <a:ln w="9360">
            <a:solidFill>
              <a:srgbClr val="2f9864"/>
            </a:solidFill>
            <a:miter/>
            <a:tailEnd len="med" type="arrow" w="med"/>
          </a:ln>
        </p:spPr>
      </p:cxnSp>
      <p:sp>
        <p:nvSpPr>
          <p:cNvPr id="121" name="مربع نص 6"/>
          <p:cNvSpPr/>
          <p:nvPr/>
        </p:nvSpPr>
        <p:spPr>
          <a:xfrm>
            <a:off x="5303520" y="436572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ااستوائي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2" name="رابط كسهم مستقيم 8"/>
          <p:cNvCxnSpPr/>
          <p:nvPr/>
        </p:nvCxnSpPr>
        <p:spPr>
          <a:xfrm flipH="1">
            <a:off x="6442920" y="2421000"/>
            <a:ext cx="361080" cy="19454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3" name="رابط كسهم مستقيم 10"/>
          <p:cNvCxnSpPr/>
          <p:nvPr/>
        </p:nvCxnSpPr>
        <p:spPr>
          <a:xfrm>
            <a:off x="2987280" y="4723920"/>
            <a:ext cx="2521800" cy="10087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24" name="مربع نص 11"/>
          <p:cNvSpPr/>
          <p:nvPr/>
        </p:nvSpPr>
        <p:spPr>
          <a:xfrm>
            <a:off x="5115960" y="5877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انفصال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2268360" y="2204640"/>
            <a:ext cx="2736000" cy="16563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26" name="مربع نص 14"/>
          <p:cNvSpPr/>
          <p:nvPr/>
        </p:nvSpPr>
        <p:spPr>
          <a:xfrm>
            <a:off x="4001400" y="3933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الطور التمهيد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7" name="رابط كسهم مستقيم 16"/>
          <p:cNvCxnSpPr/>
          <p:nvPr/>
        </p:nvCxnSpPr>
        <p:spPr>
          <a:xfrm>
            <a:off x="8459640" y="1197000"/>
            <a:ext cx="145440" cy="3240720"/>
          </a:xfrm>
          <a:prstGeom prst="straightConnector1">
            <a:avLst/>
          </a:prstGeom>
          <a:ln w="9360">
            <a:solidFill>
              <a:srgbClr val="ffff9e"/>
            </a:solidFill>
            <a:miter/>
            <a:tailEnd len="med" type="arrow" w="med"/>
          </a:ln>
        </p:spPr>
      </p:cxnSp>
      <p:sp>
        <p:nvSpPr>
          <p:cNvPr id="128" name="مربع نص 17"/>
          <p:cNvSpPr/>
          <p:nvPr/>
        </p:nvSpPr>
        <p:spPr>
          <a:xfrm>
            <a:off x="7689240" y="4724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نهائ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مربع نص 18"/>
          <p:cNvSpPr/>
          <p:nvPr/>
        </p:nvSpPr>
        <p:spPr>
          <a:xfrm>
            <a:off x="6037920" y="616572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59"/>
                </a:solidFill>
                <a:latin typeface="Verdana"/>
              </a:rPr>
              <a:t>الانقسام الميتوزي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84360" y="87480"/>
            <a:ext cx="8084880" cy="70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المرستيمات او الانسجه الانشائيه 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cffff"/>
                </a:solidFill>
                <a:uFillTx/>
                <a:latin typeface="Verdana"/>
              </a:rPr>
              <a:t>الرأي الاول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او الانسجه الانشائيه  حسب الموقع الى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 او منشئات انسجه قميه . </a:t>
            </a:r>
            <a:r>
              <a:rPr b="1" lang="ar-SA" sz="1800" spc="-1" strike="noStrike">
                <a:solidFill>
                  <a:srgbClr val="ffffcc"/>
                </a:solidFill>
                <a:latin typeface="Verdana"/>
              </a:rPr>
              <a:t>قمم السيقان والجذور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 او منشئات انسجه بيني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(الاغلفه الورقيه للنجيلي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و الجزء القاعدي من نصل الورقه وقواعد السلاميات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او منشئات انسجه جانبي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.تقع موازيه للمحور الطول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للعضو النباتي ( كامبيوم وعائي (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حزمي –بين حزمي)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كامبيوم فليني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affff"/>
                </a:solidFill>
                <a:uFillTx/>
                <a:latin typeface="Verdana"/>
              </a:rPr>
              <a:t>الرأي الثاني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او الانسجه الانشائيه حسب المنشأ الى :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ابتدائي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ثانوي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meristems2"/>
          <p:cNvPicPr/>
          <p:nvPr/>
        </p:nvPicPr>
        <p:blipFill>
          <a:blip r:embed="rId1"/>
          <a:stretch/>
        </p:blipFill>
        <p:spPr>
          <a:xfrm>
            <a:off x="0" y="260280"/>
            <a:ext cx="2881440" cy="604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DSC00014"/>
          <p:cNvPicPr/>
          <p:nvPr/>
        </p:nvPicPr>
        <p:blipFill>
          <a:blip r:embed="rId2"/>
          <a:stretch/>
        </p:blipFill>
        <p:spPr>
          <a:xfrm>
            <a:off x="2987640" y="285264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meristem over view"/>
          <p:cNvPicPr/>
          <p:nvPr/>
        </p:nvPicPr>
        <p:blipFill>
          <a:blip r:embed="rId3"/>
          <a:stretch/>
        </p:blipFill>
        <p:spPr>
          <a:xfrm>
            <a:off x="4859280" y="2852640"/>
            <a:ext cx="202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2" dur="500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611280" y="220680"/>
            <a:ext cx="772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تركيب المنشئات القمي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affff"/>
                </a:solidFill>
                <a:uFillTx/>
                <a:latin typeface="Verdana"/>
              </a:rPr>
              <a:t>قمة المجموع الخضري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1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- نظرية الخليه القميه 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Apical cell theory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: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وجد في قمة المجموع الخضري او الجذري لبعض النباتات  الغير وعائيه ىخليه قميه واحده تمثل النسيج الانشائي  أي تقوم بانشاء جميع خلايا العضو النباتي او انسجت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نظرية الخليه القميه - قمة طحلب الدكتيوتا"/>
          <p:cNvPicPr/>
          <p:nvPr/>
        </p:nvPicPr>
        <p:blipFill>
          <a:blip r:embed="rId1"/>
          <a:stretch/>
        </p:blipFill>
        <p:spPr>
          <a:xfrm>
            <a:off x="0" y="2852640"/>
            <a:ext cx="3630600" cy="3602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958480" y="63961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طحلب الدكتيوتا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7" descr="Dictyota"/>
          <p:cNvPicPr/>
          <p:nvPr/>
        </p:nvPicPr>
        <p:blipFill>
          <a:blip r:embed="rId2"/>
          <a:stretch/>
        </p:blipFill>
        <p:spPr>
          <a:xfrm>
            <a:off x="5003640" y="2897280"/>
            <a:ext cx="4140360" cy="3960720"/>
          </a:xfrm>
          <a:prstGeom prst="rect">
            <a:avLst/>
          </a:prstGeom>
          <a:ln w="0">
            <a:noFill/>
          </a:ln>
        </p:spPr>
      </p:pic>
      <p:cxnSp>
        <p:nvCxnSpPr>
          <p:cNvPr id="138" name="رابط كسهم مستقيم 8"/>
          <p:cNvCxnSpPr/>
          <p:nvPr/>
        </p:nvCxnSpPr>
        <p:spPr>
          <a:xfrm flipH="1" flipV="1">
            <a:off x="4571640" y="3212640"/>
            <a:ext cx="937440" cy="288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9" name="مربع نص 9"/>
          <p:cNvSpPr/>
          <p:nvPr/>
        </p:nvSpPr>
        <p:spPr>
          <a:xfrm>
            <a:off x="3693960" y="29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خليه قمي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0" name="رابط كسهم مستقيم 12"/>
          <p:cNvCxnSpPr/>
          <p:nvPr/>
        </p:nvCxnSpPr>
        <p:spPr>
          <a:xfrm flipH="1" flipV="1">
            <a:off x="4716000" y="3212640"/>
            <a:ext cx="3385440" cy="216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908000" y="474840"/>
            <a:ext cx="6664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2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- نظرية المناطق الخلويه:ـ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  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Cytologic zone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affff"/>
                </a:solidFill>
                <a:latin typeface="Verdana"/>
              </a:rPr>
              <a:t>   يقسم النسيج الانشائي الى مناطق 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محوريه بعيده -  القمي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خارجيه -  تتميز الى بشره والنسيج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لاساسي ما عدا النخاع والاسطوانه الوعائي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وبدايات الاوراق  والبراعم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داخليه – المحوري -   تتميز الى نخا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11"/>
          <p:cNvPicPr/>
          <p:nvPr/>
        </p:nvPicPr>
        <p:blipFill>
          <a:blip r:embed="rId1"/>
          <a:stretch/>
        </p:blipFill>
        <p:spPr>
          <a:xfrm>
            <a:off x="0" y="234936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-852480" y="623736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ق.ط في القمة الانشائيه لساق نبات الجنكو- عاريات البذور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DSC00017"/>
          <p:cNvPicPr/>
          <p:nvPr/>
        </p:nvPicPr>
        <p:blipFill>
          <a:blip r:embed="rId2"/>
          <a:stretch/>
        </p:blipFill>
        <p:spPr>
          <a:xfrm>
            <a:off x="5219640" y="2852640"/>
            <a:ext cx="3719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68360" y="27288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3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- نظرية الغطاء و الجسد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Tunica- corpus theory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582640" y="6165720"/>
            <a:ext cx="396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ق.ط في القمه الانشائيه لساق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الفول- كاسيات بذور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9" descr="Meristem 4"/>
          <p:cNvPicPr/>
          <p:nvPr/>
        </p:nvPicPr>
        <p:blipFill>
          <a:blip r:embed="rId1"/>
          <a:stretch/>
        </p:blipFill>
        <p:spPr>
          <a:xfrm>
            <a:off x="6156360" y="2970360"/>
            <a:ext cx="2987640" cy="38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Meristem 2"/>
          <p:cNvPicPr/>
          <p:nvPr/>
        </p:nvPicPr>
        <p:blipFill>
          <a:blip r:embed="rId2"/>
          <a:stretch/>
        </p:blipFill>
        <p:spPr>
          <a:xfrm>
            <a:off x="0" y="2844720"/>
            <a:ext cx="3348000" cy="401328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7"/>
          <p:cNvSpPr/>
          <p:nvPr/>
        </p:nvSpPr>
        <p:spPr>
          <a:xfrm>
            <a:off x="0" y="8366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تتركب  القمه في نباتات كاسيات البذور من منطقتين  </a:t>
            </a: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هما الغطاء والجسد 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وتختلف منطقة الغطاء  بين النباتات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بحيث قد تكون طبقتين كما في ساق الفول  او طبقه واحده مثل ساق  الذره  ، وتنقسم خلاياها بشكل عمودي على السطح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غالبا ما تتكون البشره من الطبقه الخارجيه للغطاء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اما خلايا الجسد يكون باقي الخلايا الانشائيه في القمه  بحيث تنقسم خلاياه في جميع الاتجاه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و يشترك الغطاء والجسد في تكوين الانسجه في جسم النبات .</a:t>
            </a: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0" name="رابط كسهم مستقيم 9"/>
          <p:cNvCxnSpPr/>
          <p:nvPr/>
        </p:nvCxnSpPr>
        <p:spPr>
          <a:xfrm flipH="1" flipV="1">
            <a:off x="5434920" y="4365000"/>
            <a:ext cx="1873800" cy="93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1" name="مربع نص 10"/>
          <p:cNvSpPr/>
          <p:nvPr/>
        </p:nvSpPr>
        <p:spPr>
          <a:xfrm>
            <a:off x="4584600" y="37893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غطاء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2" name="رابط كسهم مستقيم 12"/>
          <p:cNvCxnSpPr/>
          <p:nvPr/>
        </p:nvCxnSpPr>
        <p:spPr>
          <a:xfrm flipH="1">
            <a:off x="5147640" y="5589360"/>
            <a:ext cx="237708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3" name="مربع نص 13"/>
          <p:cNvSpPr/>
          <p:nvPr/>
        </p:nvSpPr>
        <p:spPr>
          <a:xfrm>
            <a:off x="3922560" y="56610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الجسد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4" name="رابط كسهم مستقيم 15"/>
          <p:cNvCxnSpPr/>
          <p:nvPr/>
        </p:nvCxnSpPr>
        <p:spPr>
          <a:xfrm flipV="1">
            <a:off x="1692000" y="4149000"/>
            <a:ext cx="2951640" cy="1151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5" name="رابط كسهم مستقيم 17"/>
          <p:cNvCxnSpPr>
            <a:endCxn id="153" idx="1"/>
          </p:cNvCxnSpPr>
          <p:nvPr/>
        </p:nvCxnSpPr>
        <p:spPr>
          <a:xfrm>
            <a:off x="1763640" y="5516280"/>
            <a:ext cx="2323440" cy="37692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Tunica &amp; Corpus"/>
          <p:cNvPicPr/>
          <p:nvPr/>
        </p:nvPicPr>
        <p:blipFill>
          <a:blip r:embed="rId1"/>
          <a:stretch/>
        </p:blipFill>
        <p:spPr>
          <a:xfrm>
            <a:off x="0" y="1052640"/>
            <a:ext cx="3430440" cy="41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Tunica &amp; Corpus 2"/>
          <p:cNvPicPr/>
          <p:nvPr/>
        </p:nvPicPr>
        <p:blipFill>
          <a:blip r:embed="rId2"/>
          <a:stretch/>
        </p:blipFill>
        <p:spPr>
          <a:xfrm>
            <a:off x="3924360" y="981000"/>
            <a:ext cx="5091120" cy="4549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-133200" y="616572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59"/>
                </a:solidFill>
                <a:latin typeface="Verdana"/>
              </a:rPr>
              <a:t>ق.ط في القمه الانشائيه لساق نبات زهرة الغمد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9" name="رابط كسهم مستقيم 7"/>
          <p:cNvCxnSpPr/>
          <p:nvPr/>
        </p:nvCxnSpPr>
        <p:spPr>
          <a:xfrm flipH="1" flipV="1">
            <a:off x="4858560" y="548640"/>
            <a:ext cx="1297800" cy="71964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  <p:sp>
        <p:nvSpPr>
          <p:cNvPr id="160" name="مربع نص 8"/>
          <p:cNvSpPr/>
          <p:nvPr/>
        </p:nvSpPr>
        <p:spPr>
          <a:xfrm>
            <a:off x="3792600" y="260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غطاء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61" name="رابط كسهم مستقيم 10"/>
          <p:cNvCxnSpPr/>
          <p:nvPr/>
        </p:nvCxnSpPr>
        <p:spPr>
          <a:xfrm flipH="1">
            <a:off x="5148000" y="4941720"/>
            <a:ext cx="1224720" cy="93600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  <p:sp>
        <p:nvSpPr>
          <p:cNvPr id="162" name="مربع نص 11"/>
          <p:cNvSpPr/>
          <p:nvPr/>
        </p:nvSpPr>
        <p:spPr>
          <a:xfrm>
            <a:off x="4148280" y="580536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لجسد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0:12Z</dcterms:created>
  <dc:creator>HELP</dc:creator>
  <dc:description/>
  <dc:language>en-US</dc:language>
  <cp:lastModifiedBy>a</cp:lastModifiedBy>
  <dcterms:modified xsi:type="dcterms:W3CDTF">2016-10-18T15:36:34Z</dcterms:modified>
  <cp:revision>44</cp:revision>
  <dc:subject/>
  <dc:title>الشريحة 1</dc:title>
</cp:coreProperties>
</file>