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5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CEC8-588A-4F8B-AC86-B2635CEBA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52B3-F182-4D04-8B24-38B25FDD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16E9-2835-4D0A-9B18-F2B56A2EA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F670-DF4A-46D4-8F4A-0CFC596AD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7BF8-4F2A-4546-9083-633E49FBC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11A7-C1D3-479E-931E-EA7CA3CC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C40F-0A43-4DD1-BDB0-450FD1A29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1897-52C6-4CE1-BD6C-530F9B59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4159-BA01-472B-ACE7-B6FB08B85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D88E-D4A7-4CF1-B5A4-6CED147D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69D6-6D77-4B0E-9BDC-B0AC0867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2F97-C225-4E16-B80A-1BDDAF43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F928C-FACA-4905-9097-0A11EAB92391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ff3300"/>
                </a:solidFill>
                <a:uFillTx/>
                <a:latin typeface="Tahoma"/>
              </a:rPr>
              <a:t>الانسجه المستديمه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42" name="Organization Chart 7"/>
          <p:cNvGrpSpPr/>
          <p:nvPr/>
        </p:nvGrpSpPr>
        <p:grpSpPr>
          <a:xfrm>
            <a:off x="431640" y="1941480"/>
            <a:ext cx="8208360" cy="4102200"/>
            <a:chOff x="431640" y="1941480"/>
            <a:chExt cx="8208360" cy="4102200"/>
          </a:xfrm>
        </p:grpSpPr>
        <p:cxnSp>
          <p:nvCxnSpPr>
            <p:cNvPr id="43" name="_s1028"/>
            <p:cNvCxnSpPr>
              <a:stCxn id="44" idx="0"/>
              <a:endCxn id="45" idx="3"/>
            </p:cNvCxnSpPr>
            <p:nvPr/>
          </p:nvCxnSpPr>
          <p:spPr>
            <a:xfrm flipV="1" rot="16200000">
              <a:off x="5503320" y="2491200"/>
              <a:ext cx="820800" cy="3002760"/>
            </a:xfrm>
            <a:prstGeom prst="bentConnector3">
              <a:avLst>
                <a:gd name="adj1" fmla="val 49978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46" name="_s1029"/>
            <p:cNvCxnSpPr>
              <a:stCxn id="47" idx="0"/>
              <a:endCxn id="45" idx="3"/>
            </p:cNvCxnSpPr>
            <p:nvPr/>
          </p:nvCxnSpPr>
          <p:spPr>
            <a:xfrm flipV="1" rot="16200000">
              <a:off x="4064400" y="3929760"/>
              <a:ext cx="820800" cy="125280"/>
            </a:xfrm>
            <a:prstGeom prst="bentConnector3">
              <a:avLst>
                <a:gd name="adj1" fmla="val 49978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48" name="_s1030"/>
            <p:cNvCxnSpPr>
              <a:stCxn id="49" idx="0"/>
              <a:endCxn id="45" idx="3"/>
            </p:cNvCxnSpPr>
            <p:nvPr/>
          </p:nvCxnSpPr>
          <p:spPr>
            <a:xfrm flipH="1" flipV="1" rot="5400000">
              <a:off x="2671200" y="2661840"/>
              <a:ext cx="820800" cy="2661480"/>
            </a:xfrm>
            <a:prstGeom prst="bentConnector3">
              <a:avLst>
                <a:gd name="adj1" fmla="val 49978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45" name="_s1031"/>
            <p:cNvSpPr/>
            <p:nvPr/>
          </p:nvSpPr>
          <p:spPr>
            <a:xfrm>
              <a:off x="2196000" y="1941480"/>
              <a:ext cx="4609080" cy="16408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999">
                    <a:alpha val="40000"/>
                  </a:srgbClr>
                </a:gs>
                <a:gs pos="100000">
                  <a:srgbClr val="2b5481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900" spc="-1" strike="noStrike">
                  <a:solidFill>
                    <a:srgbClr val="ffff00"/>
                  </a:solidFill>
                  <a:latin typeface="Tahoma"/>
                </a:rPr>
                <a:t>مجموعه من الخلايا المتميزه </a:t>
              </a:r>
              <a:endParaRPr b="0" lang="en-US" sz="29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900" spc="-1" strike="noStrike">
                  <a:solidFill>
                    <a:srgbClr val="ffff00"/>
                  </a:solidFill>
                  <a:latin typeface="Tahoma"/>
                </a:rPr>
                <a:t>او</a:t>
              </a:r>
              <a:endParaRPr b="0" lang="en-US" sz="29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900" spc="-1" strike="noStrike">
                  <a:solidFill>
                    <a:srgbClr val="ffff00"/>
                  </a:solidFill>
                  <a:latin typeface="Tahoma"/>
                </a:rPr>
                <a:t> المتخصصه</a:t>
              </a:r>
              <a:endParaRPr b="0" lang="en-US" sz="2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" name="_s1032"/>
            <p:cNvSpPr/>
            <p:nvPr/>
          </p:nvSpPr>
          <p:spPr>
            <a:xfrm>
              <a:off x="431640" y="4402800"/>
              <a:ext cx="2462400" cy="16408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6699">
                    <a:alpha val="40000"/>
                  </a:srgbClr>
                </a:gs>
                <a:gs pos="100000">
                  <a:srgbClr val="2b5481"/>
                </a:gs>
              </a:gsLst>
              <a:lin ang="5400000"/>
            </a:gra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900" spc="-1" strike="noStrike">
                  <a:solidFill>
                    <a:srgbClr val="ffffff"/>
                  </a:solidFill>
                  <a:latin typeface="Tahoma"/>
                </a:rPr>
                <a:t>نسيج وعائي</a:t>
              </a:r>
              <a:endParaRPr b="0" lang="en-US" sz="29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00"/>
                  </a:solidFill>
                  <a:latin typeface="Tahoma"/>
                </a:rPr>
                <a:t>(خشب+ لحاء)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" name="_s1033"/>
            <p:cNvSpPr/>
            <p:nvPr/>
          </p:nvSpPr>
          <p:spPr>
            <a:xfrm>
              <a:off x="3130560" y="4402800"/>
              <a:ext cx="2636280" cy="16408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6699">
                    <a:alpha val="40000"/>
                  </a:srgbClr>
                </a:gs>
                <a:gs pos="100000">
                  <a:srgbClr val="2b5481"/>
                </a:gs>
              </a:gsLst>
              <a:lin ang="5400000"/>
            </a:gra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900" spc="-1" strike="noStrike">
                  <a:solidFill>
                    <a:srgbClr val="ffffff"/>
                  </a:solidFill>
                  <a:latin typeface="Tahoma"/>
                </a:rPr>
                <a:t>نسيج اساسي</a:t>
              </a:r>
              <a:endParaRPr b="0" lang="en-US" sz="29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100" spc="-1" strike="noStrike">
                  <a:solidFill>
                    <a:srgbClr val="ffff00"/>
                  </a:solidFill>
                  <a:latin typeface="Tahoma"/>
                </a:rPr>
                <a:t>(برنشيمي + كولنشيمي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100" spc="-1" strike="noStrike">
                  <a:solidFill>
                    <a:srgbClr val="ffff00"/>
                  </a:solidFill>
                  <a:latin typeface="Tahoma"/>
                </a:rPr>
                <a:t>سكلرنشيمي)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" name="_s1034"/>
            <p:cNvSpPr/>
            <p:nvPr/>
          </p:nvSpPr>
          <p:spPr>
            <a:xfrm>
              <a:off x="6012720" y="4402800"/>
              <a:ext cx="2627280" cy="16408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6699">
                    <a:alpha val="40000"/>
                  </a:srgbClr>
                </a:gs>
                <a:gs pos="100000">
                  <a:srgbClr val="2b5481"/>
                </a:gs>
              </a:gsLst>
              <a:lin ang="5400000"/>
            </a:gra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900" spc="-1" strike="noStrike">
                  <a:solidFill>
                    <a:srgbClr val="ffffff"/>
                  </a:solidFill>
                  <a:latin typeface="Tahoma"/>
                </a:rPr>
                <a:t>نسيج وقائي</a:t>
              </a:r>
              <a:endParaRPr b="0" lang="en-US" sz="29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500" spc="-1" strike="noStrike">
                  <a:solidFill>
                    <a:srgbClr val="ffff00"/>
                  </a:solidFill>
                  <a:latin typeface="Tahoma"/>
                </a:rPr>
                <a:t>(بشره  ،، بريديرم)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112680" y="5373720"/>
            <a:ext cx="86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ahoma"/>
              </a:rPr>
              <a:t>4</a:t>
            </a:r>
            <a:r>
              <a:rPr b="1" lang="ar-SA" sz="2400" spc="-1" strike="noStrike">
                <a:solidFill>
                  <a:srgbClr val="ffff00"/>
                </a:solidFill>
                <a:latin typeface="Tahoma"/>
              </a:rPr>
              <a:t>- ثغر يحاط بخليتين مساعدتين على جانبي الخلايا الحارسه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1" name="Picture 5" descr="DSC00034"/>
          <p:cNvPicPr/>
          <p:nvPr/>
        </p:nvPicPr>
        <p:blipFill>
          <a:blip r:embed="rId1"/>
          <a:stretch/>
        </p:blipFill>
        <p:spPr>
          <a:xfrm>
            <a:off x="1403280" y="260280"/>
            <a:ext cx="636768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4793040" y="309600"/>
            <a:ext cx="425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 u="sng">
                <a:solidFill>
                  <a:srgbClr val="ffff00"/>
                </a:solidFill>
                <a:uFillTx/>
                <a:latin typeface="Tahoma"/>
              </a:rPr>
              <a:t>الشعيرات:ـ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0" y="141300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زوائد من خلايا البشره قد تكون على شكل غده ، حراشف ، اشواك او زوائد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وهي امتداد لخلايا البشره وجدرها رقيقه سليلوزيه وقد تكون ذات جدر ثانويه ملجننه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وهي عباره  عن تحورات  في احدى خلايا البشره ، وقد تنشأ هذه الزوائد من طبقة البشره فقط او من طبقة البشره او الطبقه تحت البشره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7194960" y="3627360"/>
            <a:ext cx="217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قد تكون :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-777960" y="4365720"/>
            <a:ext cx="996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9900"/>
                </a:solidFill>
                <a:latin typeface="Tahoma"/>
              </a:rPr>
              <a:t>وحيدة الخليه ، او عديدة الخلايا وتستخدم في تعريف النبات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4606920" y="0"/>
            <a:ext cx="507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ffff00"/>
                </a:solidFill>
                <a:uFillTx/>
                <a:latin typeface="Tahoma"/>
              </a:rPr>
              <a:t>اقسام الشعيرات: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5818320" y="836640"/>
            <a:ext cx="291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3300"/>
                </a:solidFill>
                <a:latin typeface="Tahoma"/>
              </a:rPr>
              <a:t>1</a:t>
            </a:r>
            <a:r>
              <a:rPr b="1" lang="ar-SA" sz="4000" spc="-1" strike="noStrike">
                <a:solidFill>
                  <a:srgbClr val="ff3300"/>
                </a:solidFill>
                <a:latin typeface="Tahoma"/>
              </a:rPr>
              <a:t>- لا غديه:ـ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-181080" y="1413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توجد على السيقان والاوراق  والجذور  والازهار ، وقد تبقى خلايا حيه او تفقد بروتوبلازمها وتصبح لامعه ناصله وقد تبقى على جسم النبات طوال فترة حياته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7" descr="شعيره لاغديه وحيدة الخليه"/>
          <p:cNvPicPr/>
          <p:nvPr/>
        </p:nvPicPr>
        <p:blipFill>
          <a:blip r:embed="rId1"/>
          <a:stretch/>
        </p:blipFill>
        <p:spPr>
          <a:xfrm>
            <a:off x="250920" y="2781360"/>
            <a:ext cx="4897440" cy="36734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8"/>
          <p:cNvSpPr/>
          <p:nvPr/>
        </p:nvSpPr>
        <p:spPr>
          <a:xfrm>
            <a:off x="3492360" y="2349360"/>
            <a:ext cx="31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Tahoma"/>
              </a:rPr>
              <a:t>شعيرات لا غديه غير متفرعه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1" name="Group 9"/>
          <p:cNvGrpSpPr/>
          <p:nvPr/>
        </p:nvGrpSpPr>
        <p:grpSpPr>
          <a:xfrm>
            <a:off x="5364000" y="2852640"/>
            <a:ext cx="3600720" cy="3816360"/>
            <a:chOff x="5364000" y="2852640"/>
            <a:chExt cx="3600720" cy="3816360"/>
          </a:xfrm>
        </p:grpSpPr>
        <p:sp>
          <p:nvSpPr>
            <p:cNvPr id="92" name="Text Box 10"/>
            <p:cNvSpPr/>
            <p:nvPr/>
          </p:nvSpPr>
          <p:spPr>
            <a:xfrm>
              <a:off x="5364000" y="5905800"/>
              <a:ext cx="3589200" cy="76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9900ff"/>
                  </a:solidFill>
                  <a:latin typeface="Times New Roman"/>
                  <a:cs typeface="Times New Roman"/>
                </a:rPr>
                <a:t>شعيرة لا غدية عديدة الخلايا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93" name="Picture 11" descr="Anat0122"/>
            <p:cNvPicPr/>
            <p:nvPr/>
          </p:nvPicPr>
          <p:blipFill>
            <a:blip r:embed="rId2"/>
            <a:stretch/>
          </p:blipFill>
          <p:spPr>
            <a:xfrm>
              <a:off x="5364000" y="2852640"/>
              <a:ext cx="3600720" cy="290016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</p:grpSp>
      <p:sp>
        <p:nvSpPr>
          <p:cNvPr id="94" name="Text Box 12"/>
          <p:cNvSpPr/>
          <p:nvPr/>
        </p:nvSpPr>
        <p:spPr>
          <a:xfrm>
            <a:off x="844200" y="6338880"/>
            <a:ext cx="233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وحيدة الخلي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4"/>
          <p:cNvGrpSpPr/>
          <p:nvPr/>
        </p:nvGrpSpPr>
        <p:grpSpPr>
          <a:xfrm>
            <a:off x="3851280" y="333360"/>
            <a:ext cx="5111640" cy="5974920"/>
            <a:chOff x="3851280" y="333360"/>
            <a:chExt cx="5111640" cy="5974920"/>
          </a:xfrm>
        </p:grpSpPr>
        <p:sp>
          <p:nvSpPr>
            <p:cNvPr id="96" name="Text Box 5"/>
            <p:cNvSpPr/>
            <p:nvPr/>
          </p:nvSpPr>
          <p:spPr>
            <a:xfrm>
              <a:off x="4244040" y="5113440"/>
              <a:ext cx="4521960" cy="1194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9900ff"/>
                  </a:solidFill>
                  <a:latin typeface="Times New Roman"/>
                  <a:cs typeface="Times New Roman"/>
                </a:rPr>
                <a:t>شعيرة لا غدية قرصية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97" name="Picture 6" descr="9"/>
            <p:cNvPicPr/>
            <p:nvPr/>
          </p:nvPicPr>
          <p:blipFill>
            <a:blip r:embed="rId1"/>
            <a:stretch/>
          </p:blipFill>
          <p:spPr>
            <a:xfrm>
              <a:off x="3851280" y="333360"/>
              <a:ext cx="5111640" cy="458100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</p:grpSp>
      <p:pic>
        <p:nvPicPr>
          <p:cNvPr id="98" name="Picture 9" descr=""/>
          <p:cNvPicPr/>
          <p:nvPr/>
        </p:nvPicPr>
        <p:blipFill>
          <a:blip r:embed="rId2"/>
          <a:stretch/>
        </p:blipFill>
        <p:spPr>
          <a:xfrm>
            <a:off x="179280" y="981000"/>
            <a:ext cx="33847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Group 4"/>
          <p:cNvGrpSpPr/>
          <p:nvPr/>
        </p:nvGrpSpPr>
        <p:grpSpPr>
          <a:xfrm>
            <a:off x="611280" y="333360"/>
            <a:ext cx="7632360" cy="6119640"/>
            <a:chOff x="611280" y="333360"/>
            <a:chExt cx="7632360" cy="6119640"/>
          </a:xfrm>
        </p:grpSpPr>
        <p:sp>
          <p:nvSpPr>
            <p:cNvPr id="100" name="Text Box 5"/>
            <p:cNvSpPr/>
            <p:nvPr/>
          </p:nvSpPr>
          <p:spPr>
            <a:xfrm>
              <a:off x="611280" y="5229000"/>
              <a:ext cx="7632360" cy="122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9900ff"/>
                  </a:solidFill>
                  <a:latin typeface="Times New Roman"/>
                  <a:cs typeface="Times New Roman"/>
                </a:rPr>
                <a:t>شعيرة لا غدية متفرعة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101" name="Picture 6" descr="10"/>
            <p:cNvPicPr/>
            <p:nvPr/>
          </p:nvPicPr>
          <p:blipFill>
            <a:blip r:embed="rId1"/>
            <a:stretch/>
          </p:blipFill>
          <p:spPr>
            <a:xfrm>
              <a:off x="611280" y="333360"/>
              <a:ext cx="7632360" cy="465084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شعيرة لاغدية"/>
          <p:cNvPicPr/>
          <p:nvPr/>
        </p:nvPicPr>
        <p:blipFill>
          <a:blip r:embed="rId1"/>
          <a:stretch/>
        </p:blipFill>
        <p:spPr>
          <a:xfrm>
            <a:off x="179280" y="189000"/>
            <a:ext cx="5761080" cy="37004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5"/>
          <p:cNvSpPr/>
          <p:nvPr/>
        </p:nvSpPr>
        <p:spPr>
          <a:xfrm>
            <a:off x="-620640" y="4941720"/>
            <a:ext cx="576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شعيرة لا غدية عديده متفرع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6" descr="gb-2002-3-11-reports4035-1"/>
          <p:cNvPicPr/>
          <p:nvPr/>
        </p:nvPicPr>
        <p:blipFill>
          <a:blip r:embed="rId2"/>
          <a:stretch/>
        </p:blipFill>
        <p:spPr>
          <a:xfrm>
            <a:off x="4643280" y="3357720"/>
            <a:ext cx="435636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6128280" y="189000"/>
            <a:ext cx="266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3300"/>
                </a:solidFill>
                <a:latin typeface="Tahoma"/>
              </a:rPr>
              <a:t>2</a:t>
            </a:r>
            <a:r>
              <a:rPr b="1" lang="ar-SA" sz="4800" spc="-1" strike="noStrike">
                <a:solidFill>
                  <a:srgbClr val="ff3300"/>
                </a:solidFill>
                <a:latin typeface="Tahoma"/>
              </a:rPr>
              <a:t>- غديه:ـ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0" y="981000"/>
            <a:ext cx="896472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هي زوائد من خلايا البشره او تحت بشره لها القدره على الافراز لمركبات خاصه تفرزها على سطح النبات  مثل الرحيق محاليل 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الاملاح </a:t>
            </a: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، التربينات ، الاصما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ff00"/>
                </a:solidFill>
                <a:uFillTx/>
                <a:latin typeface="Tahoma"/>
              </a:rPr>
              <a:t>تتكون من :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قدم .. وهو الجزء المغمور في خلايا البشره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جسم وهو الجزء البارز عن مستوى سطح البشره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ويتكون الجسم من: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buClr>
                <a:srgbClr val="ffff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رأ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buClr>
                <a:srgbClr val="ffffff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 عن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11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28" dur="20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1" dur="5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f4-p18"/>
          <p:cNvPicPr/>
          <p:nvPr/>
        </p:nvPicPr>
        <p:blipFill>
          <a:blip r:embed="rId1"/>
          <a:stretch/>
        </p:blipFill>
        <p:spPr>
          <a:xfrm>
            <a:off x="1258920" y="981000"/>
            <a:ext cx="7058160" cy="41036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6"/>
          <p:cNvSpPr/>
          <p:nvPr/>
        </p:nvSpPr>
        <p:spPr>
          <a:xfrm>
            <a:off x="1536480" y="5262480"/>
            <a:ext cx="652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شعيره غديه وحيدة الصف وراس وحي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شعيره  غديه ذات عنق وحيد ورأس عديد- منظر جانبي"/>
          <p:cNvPicPr/>
          <p:nvPr/>
        </p:nvPicPr>
        <p:blipFill>
          <a:blip r:embed="rId1"/>
          <a:stretch/>
        </p:blipFill>
        <p:spPr>
          <a:xfrm>
            <a:off x="179280" y="260280"/>
            <a:ext cx="4680000" cy="45370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-42120" y="5299560"/>
            <a:ext cx="86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ahoma"/>
              </a:rPr>
              <a:t>شعيرة غدية وحيدة الصف عديدة خلايا الرأس – منظر جانبي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7" descr="VFTwoGlands300"/>
          <p:cNvPicPr/>
          <p:nvPr/>
        </p:nvPicPr>
        <p:blipFill>
          <a:blip r:embed="rId2"/>
          <a:stretch/>
        </p:blipFill>
        <p:spPr>
          <a:xfrm>
            <a:off x="5219640" y="260280"/>
            <a:ext cx="37450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شعيره غديه   ذات عنق وحيد وراس ثنائي الخلايا"/>
          <p:cNvPicPr/>
          <p:nvPr/>
        </p:nvPicPr>
        <p:blipFill>
          <a:blip r:embed="rId1"/>
          <a:stretch/>
        </p:blipFill>
        <p:spPr>
          <a:xfrm>
            <a:off x="1547640" y="836640"/>
            <a:ext cx="6120000" cy="43498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1196280" y="5516640"/>
            <a:ext cx="688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ahoma"/>
              </a:rPr>
              <a:t>شعيره غديه ذات عنق وحيد ورأس ثنائي الخلايا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3857400" y="93600"/>
            <a:ext cx="498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ffff00"/>
                </a:solidFill>
                <a:uFillTx/>
                <a:latin typeface="Tahoma"/>
              </a:rPr>
              <a:t>البشره :ـ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ahoma"/>
              </a:rPr>
              <a:t>Epidermis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0" y="981000"/>
            <a:ext cx="900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هي الطبقه الخارجيه  من خلايا جسم النبات وهي مجموعه متنوعه من الخلايا المتراصه ونادرا ما توجد مسافات بينيه ما عدا الثغور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ولا تحتوي خلاياها على بلاستيدات ما عدا الخلايا الحارسه المحيطه بالثغور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5555520" y="2511360"/>
            <a:ext cx="364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ff00"/>
                </a:solidFill>
                <a:uFillTx/>
                <a:latin typeface="Tahoma"/>
              </a:rPr>
              <a:t>انواع  خلايا  البشره: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4284720" y="3213000"/>
            <a:ext cx="4859280" cy="46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 خلايا بشره عاديه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pidermal cells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خلايا حارسه.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Guard ce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 خلايا مساعده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upsidiaty cells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 خلايا حركيه.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ulliform cel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 خلايا فلين وسيليكا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Tahoma"/>
              </a:rPr>
              <a:t>ولخلايا البشره اشكال مختلفه فهي اما مستطيله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Tahoma"/>
              </a:rPr>
              <a:t>او متعدده الاضلاع ومتساويه تقريبا  وغالبا جدر خلايا البشره رقيقه  وتظهر بالمنظر السطحي اما متموجه او مستقيمه 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" name="Picture 11" descr="Epidermis cells"/>
          <p:cNvPicPr/>
          <p:nvPr/>
        </p:nvPicPr>
        <p:blipFill>
          <a:blip r:embed="rId1"/>
          <a:stretch/>
        </p:blipFill>
        <p:spPr>
          <a:xfrm>
            <a:off x="250920" y="2781360"/>
            <a:ext cx="410508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شعيره غديه عديدة خلايا العنق ثنائية الصف ورأس عديد الخلايا"/>
          <p:cNvPicPr/>
          <p:nvPr/>
        </p:nvPicPr>
        <p:blipFill>
          <a:blip r:embed="rId1"/>
          <a:stretch/>
        </p:blipFill>
        <p:spPr>
          <a:xfrm>
            <a:off x="1116000" y="765000"/>
            <a:ext cx="7488360" cy="44928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5"/>
          <p:cNvSpPr/>
          <p:nvPr/>
        </p:nvSpPr>
        <p:spPr>
          <a:xfrm>
            <a:off x="-479160" y="5589720"/>
            <a:ext cx="1050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شعيره غديه عديدة خلايا العنق ثنائية الصف ورأس عديد الخلايا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6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7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شعيره غديه عديدة خلايا العنق وحيد الصف ورأس وحيد الخلايا"/>
          <p:cNvPicPr/>
          <p:nvPr/>
        </p:nvPicPr>
        <p:blipFill>
          <a:blip r:embed="rId1"/>
          <a:stretch/>
        </p:blipFill>
        <p:spPr>
          <a:xfrm>
            <a:off x="684360" y="765000"/>
            <a:ext cx="7775280" cy="44928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38320" y="5661000"/>
            <a:ext cx="90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ahoma"/>
              </a:rPr>
              <a:t>شعيره غديه عديدة خلايا العنق وحيد الصف ورأس وحيد الخلايا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شعيره غديه عنق عديد الخلايا وحيد الصف  ورأس عديد"/>
          <p:cNvPicPr/>
          <p:nvPr/>
        </p:nvPicPr>
        <p:blipFill>
          <a:blip r:embed="rId1"/>
          <a:stretch/>
        </p:blipFill>
        <p:spPr>
          <a:xfrm>
            <a:off x="1116000" y="765000"/>
            <a:ext cx="6696000" cy="44928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5"/>
          <p:cNvSpPr/>
          <p:nvPr/>
        </p:nvSpPr>
        <p:spPr>
          <a:xfrm>
            <a:off x="716040" y="5877000"/>
            <a:ext cx="794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ahoma"/>
              </a:rPr>
              <a:t>شعيره غديه عنق عديد الخلايا وحيد الصف  ورأس عدي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شعيره غديه وحيدة العنق والرأس ثنائي"/>
          <p:cNvPicPr/>
          <p:nvPr/>
        </p:nvPicPr>
        <p:blipFill>
          <a:blip r:embed="rId1"/>
          <a:stretch/>
        </p:blipFill>
        <p:spPr>
          <a:xfrm>
            <a:off x="826920" y="1052640"/>
            <a:ext cx="7561440" cy="420516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5"/>
          <p:cNvSpPr/>
          <p:nvPr/>
        </p:nvSpPr>
        <p:spPr>
          <a:xfrm>
            <a:off x="449640" y="5445000"/>
            <a:ext cx="880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شعيره غديه وحيدة خلايا العنق والرأس ثنائي الخلايا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80643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8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خلايا حركيه  في ورقة نبات ذوات فلقه واحده"/>
          <p:cNvPicPr/>
          <p:nvPr/>
        </p:nvPicPr>
        <p:blipFill>
          <a:blip r:embed="rId1"/>
          <a:stretch/>
        </p:blipFill>
        <p:spPr>
          <a:xfrm>
            <a:off x="179280" y="692280"/>
            <a:ext cx="5040360" cy="4032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597960" y="5229360"/>
            <a:ext cx="76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ahoma"/>
              </a:rPr>
              <a:t>خلايا حركيه في بشره نبات من ذوات الفلقه الواحده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6" descr="pe5%5B1%5D"/>
          <p:cNvPicPr/>
          <p:nvPr/>
        </p:nvPicPr>
        <p:blipFill>
          <a:blip r:embed="rId2"/>
          <a:stretch/>
        </p:blipFill>
        <p:spPr>
          <a:xfrm>
            <a:off x="5508720" y="1125360"/>
            <a:ext cx="345600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0" y="316080"/>
            <a:ext cx="898524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Tahoma"/>
              </a:rPr>
              <a:t>اولا : ثغور  ذوات الفلقتين: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هي فتحات توجد بالبشره تحاط بخليتين حارستين وكل خليه تحتوي على نواه وغنيه بالابلاستيدات ويكون جدار الخليه الحارسه غليظا من الناحيه المواجهه لفتحة الثغر ورقيقا من الناحيه البعيده عنها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ولها شكل كلوي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" name="Picture 5" descr="Epidermal peel of sedum"/>
          <p:cNvPicPr/>
          <p:nvPr/>
        </p:nvPicPr>
        <p:blipFill>
          <a:blip r:embed="rId1"/>
          <a:stretch/>
        </p:blipFill>
        <p:spPr>
          <a:xfrm>
            <a:off x="4270320" y="2133720"/>
            <a:ext cx="4873680" cy="36543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7"/>
          <p:cNvSpPr/>
          <p:nvPr/>
        </p:nvSpPr>
        <p:spPr>
          <a:xfrm>
            <a:off x="774720" y="5877000"/>
            <a:ext cx="970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Tahoma"/>
              </a:rPr>
              <a:t>1</a:t>
            </a:r>
            <a:r>
              <a:rPr b="1" lang="ar-SA" sz="2000" spc="-1" strike="noStrike">
                <a:solidFill>
                  <a:srgbClr val="ffff00"/>
                </a:solidFill>
                <a:latin typeface="Tahoma"/>
              </a:rPr>
              <a:t>- ثغر غير متساوي  الخلايا المساعده: 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تحيط بالثغر 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 خلايا مساعده احدها صغيره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9" descr="Trifolium_pratense"/>
          <p:cNvPicPr/>
          <p:nvPr/>
        </p:nvPicPr>
        <p:blipFill>
          <a:blip r:embed="rId2"/>
          <a:stretch/>
        </p:blipFill>
        <p:spPr>
          <a:xfrm>
            <a:off x="324000" y="2133720"/>
            <a:ext cx="377964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ثغر غير منتظم  الخلايا الحارسه"/>
          <p:cNvPicPr/>
          <p:nvPr/>
        </p:nvPicPr>
        <p:blipFill>
          <a:blip r:embed="rId1"/>
          <a:stretch/>
        </p:blipFill>
        <p:spPr>
          <a:xfrm>
            <a:off x="4894200" y="189000"/>
            <a:ext cx="4249800" cy="39607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4427640" y="4221000"/>
            <a:ext cx="4716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2</a:t>
            </a:r>
            <a:r>
              <a:rPr b="1" lang="ar-SA" sz="2000" spc="-1" strike="noStrike">
                <a:solidFill>
                  <a:srgbClr val="ffff00"/>
                </a:solidFill>
                <a:latin typeface="Tahoma"/>
              </a:rPr>
              <a:t>- ثغر غير منتظم الخلايا المساعده: 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الخلايا المساعده فيه غير منتظمه وغير متميزه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Picture 7" descr="ثغر متعامد الخلايا الحارسه"/>
          <p:cNvPicPr/>
          <p:nvPr/>
        </p:nvPicPr>
        <p:blipFill>
          <a:blip r:embed="rId2"/>
          <a:stretch/>
        </p:blipFill>
        <p:spPr>
          <a:xfrm>
            <a:off x="179280" y="189000"/>
            <a:ext cx="3961080" cy="29732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8"/>
          <p:cNvSpPr/>
          <p:nvPr/>
        </p:nvSpPr>
        <p:spPr>
          <a:xfrm>
            <a:off x="-1035000" y="6149880"/>
            <a:ext cx="721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Tahoma"/>
              </a:rPr>
              <a:t>3</a:t>
            </a:r>
            <a:r>
              <a:rPr b="1" lang="ar-SA" sz="2000" spc="-1" strike="noStrike">
                <a:solidFill>
                  <a:srgbClr val="ffff00"/>
                </a:solidFill>
                <a:latin typeface="Tahoma"/>
              </a:rPr>
              <a:t>- ثغر متعامد الخلايا المساعده: 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تحيط به خليتان مساعدتان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يتعامد جدارهما المشترك مع المحور الطولي للثغر</a:t>
            </a:r>
            <a:r>
              <a:rPr b="1" lang="ar-SA" sz="20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" name="Picture 9" descr="leaf%20stomata"/>
          <p:cNvPicPr/>
          <p:nvPr/>
        </p:nvPicPr>
        <p:blipFill>
          <a:blip r:embed="rId3"/>
          <a:stretch/>
        </p:blipFill>
        <p:spPr>
          <a:xfrm>
            <a:off x="324000" y="3284640"/>
            <a:ext cx="3816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9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2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5292720" y="4221000"/>
            <a:ext cx="3692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Tahoma"/>
              </a:rPr>
              <a:t>4</a:t>
            </a:r>
            <a:r>
              <a:rPr b="1" lang="ar-SA" sz="2000" spc="-1" strike="noStrike">
                <a:solidFill>
                  <a:srgbClr val="ffff00"/>
                </a:solidFill>
                <a:latin typeface="Tahoma"/>
              </a:rPr>
              <a:t>- ثغر متوازي الخلايا المساعده: 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تحيط بالثغر خليتان مساعدتان جدارهما المشترك موازي للمحور الطولي للثغر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0" y="4292640"/>
            <a:ext cx="4336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Tahoma"/>
              </a:rPr>
              <a:t>5</a:t>
            </a:r>
            <a:r>
              <a:rPr b="1" lang="ar-SA" sz="2000" spc="-1" strike="noStrike">
                <a:solidFill>
                  <a:srgbClr val="ffff00"/>
                </a:solidFill>
                <a:latin typeface="Tahoma"/>
              </a:rPr>
              <a:t>- ثغر شعاعي الخلايا المساعده: 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يحيط بالثغر عدد كبير من الخلايا المساعده تنتظم في ترتيب قطري مع الثغر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6" descr="An epidermal strip of a leaf showing a stomatal complex"/>
          <p:cNvPicPr/>
          <p:nvPr/>
        </p:nvPicPr>
        <p:blipFill>
          <a:blip r:embed="rId1"/>
          <a:stretch/>
        </p:blipFill>
        <p:spPr>
          <a:xfrm>
            <a:off x="5219640" y="404640"/>
            <a:ext cx="3745080" cy="3745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DSC00032"/>
          <p:cNvPicPr/>
          <p:nvPr/>
        </p:nvPicPr>
        <p:blipFill>
          <a:blip r:embed="rId2"/>
          <a:stretch/>
        </p:blipFill>
        <p:spPr>
          <a:xfrm>
            <a:off x="324000" y="476280"/>
            <a:ext cx="46796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4722120" y="417600"/>
            <a:ext cx="47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Tahoma"/>
              </a:rPr>
              <a:t>ثالثا:ثغور ذوات الفلقه الواحده: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2" name="Picture 5" descr="stomata 6"/>
          <p:cNvPicPr/>
          <p:nvPr/>
        </p:nvPicPr>
        <p:blipFill>
          <a:blip r:embed="rId1"/>
          <a:stretch/>
        </p:blipFill>
        <p:spPr>
          <a:xfrm>
            <a:off x="179280" y="907920"/>
            <a:ext cx="4032360" cy="36576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-699120" y="4724280"/>
            <a:ext cx="638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ahoma"/>
              </a:rPr>
              <a:t>1</a:t>
            </a:r>
            <a:r>
              <a:rPr b="1" lang="ar-SA" sz="2400" spc="-1" strike="noStrike">
                <a:solidFill>
                  <a:srgbClr val="ffff00"/>
                </a:solidFill>
                <a:latin typeface="Tahoma"/>
              </a:rPr>
              <a:t>- ثغر يحاط ب اربع الى ست خلايا مساعده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5121360" y="907920"/>
            <a:ext cx="4022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قد تأخذ  الخلايا الحارسه شكل خاص يسمى الصولجاني في الفصيله</a:t>
            </a:r>
            <a:r>
              <a:rPr b="0" lang="ar-SA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السعديه ،</a:t>
            </a:r>
            <a:r>
              <a:rPr b="1" lang="ar-SA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والنجيليه أي على شكل وحدتي اثقال صغيره ذات جزء وسطي ضيق سميك الجدار ونهايتين منتفختين  رقيقتي الجدار 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5" name="Picture 8" descr="stomata 2"/>
          <p:cNvPicPr/>
          <p:nvPr/>
        </p:nvPicPr>
        <p:blipFill>
          <a:blip r:embed="rId2"/>
          <a:stretch/>
        </p:blipFill>
        <p:spPr>
          <a:xfrm>
            <a:off x="5126040" y="3645000"/>
            <a:ext cx="401796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stomata"/>
          <p:cNvPicPr/>
          <p:nvPr/>
        </p:nvPicPr>
        <p:blipFill>
          <a:blip r:embed="rId1"/>
          <a:stretch/>
        </p:blipFill>
        <p:spPr>
          <a:xfrm>
            <a:off x="1619280" y="620640"/>
            <a:ext cx="6048360" cy="46087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1133280" y="5734080"/>
            <a:ext cx="77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Tahoma"/>
              </a:rPr>
              <a:t>2</a:t>
            </a:r>
            <a:r>
              <a:rPr b="1" lang="ar-SA" sz="2000" spc="-1" strike="noStrike">
                <a:solidFill>
                  <a:srgbClr val="ffff00"/>
                </a:solidFill>
                <a:latin typeface="Tahoma"/>
              </a:rPr>
              <a:t>- ثغر يحاط باربع الى ست  خلايا مساعده  اثنتان منها مستديره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stoma_PA050038md"/>
          <p:cNvPicPr/>
          <p:nvPr/>
        </p:nvPicPr>
        <p:blipFill>
          <a:blip r:embed="rId1"/>
          <a:stretch/>
        </p:blipFill>
        <p:spPr>
          <a:xfrm>
            <a:off x="1187280" y="260280"/>
            <a:ext cx="6769440" cy="468144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904680" y="4941720"/>
            <a:ext cx="721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ahoma"/>
              </a:rPr>
              <a:t>3</a:t>
            </a:r>
            <a:r>
              <a:rPr b="1" lang="ar-SA" sz="2400" spc="-1" strike="noStrike">
                <a:solidFill>
                  <a:srgbClr val="ffff00"/>
                </a:solidFill>
                <a:latin typeface="Tahoma"/>
              </a:rPr>
              <a:t>- ثغر لا يحاط بخلايا مساعده متميزه مثل – بصل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9:05:12Z</dcterms:created>
  <dc:creator>HELP</dc:creator>
  <dc:description/>
  <dc:language>en-US</dc:language>
  <cp:lastModifiedBy>a</cp:lastModifiedBy>
  <dcterms:modified xsi:type="dcterms:W3CDTF">2016-10-21T14:42:38Z</dcterms:modified>
  <cp:revision>61</cp:revision>
  <dc:subject/>
  <dc:title>الانسجه المستديمه</dc:title>
</cp:coreProperties>
</file>