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C39-DE15-4A4F-AE12-0F836226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8F3-7DD4-4C62-9055-728D4FA9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E9A-0D01-400B-ABDA-C6D9A7EE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3A4-C11B-4807-812B-7E9A8B55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B43-0227-4370-9A46-04646A90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753-0021-47BA-AE44-50D1D016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73F-6FA8-4812-A7E2-B286214F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47A-3DBD-4B08-9AED-C6277837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032-FD18-41E0-A727-9DBBD1AC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CF5-0476-4219-8A15-3D5D508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E80-9B53-49FD-A419-B87FA4C7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3F79-798C-40BC-8307-553BCACE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CA71-3D26-4085-85E7-1BFBF2D7C40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3300"/>
                </a:solidFill>
                <a:uFillTx/>
                <a:latin typeface="Tahoma"/>
              </a:rPr>
              <a:t>الانسجه المستديم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2" name="Organization Chart 7"/>
          <p:cNvGrpSpPr/>
          <p:nvPr/>
        </p:nvGrpSpPr>
        <p:grpSpPr>
          <a:xfrm>
            <a:off x="431640" y="1941480"/>
            <a:ext cx="8208360" cy="4102200"/>
            <a:chOff x="431640" y="1941480"/>
            <a:chExt cx="8208360" cy="4102200"/>
          </a:xfrm>
        </p:grpSpPr>
        <p:cxnSp>
          <p:nvCxnSpPr>
            <p:cNvPr id="43" name="_s1028"/>
            <p:cNvCxnSpPr>
              <a:stCxn id="44" idx="0"/>
              <a:endCxn id="45" idx="3"/>
            </p:cNvCxnSpPr>
            <p:nvPr/>
          </p:nvCxnSpPr>
          <p:spPr>
            <a:xfrm flipV="1" rot="16200000">
              <a:off x="5503320" y="2491200"/>
              <a:ext cx="820800" cy="300276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6" name="_s1029"/>
            <p:cNvCxnSpPr>
              <a:stCxn id="47" idx="0"/>
              <a:endCxn id="45" idx="3"/>
            </p:cNvCxnSpPr>
            <p:nvPr/>
          </p:nvCxnSpPr>
          <p:spPr>
            <a:xfrm flipV="1" rot="16200000">
              <a:off x="4064400" y="3929760"/>
              <a:ext cx="820800" cy="1252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48" name="_s1030"/>
            <p:cNvCxnSpPr>
              <a:stCxn id="49" idx="0"/>
              <a:endCxn id="45" idx="3"/>
            </p:cNvCxnSpPr>
            <p:nvPr/>
          </p:nvCxnSpPr>
          <p:spPr>
            <a:xfrm flipH="1" flipV="1" rot="5400000">
              <a:off x="2671200" y="2661840"/>
              <a:ext cx="820800" cy="266148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45" name="_s1031"/>
            <p:cNvSpPr/>
            <p:nvPr/>
          </p:nvSpPr>
          <p:spPr>
            <a:xfrm>
              <a:off x="2196000" y="1941480"/>
              <a:ext cx="460908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2b5481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مجموعه من الخلايا المتميزه 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او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00"/>
                  </a:solidFill>
                  <a:latin typeface="Tahoma"/>
                </a:rPr>
                <a:t> المتخصصه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32"/>
            <p:cNvSpPr/>
            <p:nvPr/>
          </p:nvSpPr>
          <p:spPr>
            <a:xfrm>
              <a:off x="431640" y="4402800"/>
              <a:ext cx="246240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6699">
                    <a:alpha val="40000"/>
                  </a:srgbClr>
                </a:gs>
                <a:gs pos="100000">
                  <a:srgbClr val="2b5481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900" spc="-1" strike="noStrike">
                  <a:solidFill>
                    <a:srgbClr val="ffffff"/>
                  </a:solidFill>
                  <a:latin typeface="Tahoma"/>
                </a:rPr>
                <a:t>نسيج وعائي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00"/>
                  </a:solidFill>
                  <a:latin typeface="Tahoma"/>
                </a:rPr>
                <a:t>(خشب+ لحاء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3130560" y="4402800"/>
              <a:ext cx="263628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6699">
                    <a:alpha val="40000"/>
                  </a:srgbClr>
                </a:gs>
                <a:gs pos="100000">
                  <a:srgbClr val="2b5481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ff"/>
                  </a:solidFill>
                  <a:latin typeface="Tahoma"/>
                </a:rPr>
                <a:t>نسيج اساسي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ffff00"/>
                  </a:solidFill>
                  <a:latin typeface="Tahoma"/>
                </a:rPr>
                <a:t>(برنشيمي + كولنشيمي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100" spc="-1" strike="noStrike">
                  <a:solidFill>
                    <a:srgbClr val="ffff00"/>
                  </a:solidFill>
                  <a:latin typeface="Tahoma"/>
                </a:rPr>
                <a:t>سكلرنشيمي)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_s1034"/>
            <p:cNvSpPr/>
            <p:nvPr/>
          </p:nvSpPr>
          <p:spPr>
            <a:xfrm>
              <a:off x="6012720" y="4402800"/>
              <a:ext cx="2627280" cy="16408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6699">
                    <a:alpha val="40000"/>
                  </a:srgbClr>
                </a:gs>
                <a:gs pos="100000">
                  <a:srgbClr val="2b5481"/>
                </a:gs>
              </a:gsLst>
              <a:lin ang="5400000"/>
            </a:gra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900" spc="-1" strike="noStrike">
                  <a:solidFill>
                    <a:srgbClr val="ffffff"/>
                  </a:solidFill>
                  <a:latin typeface="Tahoma"/>
                </a:rPr>
                <a:t>نسيج وقائي</a:t>
              </a:r>
              <a:endParaRPr b="0" lang="en-US" sz="2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500" spc="-1" strike="noStrike">
                  <a:solidFill>
                    <a:srgbClr val="ffff00"/>
                  </a:solidFill>
                  <a:latin typeface="Tahoma"/>
                </a:rPr>
                <a:t>(بشره  ،، بريديرم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12680" y="537372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ثغر يحاط بخليتين مساعدتين على جانبي الخلايا الحارس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" name="Picture 5" descr="DSC00034"/>
          <p:cNvPicPr/>
          <p:nvPr/>
        </p:nvPicPr>
        <p:blipFill>
          <a:blip r:embed="rId1"/>
          <a:stretch/>
        </p:blipFill>
        <p:spPr>
          <a:xfrm>
            <a:off x="1403280" y="260280"/>
            <a:ext cx="63676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4793040" y="309600"/>
            <a:ext cx="425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ff00"/>
                </a:solidFill>
                <a:uFillTx/>
                <a:latin typeface="Tahoma"/>
              </a:rPr>
              <a:t>الشعيرات:ـ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14130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زوائد من خلايا البشره قد تكون على شكل غده ، حراشف ، اشواك او زوائد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هي امتداد لخلايا البشره وجدرها رقيقه سليلوزيه وقد تكون ذات جدر ثانويه ملجننه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هي عباره  عن تحورات  في احدى خلايا البشره ، وقد تنشأ هذه الزوائد من طبقة البشره فقط او من طبقة البشره او الطبقه تحت البشره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7194960" y="3627360"/>
            <a:ext cx="21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د تكون :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-777960" y="4365720"/>
            <a:ext cx="99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00"/>
                </a:solidFill>
                <a:latin typeface="Tahoma"/>
              </a:rPr>
              <a:t>وحيدة الخليه ، او عديدة الخلايا وتستخدم في تعريف النب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4606920" y="0"/>
            <a:ext cx="50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Tahoma"/>
              </a:rPr>
              <a:t>اقسام الشعيرات: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818320" y="836640"/>
            <a:ext cx="291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ar-SA" sz="4000" spc="-1" strike="noStrike">
                <a:solidFill>
                  <a:srgbClr val="ff3300"/>
                </a:solidFill>
                <a:latin typeface="Tahoma"/>
              </a:rPr>
              <a:t>- لا غديه:ـ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-18108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توجد على السيقان والاوراق  والجذور  والازهار ، وقد تبقى خلايا حيه او تفقد بروتوبلازمها وتصبح لامعه ناصله وقد تبقى على جسم النبات طوال فترة حيات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7" descr="شعيره لاغديه وحيدة الخليه"/>
          <p:cNvPicPr/>
          <p:nvPr/>
        </p:nvPicPr>
        <p:blipFill>
          <a:blip r:embed="rId1"/>
          <a:stretch/>
        </p:blipFill>
        <p:spPr>
          <a:xfrm>
            <a:off x="250920" y="2781360"/>
            <a:ext cx="4897440" cy="3673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492360" y="2349360"/>
            <a:ext cx="31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شعيرات لا غديه غير متفرع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5364000" y="2852640"/>
            <a:ext cx="3600720" cy="3816360"/>
            <a:chOff x="5364000" y="2852640"/>
            <a:chExt cx="3600720" cy="3816360"/>
          </a:xfrm>
        </p:grpSpPr>
        <p:sp>
          <p:nvSpPr>
            <p:cNvPr id="92" name="Text Box 10"/>
            <p:cNvSpPr/>
            <p:nvPr/>
          </p:nvSpPr>
          <p:spPr>
            <a:xfrm>
              <a:off x="5364000" y="5905800"/>
              <a:ext cx="3589200" cy="76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9900ff"/>
                  </a:solidFill>
                  <a:latin typeface="Times New Roman"/>
                  <a:cs typeface="Times New Roman"/>
                </a:rPr>
                <a:t>شعيرة لا غدية عديدة الخلايا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3" name="Picture 11" descr="Anat0122"/>
            <p:cNvPicPr/>
            <p:nvPr/>
          </p:nvPicPr>
          <p:blipFill>
            <a:blip r:embed="rId2"/>
            <a:stretch/>
          </p:blipFill>
          <p:spPr>
            <a:xfrm>
              <a:off x="5364000" y="2852640"/>
              <a:ext cx="3600720" cy="29001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94" name="Text Box 12"/>
          <p:cNvSpPr/>
          <p:nvPr/>
        </p:nvSpPr>
        <p:spPr>
          <a:xfrm>
            <a:off x="844200" y="633888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وحيدة الخل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3851280" y="333360"/>
            <a:ext cx="5111640" cy="5974920"/>
            <a:chOff x="3851280" y="333360"/>
            <a:chExt cx="5111640" cy="5974920"/>
          </a:xfrm>
        </p:grpSpPr>
        <p:sp>
          <p:nvSpPr>
            <p:cNvPr id="96" name="Text Box 5"/>
            <p:cNvSpPr/>
            <p:nvPr/>
          </p:nvSpPr>
          <p:spPr>
            <a:xfrm>
              <a:off x="4244040" y="5113440"/>
              <a:ext cx="4521960" cy="119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9900ff"/>
                  </a:solidFill>
                  <a:latin typeface="Times New Roman"/>
                  <a:cs typeface="Times New Roman"/>
                </a:rPr>
                <a:t>شعيرة لا غدية قرصية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7" name="Picture 6" descr="9"/>
            <p:cNvPicPr/>
            <p:nvPr/>
          </p:nvPicPr>
          <p:blipFill>
            <a:blip r:embed="rId1"/>
            <a:stretch/>
          </p:blipFill>
          <p:spPr>
            <a:xfrm>
              <a:off x="3851280" y="333360"/>
              <a:ext cx="5111640" cy="4581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3384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4"/>
          <p:cNvGrpSpPr/>
          <p:nvPr/>
        </p:nvGrpSpPr>
        <p:grpSpPr>
          <a:xfrm>
            <a:off x="611280" y="333360"/>
            <a:ext cx="7632360" cy="6119640"/>
            <a:chOff x="611280" y="333360"/>
            <a:chExt cx="7632360" cy="6119640"/>
          </a:xfrm>
        </p:grpSpPr>
        <p:sp>
          <p:nvSpPr>
            <p:cNvPr id="100" name="Text Box 5"/>
            <p:cNvSpPr/>
            <p:nvPr/>
          </p:nvSpPr>
          <p:spPr>
            <a:xfrm>
              <a:off x="611280" y="5229000"/>
              <a:ext cx="7632360" cy="12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9900ff"/>
                  </a:solidFill>
                  <a:latin typeface="Times New Roman"/>
                  <a:cs typeface="Times New Roman"/>
                </a:rPr>
                <a:t>شعيرة لا غدية متفرعة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1" name="Picture 6" descr="10"/>
            <p:cNvPicPr/>
            <p:nvPr/>
          </p:nvPicPr>
          <p:blipFill>
            <a:blip r:embed="rId1"/>
            <a:stretch/>
          </p:blipFill>
          <p:spPr>
            <a:xfrm>
              <a:off x="611280" y="333360"/>
              <a:ext cx="7632360" cy="46508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شعيرة لاغدية"/>
          <p:cNvPicPr/>
          <p:nvPr/>
        </p:nvPicPr>
        <p:blipFill>
          <a:blip r:embed="rId1"/>
          <a:stretch/>
        </p:blipFill>
        <p:spPr>
          <a:xfrm>
            <a:off x="179280" y="189000"/>
            <a:ext cx="5761080" cy="37004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-620640" y="494172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شعيرة لا غدية عديده متفر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gb-2002-3-11-reports4035-1"/>
          <p:cNvPicPr/>
          <p:nvPr/>
        </p:nvPicPr>
        <p:blipFill>
          <a:blip r:embed="rId2"/>
          <a:stretch/>
        </p:blipFill>
        <p:spPr>
          <a:xfrm>
            <a:off x="4643280" y="3357720"/>
            <a:ext cx="4356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28280" y="189000"/>
            <a:ext cx="266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ar-SA" sz="4800" spc="-1" strike="noStrike">
                <a:solidFill>
                  <a:srgbClr val="ff3300"/>
                </a:solidFill>
                <a:latin typeface="Tahoma"/>
              </a:rPr>
              <a:t>- غديه: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981000"/>
            <a:ext cx="89647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 زوائد من خلايا البشره او تحت بشره لها القدره على الافراز لمركبات خاصه تفرزها على سطح النبات  مثل الرحيق محاليل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املاح </a:t>
            </a: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، التربينات ، الاصما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تتكون من :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قدم .. وهو الجزء المغمور في خلايا البشر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جسم وهو الجزء البارز عن مستوى سطح البشر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ويتكون الجسم من: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ff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رأ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عن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f4-p18"/>
          <p:cNvPicPr/>
          <p:nvPr/>
        </p:nvPicPr>
        <p:blipFill>
          <a:blip r:embed="rId1"/>
          <a:stretch/>
        </p:blipFill>
        <p:spPr>
          <a:xfrm>
            <a:off x="1258920" y="981000"/>
            <a:ext cx="7058160" cy="4103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536480" y="5262480"/>
            <a:ext cx="65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شعيره غديه وحيدة الصف وراس وحي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شعيره  غديه ذات عنق وحيد ورأس عديد- منظر جانبي"/>
          <p:cNvPicPr/>
          <p:nvPr/>
        </p:nvPicPr>
        <p:blipFill>
          <a:blip r:embed="rId1"/>
          <a:stretch/>
        </p:blipFill>
        <p:spPr>
          <a:xfrm>
            <a:off x="179280" y="260280"/>
            <a:ext cx="4680000" cy="45370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-42120" y="5299560"/>
            <a:ext cx="86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شعيرة غدية وحيدة الصف عديدة خلايا الرأس – منظر جانب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7" descr="VFTwoGlands300"/>
          <p:cNvPicPr/>
          <p:nvPr/>
        </p:nvPicPr>
        <p:blipFill>
          <a:blip r:embed="rId2"/>
          <a:stretch/>
        </p:blipFill>
        <p:spPr>
          <a:xfrm>
            <a:off x="5219640" y="260280"/>
            <a:ext cx="3745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شعيره غديه   ذات عنق وحيد وراس ثنائي الخلايا"/>
          <p:cNvPicPr/>
          <p:nvPr/>
        </p:nvPicPr>
        <p:blipFill>
          <a:blip r:embed="rId1"/>
          <a:stretch/>
        </p:blipFill>
        <p:spPr>
          <a:xfrm>
            <a:off x="1547640" y="836640"/>
            <a:ext cx="6120000" cy="43498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196280" y="5516640"/>
            <a:ext cx="68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شعيره غديه ذات عنق وحيد ورأس ثنائي الخلاي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857400" y="93600"/>
            <a:ext cx="498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ffff00"/>
                </a:solidFill>
                <a:uFillTx/>
                <a:latin typeface="Tahoma"/>
              </a:rPr>
              <a:t>البشره :ـ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Epidermis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981000"/>
            <a:ext cx="90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هي الطبقه الخارجيه  من خلايا جسم النبات وهي مجموعه متنوعه من الخلايا المتراصه ونادرا ما توجد مسافات بينيه ما عدا الثغور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لا تحتوي خلاياها على بلاستيدات ما عدا الخلايا الحارسه المحيطه بالثغور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555520" y="251136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Tahoma"/>
              </a:rPr>
              <a:t>انواع  خلايا  البشره: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284720" y="3213000"/>
            <a:ext cx="485928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خلايا بشره عاديه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pidermal cells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خلايا حارسه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uard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خلايا مساعده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sidiaty cells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خلايا حركيه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lliform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- خلايا فلين وسيليكا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ولخلايا البشره اشكال مختلفه فهي اما مستطيل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او متعدده الاضلاع ومتساويه تقريبا  وغالبا جدر خلايا البشره رقيقه  وتظهر بالمنظر السطحي اما متموجه او مستقيمه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11" descr="Epidermis cells"/>
          <p:cNvPicPr/>
          <p:nvPr/>
        </p:nvPicPr>
        <p:blipFill>
          <a:blip r:embed="rId1"/>
          <a:stretch/>
        </p:blipFill>
        <p:spPr>
          <a:xfrm>
            <a:off x="250920" y="2781360"/>
            <a:ext cx="4105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شعيره غديه عديدة خلايا العنق ثنائية الصف ورأس عديد الخلايا"/>
          <p:cNvPicPr/>
          <p:nvPr/>
        </p:nvPicPr>
        <p:blipFill>
          <a:blip r:embed="rId1"/>
          <a:stretch/>
        </p:blipFill>
        <p:spPr>
          <a:xfrm>
            <a:off x="1116000" y="765000"/>
            <a:ext cx="7488360" cy="4492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-479160" y="5589720"/>
            <a:ext cx="105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شعيره غديه عديدة خلايا العنق ثنائية الصف ورأس عديد الخلا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شعيره غديه عديدة خلايا العنق وحيد الصف ورأس وحيد الخلايا"/>
          <p:cNvPicPr/>
          <p:nvPr/>
        </p:nvPicPr>
        <p:blipFill>
          <a:blip r:embed="rId1"/>
          <a:stretch/>
        </p:blipFill>
        <p:spPr>
          <a:xfrm>
            <a:off x="684360" y="765000"/>
            <a:ext cx="7775280" cy="44928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38320" y="5661000"/>
            <a:ext cx="90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شعيره غديه عديدة خلايا العنق وحيد الصف ورأس وحيد الخلاي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شعيره غديه عنق عديد الخلايا وحيد الصف  ورأس عديد"/>
          <p:cNvPicPr/>
          <p:nvPr/>
        </p:nvPicPr>
        <p:blipFill>
          <a:blip r:embed="rId1"/>
          <a:stretch/>
        </p:blipFill>
        <p:spPr>
          <a:xfrm>
            <a:off x="1116000" y="765000"/>
            <a:ext cx="6696000" cy="44928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716040" y="5877000"/>
            <a:ext cx="79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شعيره غديه عنق عديد الخلايا وحيد الصف  ورأس عدي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شعيره غديه وحيدة العنق والرأس ثنائي"/>
          <p:cNvPicPr/>
          <p:nvPr/>
        </p:nvPicPr>
        <p:blipFill>
          <a:blip r:embed="rId1"/>
          <a:stretch/>
        </p:blipFill>
        <p:spPr>
          <a:xfrm>
            <a:off x="826920" y="1052640"/>
            <a:ext cx="75614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49640" y="5445000"/>
            <a:ext cx="88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شعيره غديه وحيدة خلايا العنق والرأس ثنائي الخلا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064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خلايا حركيه  في ورقة نبات ذوات فلقه واحده"/>
          <p:cNvPicPr/>
          <p:nvPr/>
        </p:nvPicPr>
        <p:blipFill>
          <a:blip r:embed="rId1"/>
          <a:stretch/>
        </p:blipFill>
        <p:spPr>
          <a:xfrm>
            <a:off x="179280" y="692280"/>
            <a:ext cx="5040360" cy="403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97960" y="5229360"/>
            <a:ext cx="76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خلايا حركيه في بشره نبات من ذوات الفلقه الواحد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6" descr="pe5%5B1%5D"/>
          <p:cNvPicPr/>
          <p:nvPr/>
        </p:nvPicPr>
        <p:blipFill>
          <a:blip r:embed="rId2"/>
          <a:stretch/>
        </p:blipFill>
        <p:spPr>
          <a:xfrm>
            <a:off x="5508720" y="1125360"/>
            <a:ext cx="34560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0" y="316080"/>
            <a:ext cx="89852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ahoma"/>
              </a:rPr>
              <a:t>اولا : ثغور  ذوات الفلقتين: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ي فتحات توجد بالبشره تحاط بخليتين حارستين وكل خليه تحتوي على نواه وغنيه بالابلاستيدات ويكون جدار الخليه الحارسه غليظا من الناحيه المواجهه لفتحة الثغر ورقيقا من الناحيه البعيده عنه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لها شكل كلوي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Epidermal peel of sedum"/>
          <p:cNvPicPr/>
          <p:nvPr/>
        </p:nvPicPr>
        <p:blipFill>
          <a:blip r:embed="rId1"/>
          <a:stretch/>
        </p:blipFill>
        <p:spPr>
          <a:xfrm>
            <a:off x="4270320" y="2133720"/>
            <a:ext cx="4873680" cy="3654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774720" y="5877000"/>
            <a:ext cx="97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غير متساوي 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حيط بالثغر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خلايا مساعده احدها صغير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9" descr="Trifolium_pratense"/>
          <p:cNvPicPr/>
          <p:nvPr/>
        </p:nvPicPr>
        <p:blipFill>
          <a:blip r:embed="rId2"/>
          <a:stretch/>
        </p:blipFill>
        <p:spPr>
          <a:xfrm>
            <a:off x="324000" y="2133720"/>
            <a:ext cx="37796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ثغر غير منتظم  الخلايا الحارسه"/>
          <p:cNvPicPr/>
          <p:nvPr/>
        </p:nvPicPr>
        <p:blipFill>
          <a:blip r:embed="rId1"/>
          <a:stretch/>
        </p:blipFill>
        <p:spPr>
          <a:xfrm>
            <a:off x="4894200" y="189000"/>
            <a:ext cx="4249800" cy="3960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427640" y="4221000"/>
            <a:ext cx="4716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غير منتظم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خلايا المساعده فيه غير منتظمه وغير متميز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7" descr="ثغر متعامد الخلايا الحارسه"/>
          <p:cNvPicPr/>
          <p:nvPr/>
        </p:nvPicPr>
        <p:blipFill>
          <a:blip r:embed="rId2"/>
          <a:stretch/>
        </p:blipFill>
        <p:spPr>
          <a:xfrm>
            <a:off x="179280" y="189000"/>
            <a:ext cx="3961080" cy="2973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-1035000" y="6149880"/>
            <a:ext cx="721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متعامد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حيط به خليتان مساعدت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تعامد جدارهما المشترك مع المحور الطولي للثغر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9" descr="leaf%20stomata"/>
          <p:cNvPicPr/>
          <p:nvPr/>
        </p:nvPicPr>
        <p:blipFill>
          <a:blip r:embed="rId3"/>
          <a:stretch/>
        </p:blipFill>
        <p:spPr>
          <a:xfrm>
            <a:off x="324000" y="328464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292720" y="4221000"/>
            <a:ext cx="3692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متوازي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حيط بالثغر خليتان مساعدتان جدارهما المشترك موازي للمحور الطولي للثغر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4292640"/>
            <a:ext cx="4336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شعاعي الخلايا المساعده: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يحيط بالثغر عدد كبير من الخلايا المساعده تنتظم في ترتيب قطري مع الثغ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6" descr="An epidermal strip of a leaf showing a stomatal complex"/>
          <p:cNvPicPr/>
          <p:nvPr/>
        </p:nvPicPr>
        <p:blipFill>
          <a:blip r:embed="rId1"/>
          <a:stretch/>
        </p:blipFill>
        <p:spPr>
          <a:xfrm>
            <a:off x="5219640" y="404640"/>
            <a:ext cx="3745080" cy="374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SC00032"/>
          <p:cNvPicPr/>
          <p:nvPr/>
        </p:nvPicPr>
        <p:blipFill>
          <a:blip r:embed="rId2"/>
          <a:stretch/>
        </p:blipFill>
        <p:spPr>
          <a:xfrm>
            <a:off x="324000" y="476280"/>
            <a:ext cx="4679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722120" y="417600"/>
            <a:ext cx="47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ahoma"/>
              </a:rPr>
              <a:t>ثالثا:ثغور ذوات الفلقه الواحده: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5" descr="stomata 6"/>
          <p:cNvPicPr/>
          <p:nvPr/>
        </p:nvPicPr>
        <p:blipFill>
          <a:blip r:embed="rId1"/>
          <a:stretch/>
        </p:blipFill>
        <p:spPr>
          <a:xfrm>
            <a:off x="179280" y="907920"/>
            <a:ext cx="403236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-699120" y="472428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ثغر يحاط ب اربع الى ست خلايا مساعده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121360" y="907920"/>
            <a:ext cx="4022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قد تأخذ  الخلايا الحارسه شكل خاص يسمى الصولجاني في الفصيله</a:t>
            </a:r>
            <a:r>
              <a:rPr b="0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السعديه ،</a:t>
            </a:r>
            <a:r>
              <a:rPr b="1" lang="ar-S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والنجيليه أي على شكل وحدتي اثقال صغيره ذات جزء وسطي ضيق سميك الجدار ونهايتين منتفختين  رقيقتي الجدار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stomata 2"/>
          <p:cNvPicPr/>
          <p:nvPr/>
        </p:nvPicPr>
        <p:blipFill>
          <a:blip r:embed="rId2"/>
          <a:stretch/>
        </p:blipFill>
        <p:spPr>
          <a:xfrm>
            <a:off x="5126040" y="3645000"/>
            <a:ext cx="40179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tomata"/>
          <p:cNvPicPr/>
          <p:nvPr/>
        </p:nvPicPr>
        <p:blipFill>
          <a:blip r:embed="rId1"/>
          <a:stretch/>
        </p:blipFill>
        <p:spPr>
          <a:xfrm>
            <a:off x="1619280" y="620640"/>
            <a:ext cx="6048360" cy="4608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133280" y="5734080"/>
            <a:ext cx="77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ahoma"/>
              </a:rPr>
              <a:t>- ثغر يحاط باربع الى ست  خلايا مساعده  اثنتان منها مستدير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stoma_PA050038md"/>
          <p:cNvPicPr/>
          <p:nvPr/>
        </p:nvPicPr>
        <p:blipFill>
          <a:blip r:embed="rId1"/>
          <a:stretch/>
        </p:blipFill>
        <p:spPr>
          <a:xfrm>
            <a:off x="1187280" y="260280"/>
            <a:ext cx="6769440" cy="46814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904680" y="4941720"/>
            <a:ext cx="721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ثغر لا يحاط بخلايا مساعده متميزه مثل – بصل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9:05:12Z</dcterms:created>
  <dc:creator>HELP</dc:creator>
  <dc:description/>
  <dc:language>en-US</dc:language>
  <cp:lastModifiedBy>a</cp:lastModifiedBy>
  <dcterms:modified xsi:type="dcterms:W3CDTF">2016-10-21T14:42:38Z</dcterms:modified>
  <cp:revision>61</cp:revision>
  <dc:subject/>
  <dc:title>الانسجه المستديمه</dc:title>
</cp:coreProperties>
</file>