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F1C-7955-4AC2-AAD7-B285CA4D623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527-2CE6-4E2C-BF1C-8AE83EEB94C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6BF7-94DE-408B-8EAE-5FBDBC7EF9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B94-F4E5-4FCC-B5F4-1F4180CFE1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0EE-6A14-4609-A932-427FFCCAEF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359-9EFF-4DCF-B48E-821EE8C07A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5EF-2DC2-4FCD-BDBC-D844345B21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EDC-CAF8-4873-B86F-19D02898B70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1E1-32C1-46BE-866F-826949B265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CB7-1A32-438A-84BF-EA1F2BAD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995-265D-4529-88AC-2787E6D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F6E-FCD0-402C-BE98-887A0728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BFD-6933-4B45-956B-E95A5BCE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F11-DF58-4DB4-8786-DDF48E6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744-B4F9-4F51-8308-E6CF7FB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253-693C-467F-B47A-143C42E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D0B-5C2B-4A64-9CD3-7696BCD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A4F-A324-4A86-B4E6-8AB40E8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CFC-B2D9-40C1-85BB-B773DDA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4D4-030A-4CEC-B842-91969C7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13D-DDB4-4EEE-B3D1-9CFFFEA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5B0-A0A3-447F-BA79-EEB7E57CB1E6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3BC5-F473-4A64-ACB5-191BCEAB10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36360" y="1316160"/>
            <a:ext cx="9144000" cy="2938320"/>
          </a:xfrm>
          <a:prstGeom prst="rect">
            <a:avLst/>
          </a:prstGeom>
          <a:ln w="0">
            <a:noFill/>
          </a:ln>
        </p:spPr>
      </p:pic>
      <p:sp>
        <p:nvSpPr>
          <p:cNvPr id="49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A02-9FF9-4B72-B472-1CAFB62367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hopes\Desktop\145 zoo MY WORK\Ascaris_Mitosis1.jpg"/>
          <p:cNvPicPr/>
          <p:nvPr/>
        </p:nvPicPr>
        <p:blipFill>
          <a:blip r:embed="rId1"/>
          <a:srcRect l="0" t="26373" r="0" b="0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529-7293-45B8-85A0-4FD97A4323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مستطيل 4" descr=""/>
          <p:cNvPicPr/>
          <p:nvPr/>
        </p:nvPicPr>
        <p:blipFill>
          <a:blip r:embed="rId2"/>
          <a:stretch/>
        </p:blipFill>
        <p:spPr>
          <a:xfrm>
            <a:off x="171360" y="-103320"/>
            <a:ext cx="9277560" cy="1382760"/>
          </a:xfrm>
          <a:prstGeom prst="rect">
            <a:avLst/>
          </a:prstGeom>
          <a:ln w="0">
            <a:noFill/>
          </a:ln>
        </p:spPr>
      </p:pic>
      <p:sp>
        <p:nvSpPr>
          <p:cNvPr id="114" name="مستطيل 5"/>
          <p:cNvSpPr/>
          <p:nvPr/>
        </p:nvSpPr>
        <p:spPr>
          <a:xfrm>
            <a:off x="6094800" y="15573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6227640" y="1989000"/>
            <a:ext cx="865440" cy="16560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53E-D0C8-4C03-8F9A-CB3FED74FA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مستطيل 4" descr=""/>
          <p:cNvPicPr/>
          <p:nvPr/>
        </p:nvPicPr>
        <p:blipFill>
          <a:blip r:embed="rId2"/>
          <a:stretch/>
        </p:blipFill>
        <p:spPr>
          <a:xfrm>
            <a:off x="171360" y="2346480"/>
            <a:ext cx="9277560" cy="1384200"/>
          </a:xfrm>
          <a:prstGeom prst="rect">
            <a:avLst/>
          </a:prstGeom>
          <a:ln w="0">
            <a:noFill/>
          </a:ln>
        </p:spPr>
      </p:pic>
      <p:sp>
        <p:nvSpPr>
          <p:cNvPr id="120" name="مستطيل 5"/>
          <p:cNvSpPr/>
          <p:nvPr/>
        </p:nvSpPr>
        <p:spPr>
          <a:xfrm>
            <a:off x="2649240" y="15573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3635280" y="980640"/>
            <a:ext cx="1152720" cy="576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324-6D11-4A84-978A-FB2ACDF764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rcRect l="1565" t="0" r="0" b="0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24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مستطيل 4" descr=""/>
          <p:cNvPicPr/>
          <p:nvPr/>
        </p:nvPicPr>
        <p:blipFill>
          <a:blip r:embed="rId2"/>
          <a:stretch/>
        </p:blipFill>
        <p:spPr>
          <a:xfrm>
            <a:off x="171360" y="-244440"/>
            <a:ext cx="9277560" cy="1384200"/>
          </a:xfrm>
          <a:prstGeom prst="rect">
            <a:avLst/>
          </a:prstGeom>
          <a:ln w="0">
            <a:noFill/>
          </a:ln>
        </p:spPr>
      </p:pic>
      <p:sp>
        <p:nvSpPr>
          <p:cNvPr id="126" name="مستطيل 5"/>
          <p:cNvSpPr/>
          <p:nvPr/>
        </p:nvSpPr>
        <p:spPr>
          <a:xfrm>
            <a:off x="985320" y="184464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1835280" y="2349360"/>
            <a:ext cx="865080" cy="9352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5F3-E3AE-45C1-910D-3795FC8015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0" t="1565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ستطيل 4" descr=""/>
          <p:cNvPicPr/>
          <p:nvPr/>
        </p:nvPicPr>
        <p:blipFill>
          <a:blip r:embed="rId2"/>
          <a:stretch/>
        </p:blipFill>
        <p:spPr>
          <a:xfrm>
            <a:off x="208080" y="-139680"/>
            <a:ext cx="9270720" cy="1382760"/>
          </a:xfrm>
          <a:prstGeom prst="rect">
            <a:avLst/>
          </a:prstGeom>
          <a:ln w="0">
            <a:noFill/>
          </a:ln>
        </p:spPr>
      </p:pic>
      <p:sp>
        <p:nvSpPr>
          <p:cNvPr id="132" name="مستطيل 5"/>
          <p:cNvSpPr/>
          <p:nvPr/>
        </p:nvSpPr>
        <p:spPr>
          <a:xfrm>
            <a:off x="2193840" y="1484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lo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3059280" y="1989000"/>
            <a:ext cx="288720" cy="8636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389-857C-43A0-B522-64B6B1BFA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C:\Users\hopes\Desktop\145 zoo MY WORK\pp\any-question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94896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ll division is a process by which the cellular material is divided between 2 new daughte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  <a:ea typeface="Calibri"/>
              </a:rPr>
              <a:t>Mitosis (indirect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occurs in somatic cells of highe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t is the means of population growth in unicellula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sults in two daughte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have the same number of chromosomes of the mother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4"/>
          <p:cNvSpPr/>
          <p:nvPr/>
        </p:nvSpPr>
        <p:spPr>
          <a:xfrm>
            <a:off x="2176560" y="357120"/>
            <a:ext cx="32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Calibri"/>
              </a:rPr>
              <a:t>Cell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29160"/>
            <a:ext cx="5143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46c0a"/>
                </a:solidFill>
                <a:uFillTx/>
                <a:latin typeface="Arial"/>
                <a:ea typeface="Calibri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thin-long extended threads, too delica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rtain segments are tightly coiled and chromatin granules insid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ppears clear with one or 2 nucl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is replicated 8 in preparation for the daughter cells to receive an exact replica of the chromosomes and about half of the 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zimmermann-interphase.jpg"/>
          <p:cNvPicPr/>
          <p:nvPr/>
        </p:nvPicPr>
        <p:blipFill>
          <a:blip r:embed="rId1"/>
          <a:stretch/>
        </p:blipFill>
        <p:spPr>
          <a:xfrm>
            <a:off x="4913280" y="2214720"/>
            <a:ext cx="3944880" cy="2571480"/>
          </a:xfrm>
          <a:prstGeom prst="rect">
            <a:avLst/>
          </a:prstGeom>
          <a:ln w="0">
            <a:noFill/>
          </a:ln>
        </p:spPr>
      </p:pic>
      <p:sp>
        <p:nvSpPr>
          <p:cNvPr id="54" name="مربع نص 4"/>
          <p:cNvSpPr/>
          <p:nvPr/>
        </p:nvSpPr>
        <p:spPr>
          <a:xfrm>
            <a:off x="6860160" y="3857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مستطيل 3" descr=""/>
          <p:cNvPicPr/>
          <p:nvPr/>
        </p:nvPicPr>
        <p:blipFill>
          <a:blip r:embed="rId1"/>
          <a:stretch/>
        </p:blipFill>
        <p:spPr>
          <a:xfrm>
            <a:off x="2273400" y="-36360"/>
            <a:ext cx="4475160" cy="71892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10"/>
          <p:cNvSpPr/>
          <p:nvPr/>
        </p:nvSpPr>
        <p:spPr>
          <a:xfrm>
            <a:off x="5947560" y="62064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16"/>
          <p:cNvSpPr/>
          <p:nvPr/>
        </p:nvSpPr>
        <p:spPr>
          <a:xfrm>
            <a:off x="6227640" y="1125360"/>
            <a:ext cx="1297080" cy="12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17"/>
          <p:cNvSpPr/>
          <p:nvPr/>
        </p:nvSpPr>
        <p:spPr>
          <a:xfrm>
            <a:off x="6227640" y="2565360"/>
            <a:ext cx="1297080" cy="129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18"/>
          <p:cNvSpPr/>
          <p:nvPr/>
        </p:nvSpPr>
        <p:spPr>
          <a:xfrm>
            <a:off x="6227640" y="3933720"/>
            <a:ext cx="1297080" cy="129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19"/>
          <p:cNvSpPr/>
          <p:nvPr/>
        </p:nvSpPr>
        <p:spPr>
          <a:xfrm>
            <a:off x="6012000" y="5300640"/>
            <a:ext cx="1296720" cy="129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حر 68"/>
          <p:cNvSpPr/>
          <p:nvPr/>
        </p:nvSpPr>
        <p:spPr>
          <a:xfrm flipH="1">
            <a:off x="6588000" y="1413000"/>
            <a:ext cx="216000" cy="288720"/>
          </a:xfrm>
          <a:custGeom>
            <a:avLst/>
            <a:gdLst/>
            <a:ahLst/>
            <a:rect l="l" t="t" r="r" b="b"/>
            <a:pathLst>
              <a:path w="187664" h="293452">
                <a:moveTo>
                  <a:pt x="46987" y="0"/>
                </a:moveTo>
                <a:cubicBezTo>
                  <a:pt x="42298" y="18757"/>
                  <a:pt x="38231" y="37681"/>
                  <a:pt x="32919" y="56271"/>
                </a:cubicBezTo>
                <a:cubicBezTo>
                  <a:pt x="28845" y="70529"/>
                  <a:pt x="22447" y="84088"/>
                  <a:pt x="18851" y="98474"/>
                </a:cubicBezTo>
                <a:cubicBezTo>
                  <a:pt x="13052" y="121670"/>
                  <a:pt x="9473" y="145366"/>
                  <a:pt x="4784" y="168812"/>
                </a:cubicBezTo>
                <a:cubicBezTo>
                  <a:pt x="5499" y="173103"/>
                  <a:pt x="0" y="293452"/>
                  <a:pt x="61054" y="267286"/>
                </a:cubicBezTo>
                <a:cubicBezTo>
                  <a:pt x="85436" y="256837"/>
                  <a:pt x="117325" y="211015"/>
                  <a:pt x="117325" y="211015"/>
                </a:cubicBezTo>
                <a:cubicBezTo>
                  <a:pt x="132183" y="166442"/>
                  <a:pt x="128363" y="165565"/>
                  <a:pt x="159528" y="126609"/>
                </a:cubicBezTo>
                <a:cubicBezTo>
                  <a:pt x="167814" y="116252"/>
                  <a:pt x="187664" y="98474"/>
                  <a:pt x="187664" y="9847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مجموعة 93"/>
          <p:cNvGrpSpPr/>
          <p:nvPr/>
        </p:nvGrpSpPr>
        <p:grpSpPr>
          <a:xfrm>
            <a:off x="6508440" y="1413000"/>
            <a:ext cx="583200" cy="632880"/>
            <a:chOff x="6508440" y="1413000"/>
            <a:chExt cx="583200" cy="632880"/>
          </a:xfrm>
        </p:grpSpPr>
        <p:sp>
          <p:nvSpPr>
            <p:cNvPr id="64" name="شكل حر 66"/>
            <p:cNvSpPr/>
            <p:nvPr/>
          </p:nvSpPr>
          <p:spPr>
            <a:xfrm>
              <a:off x="6859440" y="1413000"/>
              <a:ext cx="188640" cy="29196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شكل حر 69"/>
            <p:cNvSpPr/>
            <p:nvPr/>
          </p:nvSpPr>
          <p:spPr>
            <a:xfrm rot="10613400">
              <a:off x="6516000" y="1728720"/>
              <a:ext cx="261720" cy="30168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شكل حر 70"/>
            <p:cNvSpPr/>
            <p:nvPr/>
          </p:nvSpPr>
          <p:spPr>
            <a:xfrm flipH="1" rot="10614000">
              <a:off x="6895800" y="1726560"/>
              <a:ext cx="187200" cy="31428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رابط مستقيم 72"/>
          <p:cNvSpPr/>
          <p:nvPr/>
        </p:nvSpPr>
        <p:spPr>
          <a:xfrm>
            <a:off x="6372360" y="3141720"/>
            <a:ext cx="1008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مجموعة 75"/>
          <p:cNvGrpSpPr/>
          <p:nvPr/>
        </p:nvGrpSpPr>
        <p:grpSpPr>
          <a:xfrm>
            <a:off x="6587640" y="4005360"/>
            <a:ext cx="576720" cy="1150560"/>
            <a:chOff x="6587640" y="4005360"/>
            <a:chExt cx="576720" cy="1150560"/>
          </a:xfrm>
        </p:grpSpPr>
        <p:grpSp>
          <p:nvGrpSpPr>
            <p:cNvPr id="69" name="مجموعة 53"/>
            <p:cNvGrpSpPr/>
            <p:nvPr/>
          </p:nvGrpSpPr>
          <p:grpSpPr>
            <a:xfrm>
              <a:off x="6588000" y="4005360"/>
              <a:ext cx="576360" cy="431640"/>
              <a:chOff x="6588000" y="4005360"/>
              <a:chExt cx="576360" cy="431640"/>
            </a:xfrm>
          </p:grpSpPr>
          <p:sp>
            <p:nvSpPr>
              <p:cNvPr id="70" name="شكل حر 84"/>
              <p:cNvSpPr/>
              <p:nvPr/>
            </p:nvSpPr>
            <p:spPr>
              <a:xfrm>
                <a:off x="6588000" y="4006800"/>
                <a:ext cx="127080" cy="4064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شكل حر 85"/>
              <p:cNvSpPr/>
              <p:nvPr/>
            </p:nvSpPr>
            <p:spPr>
              <a:xfrm>
                <a:off x="6732360" y="4005360"/>
                <a:ext cx="71280" cy="4316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شكل حر 86"/>
              <p:cNvSpPr/>
              <p:nvPr/>
            </p:nvSpPr>
            <p:spPr>
              <a:xfrm flipH="1">
                <a:off x="6948360" y="4005360"/>
                <a:ext cx="2160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شكل حر 88"/>
              <p:cNvSpPr/>
              <p:nvPr/>
            </p:nvSpPr>
            <p:spPr>
              <a:xfrm flipH="1">
                <a:off x="6877080" y="4005360"/>
                <a:ext cx="792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مجموعة 54"/>
            <p:cNvGrpSpPr/>
            <p:nvPr/>
          </p:nvGrpSpPr>
          <p:grpSpPr>
            <a:xfrm>
              <a:off x="6587640" y="4724280"/>
              <a:ext cx="576360" cy="431640"/>
              <a:chOff x="6587640" y="4724280"/>
              <a:chExt cx="576360" cy="431640"/>
            </a:xfrm>
          </p:grpSpPr>
          <p:sp>
            <p:nvSpPr>
              <p:cNvPr id="75" name="شكل حر 78"/>
              <p:cNvSpPr/>
              <p:nvPr/>
            </p:nvSpPr>
            <p:spPr>
              <a:xfrm rot="10800000">
                <a:off x="7036920" y="4748040"/>
                <a:ext cx="127080" cy="4064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شكل حر 80"/>
              <p:cNvSpPr/>
              <p:nvPr/>
            </p:nvSpPr>
            <p:spPr>
              <a:xfrm flipH="1" rot="10800000">
                <a:off x="6587640" y="4735440"/>
                <a:ext cx="2160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شكل حر 82"/>
              <p:cNvSpPr/>
              <p:nvPr/>
            </p:nvSpPr>
            <p:spPr>
              <a:xfrm flipH="1" rot="10800000">
                <a:off x="6795720" y="4735440"/>
                <a:ext cx="792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شكل حر 83"/>
              <p:cNvSpPr/>
              <p:nvPr/>
            </p:nvSpPr>
            <p:spPr>
              <a:xfrm rot="10800000">
                <a:off x="6935760" y="4724280"/>
                <a:ext cx="71280" cy="4316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شكل بيضاوي 90"/>
          <p:cNvSpPr/>
          <p:nvPr/>
        </p:nvSpPr>
        <p:spPr>
          <a:xfrm>
            <a:off x="7524720" y="5300640"/>
            <a:ext cx="1297080" cy="129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شكل بيضاوي 91"/>
          <p:cNvSpPr/>
          <p:nvPr/>
        </p:nvSpPr>
        <p:spPr>
          <a:xfrm>
            <a:off x="7812000" y="5661000"/>
            <a:ext cx="576360" cy="50472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شكل بيضاوي 92"/>
          <p:cNvSpPr/>
          <p:nvPr/>
        </p:nvSpPr>
        <p:spPr>
          <a:xfrm>
            <a:off x="6372360" y="5732640"/>
            <a:ext cx="576000" cy="50472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87"/>
          <p:cNvSpPr/>
          <p:nvPr/>
        </p:nvSpPr>
        <p:spPr>
          <a:xfrm>
            <a:off x="611280" y="1125360"/>
            <a:ext cx="4752720" cy="11512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89"/>
          <p:cNvSpPr/>
          <p:nvPr/>
        </p:nvSpPr>
        <p:spPr>
          <a:xfrm>
            <a:off x="611280" y="256536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ta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93"/>
          <p:cNvSpPr/>
          <p:nvPr/>
        </p:nvSpPr>
        <p:spPr>
          <a:xfrm>
            <a:off x="611280" y="393372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a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ight Arrow 94"/>
          <p:cNvSpPr/>
          <p:nvPr/>
        </p:nvSpPr>
        <p:spPr>
          <a:xfrm>
            <a:off x="611280" y="537372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lo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87AE-9E11-40E5-99CB-9D46A90A27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953280"/>
            <a:ext cx="5429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al thr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become tightly coiled,shorter and denser could be seen as chromosomes each is formed of 2 sister chromatids attached together at the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ar envel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s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o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entrioles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  <a:ea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surrounded by fan of astral rays, start to migrate toward opposite pole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fib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begin to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ستطيل 3"/>
          <p:cNvSpPr/>
          <p:nvPr/>
        </p:nvSpPr>
        <p:spPr>
          <a:xfrm>
            <a:off x="3719520" y="2858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zimmermann-prophase1.jpg"/>
          <p:cNvPicPr/>
          <p:nvPr/>
        </p:nvPicPr>
        <p:blipFill>
          <a:blip r:embed="rId1"/>
          <a:stretch/>
        </p:blipFill>
        <p:spPr>
          <a:xfrm>
            <a:off x="5329080" y="1000080"/>
            <a:ext cx="381492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lzimmermann-prophase2.jpg"/>
          <p:cNvPicPr/>
          <p:nvPr/>
        </p:nvPicPr>
        <p:blipFill>
          <a:blip r:embed="rId2"/>
          <a:stretch/>
        </p:blipFill>
        <p:spPr>
          <a:xfrm>
            <a:off x="5286240" y="3714840"/>
            <a:ext cx="3643560" cy="2665440"/>
          </a:xfrm>
          <a:prstGeom prst="rect">
            <a:avLst/>
          </a:prstGeom>
          <a:ln w="0">
            <a:noFill/>
          </a:ln>
        </p:spPr>
      </p:pic>
      <p:cxnSp>
        <p:nvCxnSpPr>
          <p:cNvPr id="91" name="رابط كسهم مستقيم 7"/>
          <p:cNvCxnSpPr/>
          <p:nvPr/>
        </p:nvCxnSpPr>
        <p:spPr>
          <a:xfrm flipH="1">
            <a:off x="6643440" y="343044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299-DF1F-4E88-92C2-9A4AEF48E2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0" y="810360"/>
            <a:ext cx="5214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fib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fully formed and astral rays appear around the centrioles at the cell poles (in animal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arranged in the equatorial plane and their centromeres appear attached to the spindle fibers at their kinetoch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These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kinetochores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2 disk-shaped structures in each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3"/>
          <p:cNvSpPr/>
          <p:nvPr/>
        </p:nvSpPr>
        <p:spPr>
          <a:xfrm>
            <a:off x="2862720" y="0"/>
            <a:ext cx="28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zimmermann-metaphase.jpg"/>
          <p:cNvPicPr/>
          <p:nvPr/>
        </p:nvPicPr>
        <p:blipFill>
          <a:blip r:embed="rId1"/>
          <a:stretch/>
        </p:blipFill>
        <p:spPr>
          <a:xfrm>
            <a:off x="5291280" y="1857240"/>
            <a:ext cx="385272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0578-7BBD-45B2-A538-12D467E4D8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57120" y="1303560"/>
            <a:ext cx="442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entrome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plit the 2 chromatids of each chromosome separated and pulled toward the corresponding cell p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(centriole in animal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Now each chromatid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chrom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ستطيل 3"/>
          <p:cNvSpPr/>
          <p:nvPr/>
        </p:nvSpPr>
        <p:spPr>
          <a:xfrm>
            <a:off x="3497760" y="285840"/>
            <a:ext cx="26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3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zimmermann-anaphase.jpg"/>
          <p:cNvPicPr/>
          <p:nvPr/>
        </p:nvPicPr>
        <p:blipFill>
          <a:blip r:embed="rId1"/>
          <a:stretch/>
        </p:blipFill>
        <p:spPr>
          <a:xfrm>
            <a:off x="4832280" y="2214720"/>
            <a:ext cx="4311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80D6-2F2F-48D1-99EB-356D25D796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10918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have reached the opposite p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p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become diff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o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A nuclear envel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forms around each chromosome set, thus a nucleus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ستطيل 3"/>
          <p:cNvSpPr/>
          <p:nvPr/>
        </p:nvSpPr>
        <p:spPr>
          <a:xfrm>
            <a:off x="2918880" y="285840"/>
            <a:ext cx="27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zimmermann-telophase.jpg"/>
          <p:cNvPicPr/>
          <p:nvPr/>
        </p:nvPicPr>
        <p:blipFill>
          <a:blip r:embed="rId1"/>
          <a:stretch/>
        </p:blipFill>
        <p:spPr>
          <a:xfrm>
            <a:off x="4214880" y="2000160"/>
            <a:ext cx="47354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Users\hopes\Desktop\145 zoo MY WORK\Ascaris_Mitosis3.jpg"/>
          <p:cNvPicPr/>
          <p:nvPr/>
        </p:nvPicPr>
        <p:blipFill>
          <a:blip r:embed="rId1"/>
          <a:srcRect l="0" t="0" r="0" b="269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004-E713-4220-9266-6D7495A762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مستطيل 4" descr=""/>
          <p:cNvPicPr/>
          <p:nvPr/>
        </p:nvPicPr>
        <p:blipFill>
          <a:blip r:embed="rId2"/>
          <a:stretch/>
        </p:blipFill>
        <p:spPr>
          <a:xfrm>
            <a:off x="55440" y="-146160"/>
            <a:ext cx="9453600" cy="1384560"/>
          </a:xfrm>
          <a:prstGeom prst="rect">
            <a:avLst/>
          </a:prstGeom>
          <a:ln w="0">
            <a:noFill/>
          </a:ln>
        </p:spPr>
      </p:pic>
      <p:sp>
        <p:nvSpPr>
          <p:cNvPr id="108" name="مستطيل 5"/>
          <p:cNvSpPr/>
          <p:nvPr/>
        </p:nvSpPr>
        <p:spPr>
          <a:xfrm>
            <a:off x="821160" y="134136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411280" y="1628640"/>
            <a:ext cx="122400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6:56:01Z</dcterms:created>
  <dc:creator>hopes</dc:creator>
  <dc:description/>
  <dc:language>en-US</dc:language>
  <cp:lastModifiedBy>user</cp:lastModifiedBy>
  <dcterms:modified xsi:type="dcterms:W3CDTF">2015-02-01T00:57:01Z</dcterms:modified>
  <cp:revision>57</cp:revision>
  <dc:subject/>
  <dc:title>الشريحة 1</dc:title>
</cp:coreProperties>
</file>