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B40-4AC7-424A-8942-FE1EF33DA9D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84C5-DA45-4123-88F4-095969030FB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739-D6EF-4193-B949-45F4332035A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2BA4-52A2-4140-B691-3B5F4F99C90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0B9-EE3C-4E73-80CC-0FF233FD834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27D6-D5BC-466B-9471-C4C37E3D4DB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175D-1308-4C25-897F-63673E878DC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06B8-206F-428E-A1EC-FD43FC0B74C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DCD0-139E-421B-B539-D0161027D9B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6C2-CC8A-48A4-A5B9-823F7E4E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4FE-BBFD-4E44-B0B2-87FB98F9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95D-F477-4FCE-BC4C-19008F60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FE8-8850-49DB-AD55-20A7B7FB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DBD-D8B3-4A2A-B5FA-EB44A933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BB3-53BB-4F78-8C61-30E31061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92B-C75F-4F07-96C0-81124FD7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3BF-460F-4C2B-9338-223A00A2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5EA-80AC-499F-B4E0-D7E01DFC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793-0A3D-4265-89D5-D194938D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1CD-23F4-4F00-810D-0BF460C9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FA4-C618-4160-B136-09F56783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E2B2-231E-433B-9857-F8C9144738DC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3D7-6C2A-4E77-ABC4-28AB0F882D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-36360" y="1316160"/>
            <a:ext cx="9144000" cy="2938320"/>
          </a:xfrm>
          <a:prstGeom prst="rect">
            <a:avLst/>
          </a:prstGeom>
          <a:ln w="0">
            <a:noFill/>
          </a:ln>
        </p:spPr>
      </p:pic>
      <p:sp>
        <p:nvSpPr>
          <p:cNvPr id="49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6FF8-7B4F-46B7-98CB-4373DED5EC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hopes\Desktop\145 zoo MY WORK\Ascaris_Mitosis1.jpg"/>
          <p:cNvPicPr/>
          <p:nvPr/>
        </p:nvPicPr>
        <p:blipFill>
          <a:blip r:embed="rId1"/>
          <a:srcRect l="0" t="26373" r="0" b="0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5AD4-E063-444D-8E88-06FF092ABA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مستطيل 4" descr=""/>
          <p:cNvPicPr/>
          <p:nvPr/>
        </p:nvPicPr>
        <p:blipFill>
          <a:blip r:embed="rId2"/>
          <a:stretch/>
        </p:blipFill>
        <p:spPr>
          <a:xfrm>
            <a:off x="171360" y="-103320"/>
            <a:ext cx="9277560" cy="1382760"/>
          </a:xfrm>
          <a:prstGeom prst="rect">
            <a:avLst/>
          </a:prstGeom>
          <a:ln w="0">
            <a:noFill/>
          </a:ln>
        </p:spPr>
      </p:pic>
      <p:sp>
        <p:nvSpPr>
          <p:cNvPr id="114" name="مستطيل 5"/>
          <p:cNvSpPr/>
          <p:nvPr/>
        </p:nvSpPr>
        <p:spPr>
          <a:xfrm>
            <a:off x="6094800" y="155736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a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6227640" y="1989000"/>
            <a:ext cx="865440" cy="16560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0386-8E45-4211-9EB0-54D86BCA43A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مستطيل 4" descr=""/>
          <p:cNvPicPr/>
          <p:nvPr/>
        </p:nvPicPr>
        <p:blipFill>
          <a:blip r:embed="rId2"/>
          <a:stretch/>
        </p:blipFill>
        <p:spPr>
          <a:xfrm>
            <a:off x="171360" y="2346480"/>
            <a:ext cx="9277560" cy="1384200"/>
          </a:xfrm>
          <a:prstGeom prst="rect">
            <a:avLst/>
          </a:prstGeom>
          <a:ln w="0">
            <a:noFill/>
          </a:ln>
        </p:spPr>
      </p:pic>
      <p:sp>
        <p:nvSpPr>
          <p:cNvPr id="120" name="مستطيل 5"/>
          <p:cNvSpPr/>
          <p:nvPr/>
        </p:nvSpPr>
        <p:spPr>
          <a:xfrm>
            <a:off x="2649240" y="155736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a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 flipV="1">
            <a:off x="3635280" y="980640"/>
            <a:ext cx="1152720" cy="57636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4AED-D1E3-451E-AFC7-9D9116E140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rcRect l="1565" t="0" r="0" b="0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24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مستطيل 4" descr=""/>
          <p:cNvPicPr/>
          <p:nvPr/>
        </p:nvPicPr>
        <p:blipFill>
          <a:blip r:embed="rId2"/>
          <a:stretch/>
        </p:blipFill>
        <p:spPr>
          <a:xfrm>
            <a:off x="171360" y="-244440"/>
            <a:ext cx="9277560" cy="1384200"/>
          </a:xfrm>
          <a:prstGeom prst="rect">
            <a:avLst/>
          </a:prstGeom>
          <a:ln w="0">
            <a:noFill/>
          </a:ln>
        </p:spPr>
      </p:pic>
      <p:sp>
        <p:nvSpPr>
          <p:cNvPr id="126" name="مستطيل 5"/>
          <p:cNvSpPr/>
          <p:nvPr/>
        </p:nvSpPr>
        <p:spPr>
          <a:xfrm>
            <a:off x="985320" y="184464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1835280" y="2349360"/>
            <a:ext cx="865080" cy="9352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40E8-01E7-4FCA-BA98-DA67A39052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rcRect l="0" t="1565" r="0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مستطيل 4" descr=""/>
          <p:cNvPicPr/>
          <p:nvPr/>
        </p:nvPicPr>
        <p:blipFill>
          <a:blip r:embed="rId2"/>
          <a:stretch/>
        </p:blipFill>
        <p:spPr>
          <a:xfrm>
            <a:off x="208080" y="-139680"/>
            <a:ext cx="9270720" cy="1382760"/>
          </a:xfrm>
          <a:prstGeom prst="rect">
            <a:avLst/>
          </a:prstGeom>
          <a:ln w="0">
            <a:noFill/>
          </a:ln>
        </p:spPr>
      </p:pic>
      <p:sp>
        <p:nvSpPr>
          <p:cNvPr id="132" name="مستطيل 5"/>
          <p:cNvSpPr/>
          <p:nvPr/>
        </p:nvSpPr>
        <p:spPr>
          <a:xfrm>
            <a:off x="2193840" y="14842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lo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3059280" y="1989000"/>
            <a:ext cx="288720" cy="86364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DC41-B50B-4461-A5D4-821B4E467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C:\Users\hopes\Desktop\145 zoo MY WORK\pp\any-questions.jpg"/>
          <p:cNvPicPr/>
          <p:nvPr/>
        </p:nvPicPr>
        <p:blipFill>
          <a:blip r:embed="rId1"/>
          <a:stretch/>
        </p:blipFill>
        <p:spPr>
          <a:xfrm>
            <a:off x="0" y="0"/>
            <a:ext cx="92152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85840" y="94896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ell division is a process by which the cellular material is divided between 2 new daughter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  <a:ea typeface="Calibri"/>
              </a:rPr>
              <a:t>Mitosis (indirect 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occurs in somatic cells of higher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t is the means of population growth in unicellular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esults in two daughte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have the same number of chromosomes of the mother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ستطيل 4"/>
          <p:cNvSpPr/>
          <p:nvPr/>
        </p:nvSpPr>
        <p:spPr>
          <a:xfrm>
            <a:off x="2176560" y="357120"/>
            <a:ext cx="32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Calibri"/>
              </a:rPr>
              <a:t>Cell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29160"/>
            <a:ext cx="5143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46c0a"/>
                </a:solidFill>
                <a:uFillTx/>
                <a:latin typeface="Arial"/>
                <a:ea typeface="Calibri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re thin-long extended threads, too delica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ertain segments are tightly coiled and chromatin granules insid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ppears clear with one or 2 nucle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is replicated 8 in preparation for the daughter cells to receive an exact replica of the chromosomes and about half of the cytopla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zimmermann-interphase.jpg"/>
          <p:cNvPicPr/>
          <p:nvPr/>
        </p:nvPicPr>
        <p:blipFill>
          <a:blip r:embed="rId1"/>
          <a:stretch/>
        </p:blipFill>
        <p:spPr>
          <a:xfrm>
            <a:off x="4913280" y="2214720"/>
            <a:ext cx="3944880" cy="2571480"/>
          </a:xfrm>
          <a:prstGeom prst="rect">
            <a:avLst/>
          </a:prstGeom>
          <a:ln w="0">
            <a:noFill/>
          </a:ln>
        </p:spPr>
      </p:pic>
      <p:sp>
        <p:nvSpPr>
          <p:cNvPr id="54" name="مربع نص 4"/>
          <p:cNvSpPr/>
          <p:nvPr/>
        </p:nvSpPr>
        <p:spPr>
          <a:xfrm>
            <a:off x="6860160" y="38577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مستطيل 3" descr=""/>
          <p:cNvPicPr/>
          <p:nvPr/>
        </p:nvPicPr>
        <p:blipFill>
          <a:blip r:embed="rId1"/>
          <a:stretch/>
        </p:blipFill>
        <p:spPr>
          <a:xfrm>
            <a:off x="2273400" y="-36360"/>
            <a:ext cx="4475160" cy="71892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10"/>
          <p:cNvSpPr/>
          <p:nvPr/>
        </p:nvSpPr>
        <p:spPr>
          <a:xfrm>
            <a:off x="5947560" y="62064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Anim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شكل بيضاوي 16"/>
          <p:cNvSpPr/>
          <p:nvPr/>
        </p:nvSpPr>
        <p:spPr>
          <a:xfrm>
            <a:off x="6227640" y="1125360"/>
            <a:ext cx="1297080" cy="12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شكل بيضاوي 17"/>
          <p:cNvSpPr/>
          <p:nvPr/>
        </p:nvSpPr>
        <p:spPr>
          <a:xfrm>
            <a:off x="6227640" y="2565360"/>
            <a:ext cx="1297080" cy="129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شكل بيضاوي 18"/>
          <p:cNvSpPr/>
          <p:nvPr/>
        </p:nvSpPr>
        <p:spPr>
          <a:xfrm>
            <a:off x="6227640" y="3933720"/>
            <a:ext cx="1297080" cy="129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شكل بيضاوي 19"/>
          <p:cNvSpPr/>
          <p:nvPr/>
        </p:nvSpPr>
        <p:spPr>
          <a:xfrm>
            <a:off x="6012000" y="5300640"/>
            <a:ext cx="1296720" cy="129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شكل حر 68"/>
          <p:cNvSpPr/>
          <p:nvPr/>
        </p:nvSpPr>
        <p:spPr>
          <a:xfrm flipH="1">
            <a:off x="6588000" y="1413000"/>
            <a:ext cx="216000" cy="288720"/>
          </a:xfrm>
          <a:custGeom>
            <a:avLst/>
            <a:gdLst/>
            <a:ahLst/>
            <a:rect l="l" t="t" r="r" b="b"/>
            <a:pathLst>
              <a:path w="187664" h="293452">
                <a:moveTo>
                  <a:pt x="46987" y="0"/>
                </a:moveTo>
                <a:cubicBezTo>
                  <a:pt x="42298" y="18757"/>
                  <a:pt x="38231" y="37681"/>
                  <a:pt x="32919" y="56271"/>
                </a:cubicBezTo>
                <a:cubicBezTo>
                  <a:pt x="28845" y="70529"/>
                  <a:pt x="22447" y="84088"/>
                  <a:pt x="18851" y="98474"/>
                </a:cubicBezTo>
                <a:cubicBezTo>
                  <a:pt x="13052" y="121670"/>
                  <a:pt x="9473" y="145366"/>
                  <a:pt x="4784" y="168812"/>
                </a:cubicBezTo>
                <a:cubicBezTo>
                  <a:pt x="5499" y="173103"/>
                  <a:pt x="0" y="293452"/>
                  <a:pt x="61054" y="267286"/>
                </a:cubicBezTo>
                <a:cubicBezTo>
                  <a:pt x="85436" y="256837"/>
                  <a:pt x="117325" y="211015"/>
                  <a:pt x="117325" y="211015"/>
                </a:cubicBezTo>
                <a:cubicBezTo>
                  <a:pt x="132183" y="166442"/>
                  <a:pt x="128363" y="165565"/>
                  <a:pt x="159528" y="126609"/>
                </a:cubicBezTo>
                <a:cubicBezTo>
                  <a:pt x="167814" y="116252"/>
                  <a:pt x="187664" y="98474"/>
                  <a:pt x="187664" y="98474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مجموعة 93"/>
          <p:cNvGrpSpPr/>
          <p:nvPr/>
        </p:nvGrpSpPr>
        <p:grpSpPr>
          <a:xfrm>
            <a:off x="6508440" y="1413000"/>
            <a:ext cx="583200" cy="632880"/>
            <a:chOff x="6508440" y="1413000"/>
            <a:chExt cx="583200" cy="632880"/>
          </a:xfrm>
        </p:grpSpPr>
        <p:sp>
          <p:nvSpPr>
            <p:cNvPr id="64" name="شكل حر 66"/>
            <p:cNvSpPr/>
            <p:nvPr/>
          </p:nvSpPr>
          <p:spPr>
            <a:xfrm>
              <a:off x="6859440" y="1413000"/>
              <a:ext cx="188640" cy="291960"/>
            </a:xfrm>
            <a:custGeom>
              <a:avLst/>
              <a:gdLst/>
              <a:ahLst/>
              <a:rect l="l" t="t" r="r" b="b"/>
              <a:pathLst>
                <a:path w="187664" h="293452">
                  <a:moveTo>
                    <a:pt x="46987" y="0"/>
                  </a:moveTo>
                  <a:cubicBezTo>
                    <a:pt x="42298" y="18757"/>
                    <a:pt x="38231" y="37681"/>
                    <a:pt x="32919" y="56271"/>
                  </a:cubicBezTo>
                  <a:cubicBezTo>
                    <a:pt x="28845" y="70529"/>
                    <a:pt x="22447" y="84088"/>
                    <a:pt x="18851" y="98474"/>
                  </a:cubicBezTo>
                  <a:cubicBezTo>
                    <a:pt x="13052" y="121670"/>
                    <a:pt x="9473" y="145366"/>
                    <a:pt x="4784" y="168812"/>
                  </a:cubicBezTo>
                  <a:cubicBezTo>
                    <a:pt x="5499" y="173103"/>
                    <a:pt x="0" y="293452"/>
                    <a:pt x="61054" y="267286"/>
                  </a:cubicBezTo>
                  <a:cubicBezTo>
                    <a:pt x="85436" y="256837"/>
                    <a:pt x="117325" y="211015"/>
                    <a:pt x="117325" y="211015"/>
                  </a:cubicBezTo>
                  <a:cubicBezTo>
                    <a:pt x="132183" y="166442"/>
                    <a:pt x="128363" y="165565"/>
                    <a:pt x="159528" y="126609"/>
                  </a:cubicBezTo>
                  <a:cubicBezTo>
                    <a:pt x="167814" y="116252"/>
                    <a:pt x="187664" y="98474"/>
                    <a:pt x="187664" y="98474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شكل حر 69"/>
            <p:cNvSpPr/>
            <p:nvPr/>
          </p:nvSpPr>
          <p:spPr>
            <a:xfrm rot="10613400">
              <a:off x="6516000" y="1728720"/>
              <a:ext cx="261720" cy="301680"/>
            </a:xfrm>
            <a:custGeom>
              <a:avLst/>
              <a:gdLst/>
              <a:ahLst/>
              <a:rect l="l" t="t" r="r" b="b"/>
              <a:pathLst>
                <a:path w="187664" h="293452">
                  <a:moveTo>
                    <a:pt x="46987" y="0"/>
                  </a:moveTo>
                  <a:cubicBezTo>
                    <a:pt x="42298" y="18757"/>
                    <a:pt x="38231" y="37681"/>
                    <a:pt x="32919" y="56271"/>
                  </a:cubicBezTo>
                  <a:cubicBezTo>
                    <a:pt x="28845" y="70529"/>
                    <a:pt x="22447" y="84088"/>
                    <a:pt x="18851" y="98474"/>
                  </a:cubicBezTo>
                  <a:cubicBezTo>
                    <a:pt x="13052" y="121670"/>
                    <a:pt x="9473" y="145366"/>
                    <a:pt x="4784" y="168812"/>
                  </a:cubicBezTo>
                  <a:cubicBezTo>
                    <a:pt x="5499" y="173103"/>
                    <a:pt x="0" y="293452"/>
                    <a:pt x="61054" y="267286"/>
                  </a:cubicBezTo>
                  <a:cubicBezTo>
                    <a:pt x="85436" y="256837"/>
                    <a:pt x="117325" y="211015"/>
                    <a:pt x="117325" y="211015"/>
                  </a:cubicBezTo>
                  <a:cubicBezTo>
                    <a:pt x="132183" y="166442"/>
                    <a:pt x="128363" y="165565"/>
                    <a:pt x="159528" y="126609"/>
                  </a:cubicBezTo>
                  <a:cubicBezTo>
                    <a:pt x="167814" y="116252"/>
                    <a:pt x="187664" y="98474"/>
                    <a:pt x="187664" y="98474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شكل حر 70"/>
            <p:cNvSpPr/>
            <p:nvPr/>
          </p:nvSpPr>
          <p:spPr>
            <a:xfrm flipH="1" rot="10614000">
              <a:off x="6895800" y="1726560"/>
              <a:ext cx="187200" cy="314280"/>
            </a:xfrm>
            <a:custGeom>
              <a:avLst/>
              <a:gdLst/>
              <a:ahLst/>
              <a:rect l="l" t="t" r="r" b="b"/>
              <a:pathLst>
                <a:path w="187664" h="293452">
                  <a:moveTo>
                    <a:pt x="46987" y="0"/>
                  </a:moveTo>
                  <a:cubicBezTo>
                    <a:pt x="42298" y="18757"/>
                    <a:pt x="38231" y="37681"/>
                    <a:pt x="32919" y="56271"/>
                  </a:cubicBezTo>
                  <a:cubicBezTo>
                    <a:pt x="28845" y="70529"/>
                    <a:pt x="22447" y="84088"/>
                    <a:pt x="18851" y="98474"/>
                  </a:cubicBezTo>
                  <a:cubicBezTo>
                    <a:pt x="13052" y="121670"/>
                    <a:pt x="9473" y="145366"/>
                    <a:pt x="4784" y="168812"/>
                  </a:cubicBezTo>
                  <a:cubicBezTo>
                    <a:pt x="5499" y="173103"/>
                    <a:pt x="0" y="293452"/>
                    <a:pt x="61054" y="267286"/>
                  </a:cubicBezTo>
                  <a:cubicBezTo>
                    <a:pt x="85436" y="256837"/>
                    <a:pt x="117325" y="211015"/>
                    <a:pt x="117325" y="211015"/>
                  </a:cubicBezTo>
                  <a:cubicBezTo>
                    <a:pt x="132183" y="166442"/>
                    <a:pt x="128363" y="165565"/>
                    <a:pt x="159528" y="126609"/>
                  </a:cubicBezTo>
                  <a:cubicBezTo>
                    <a:pt x="167814" y="116252"/>
                    <a:pt x="187664" y="98474"/>
                    <a:pt x="187664" y="98474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رابط مستقيم 72"/>
          <p:cNvSpPr/>
          <p:nvPr/>
        </p:nvSpPr>
        <p:spPr>
          <a:xfrm>
            <a:off x="6372360" y="3141720"/>
            <a:ext cx="1008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مجموعة 75"/>
          <p:cNvGrpSpPr/>
          <p:nvPr/>
        </p:nvGrpSpPr>
        <p:grpSpPr>
          <a:xfrm>
            <a:off x="6587640" y="4005360"/>
            <a:ext cx="576720" cy="1150560"/>
            <a:chOff x="6587640" y="4005360"/>
            <a:chExt cx="576720" cy="1150560"/>
          </a:xfrm>
        </p:grpSpPr>
        <p:grpSp>
          <p:nvGrpSpPr>
            <p:cNvPr id="69" name="مجموعة 53"/>
            <p:cNvGrpSpPr/>
            <p:nvPr/>
          </p:nvGrpSpPr>
          <p:grpSpPr>
            <a:xfrm>
              <a:off x="6588000" y="4005360"/>
              <a:ext cx="576360" cy="431640"/>
              <a:chOff x="6588000" y="4005360"/>
              <a:chExt cx="576360" cy="431640"/>
            </a:xfrm>
          </p:grpSpPr>
          <p:sp>
            <p:nvSpPr>
              <p:cNvPr id="70" name="شكل حر 84"/>
              <p:cNvSpPr/>
              <p:nvPr/>
            </p:nvSpPr>
            <p:spPr>
              <a:xfrm>
                <a:off x="6588000" y="4006800"/>
                <a:ext cx="127080" cy="40644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شكل حر 85"/>
              <p:cNvSpPr/>
              <p:nvPr/>
            </p:nvSpPr>
            <p:spPr>
              <a:xfrm>
                <a:off x="6732360" y="4005360"/>
                <a:ext cx="71280" cy="43164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شكل حر 86"/>
              <p:cNvSpPr/>
              <p:nvPr/>
            </p:nvSpPr>
            <p:spPr>
              <a:xfrm flipH="1">
                <a:off x="6948360" y="4005360"/>
                <a:ext cx="216000" cy="40788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شكل حر 88"/>
              <p:cNvSpPr/>
              <p:nvPr/>
            </p:nvSpPr>
            <p:spPr>
              <a:xfrm flipH="1">
                <a:off x="6877080" y="4005360"/>
                <a:ext cx="79200" cy="40788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مجموعة 54"/>
            <p:cNvGrpSpPr/>
            <p:nvPr/>
          </p:nvGrpSpPr>
          <p:grpSpPr>
            <a:xfrm>
              <a:off x="6587640" y="4724280"/>
              <a:ext cx="576360" cy="431640"/>
              <a:chOff x="6587640" y="4724280"/>
              <a:chExt cx="576360" cy="431640"/>
            </a:xfrm>
          </p:grpSpPr>
          <p:sp>
            <p:nvSpPr>
              <p:cNvPr id="75" name="شكل حر 78"/>
              <p:cNvSpPr/>
              <p:nvPr/>
            </p:nvSpPr>
            <p:spPr>
              <a:xfrm rot="10800000">
                <a:off x="7036920" y="4748040"/>
                <a:ext cx="127080" cy="40644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شكل حر 80"/>
              <p:cNvSpPr/>
              <p:nvPr/>
            </p:nvSpPr>
            <p:spPr>
              <a:xfrm flipH="1" rot="10800000">
                <a:off x="6587640" y="4735440"/>
                <a:ext cx="216000" cy="40788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شكل حر 82"/>
              <p:cNvSpPr/>
              <p:nvPr/>
            </p:nvSpPr>
            <p:spPr>
              <a:xfrm flipH="1" rot="10800000">
                <a:off x="6795720" y="4735440"/>
                <a:ext cx="79200" cy="40788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شكل حر 83"/>
              <p:cNvSpPr/>
              <p:nvPr/>
            </p:nvSpPr>
            <p:spPr>
              <a:xfrm rot="10800000">
                <a:off x="6935760" y="4724280"/>
                <a:ext cx="71280" cy="431640"/>
              </a:xfrm>
              <a:custGeom>
                <a:avLst/>
                <a:gdLst/>
                <a:ahLst/>
                <a:rect l="l" t="t" r="r" b="b"/>
                <a:pathLst>
                  <a:path w="127529" h="407963">
                    <a:moveTo>
                      <a:pt x="127529" y="0"/>
                    </a:moveTo>
                    <a:cubicBezTo>
                      <a:pt x="118151" y="14068"/>
                      <a:pt x="106955" y="27081"/>
                      <a:pt x="99394" y="42203"/>
                    </a:cubicBezTo>
                    <a:cubicBezTo>
                      <a:pt x="82319" y="76352"/>
                      <a:pt x="80890" y="119428"/>
                      <a:pt x="71258" y="154745"/>
                    </a:cubicBezTo>
                    <a:cubicBezTo>
                      <a:pt x="63455" y="183357"/>
                      <a:pt x="50316" y="210379"/>
                      <a:pt x="43123" y="239151"/>
                    </a:cubicBezTo>
                    <a:cubicBezTo>
                      <a:pt x="38434" y="257908"/>
                      <a:pt x="34366" y="276832"/>
                      <a:pt x="29055" y="295422"/>
                    </a:cubicBezTo>
                    <a:cubicBezTo>
                      <a:pt x="11180" y="357985"/>
                      <a:pt x="15578" y="320608"/>
                      <a:pt x="920" y="393896"/>
                    </a:cubicBezTo>
                    <a:cubicBezTo>
                      <a:pt x="0" y="398494"/>
                      <a:pt x="920" y="403274"/>
                      <a:pt x="920" y="407963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شكل بيضاوي 90"/>
          <p:cNvSpPr/>
          <p:nvPr/>
        </p:nvSpPr>
        <p:spPr>
          <a:xfrm>
            <a:off x="7524720" y="5300640"/>
            <a:ext cx="1297080" cy="129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شكل بيضاوي 91"/>
          <p:cNvSpPr/>
          <p:nvPr/>
        </p:nvSpPr>
        <p:spPr>
          <a:xfrm>
            <a:off x="7812000" y="5661000"/>
            <a:ext cx="576360" cy="50472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شكل بيضاوي 92"/>
          <p:cNvSpPr/>
          <p:nvPr/>
        </p:nvSpPr>
        <p:spPr>
          <a:xfrm>
            <a:off x="6372360" y="5732640"/>
            <a:ext cx="576000" cy="50472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ight Arrow 87"/>
          <p:cNvSpPr/>
          <p:nvPr/>
        </p:nvSpPr>
        <p:spPr>
          <a:xfrm>
            <a:off x="611280" y="1125360"/>
            <a:ext cx="4752720" cy="11512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Arrow 89"/>
          <p:cNvSpPr/>
          <p:nvPr/>
        </p:nvSpPr>
        <p:spPr>
          <a:xfrm>
            <a:off x="611280" y="2565360"/>
            <a:ext cx="4752720" cy="1150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taphas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Arrow 93"/>
          <p:cNvSpPr/>
          <p:nvPr/>
        </p:nvSpPr>
        <p:spPr>
          <a:xfrm>
            <a:off x="611280" y="3933720"/>
            <a:ext cx="4752720" cy="1150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aphas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ight Arrow 94"/>
          <p:cNvSpPr/>
          <p:nvPr/>
        </p:nvSpPr>
        <p:spPr>
          <a:xfrm>
            <a:off x="611280" y="5373720"/>
            <a:ext cx="4752720" cy="1150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elophas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25F9-8F2E-486E-B45F-9515D78194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0" y="953280"/>
            <a:ext cx="5429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al thre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become tightly coiled,shorter and denser could be seen as chromosomes each is formed of 2 sister chromatids attached together at the centrom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nuclear envelo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isso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nucleol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isap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entrioles 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  <a:ea typeface="Calibri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surrounded by fan of astral rays, start to migrate toward opposite poles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spindle fib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begin to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مستطيل 3"/>
          <p:cNvSpPr/>
          <p:nvPr/>
        </p:nvSpPr>
        <p:spPr>
          <a:xfrm>
            <a:off x="3719520" y="2858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P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lzimmermann-prophase1.jpg"/>
          <p:cNvPicPr/>
          <p:nvPr/>
        </p:nvPicPr>
        <p:blipFill>
          <a:blip r:embed="rId1"/>
          <a:stretch/>
        </p:blipFill>
        <p:spPr>
          <a:xfrm>
            <a:off x="5329080" y="1000080"/>
            <a:ext cx="3814920" cy="242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lzimmermann-prophase2.jpg"/>
          <p:cNvPicPr/>
          <p:nvPr/>
        </p:nvPicPr>
        <p:blipFill>
          <a:blip r:embed="rId2"/>
          <a:stretch/>
        </p:blipFill>
        <p:spPr>
          <a:xfrm>
            <a:off x="5286240" y="3714840"/>
            <a:ext cx="3643560" cy="2665440"/>
          </a:xfrm>
          <a:prstGeom prst="rect">
            <a:avLst/>
          </a:prstGeom>
          <a:ln w="0">
            <a:noFill/>
          </a:ln>
        </p:spPr>
      </p:pic>
      <p:cxnSp>
        <p:nvCxnSpPr>
          <p:cNvPr id="91" name="رابط كسهم مستقيم 7"/>
          <p:cNvCxnSpPr/>
          <p:nvPr/>
        </p:nvCxnSpPr>
        <p:spPr>
          <a:xfrm flipH="1">
            <a:off x="6643440" y="343044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3AD5-B9E0-4C08-9D60-B6EBB6C04D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0" y="810360"/>
            <a:ext cx="5214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spindle fib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re fully formed and astral rays appear around the centrioles at the cell poles (in animal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re arranged in the equatorial plane and their centromeres appear attached to the spindle fibers at their kinetoch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These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kinetochores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re 2 disk-shaped structures in each centrom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3"/>
          <p:cNvSpPr/>
          <p:nvPr/>
        </p:nvSpPr>
        <p:spPr>
          <a:xfrm>
            <a:off x="2862720" y="0"/>
            <a:ext cx="28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M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zimmermann-metaphase.jpg"/>
          <p:cNvPicPr/>
          <p:nvPr/>
        </p:nvPicPr>
        <p:blipFill>
          <a:blip r:embed="rId1"/>
          <a:stretch/>
        </p:blipFill>
        <p:spPr>
          <a:xfrm>
            <a:off x="5291280" y="1857240"/>
            <a:ext cx="385272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CB75-DED0-44EC-96D6-9855FE37D2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57120" y="1303560"/>
            <a:ext cx="4429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entromer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split the 2 chromatids of each chromosome separated and pulled toward the corresponding cell p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(centriole in animal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Now each chromatid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chromo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مستطيل 3"/>
          <p:cNvSpPr/>
          <p:nvPr/>
        </p:nvSpPr>
        <p:spPr>
          <a:xfrm>
            <a:off x="3497760" y="285840"/>
            <a:ext cx="26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3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A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zimmermann-anaphase.jpg"/>
          <p:cNvPicPr/>
          <p:nvPr/>
        </p:nvPicPr>
        <p:blipFill>
          <a:blip r:embed="rId1"/>
          <a:stretch/>
        </p:blipFill>
        <p:spPr>
          <a:xfrm>
            <a:off x="4832280" y="2214720"/>
            <a:ext cx="43117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DC49-DD4E-4CB7-B112-950AA5D575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109188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have reached the opposite p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spind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ispe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chromosom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become diff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The nucleol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eap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  <a:ea typeface="Calibri"/>
              </a:rPr>
              <a:t>A nuclear envelo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eforms around each chromosome set, thus a nucleus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ستطيل 3"/>
          <p:cNvSpPr/>
          <p:nvPr/>
        </p:nvSpPr>
        <p:spPr>
          <a:xfrm>
            <a:off x="2918880" y="285840"/>
            <a:ext cx="27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T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zimmermann-telophase.jpg"/>
          <p:cNvPicPr/>
          <p:nvPr/>
        </p:nvPicPr>
        <p:blipFill>
          <a:blip r:embed="rId1"/>
          <a:stretch/>
        </p:blipFill>
        <p:spPr>
          <a:xfrm>
            <a:off x="4214880" y="2000160"/>
            <a:ext cx="47354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C:\Users\hopes\Desktop\145 zoo MY WORK\Ascaris_Mitosis3.jpg"/>
          <p:cNvPicPr/>
          <p:nvPr/>
        </p:nvPicPr>
        <p:blipFill>
          <a:blip r:embed="rId1"/>
          <a:srcRect l="0" t="0" r="0" b="269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47BB-1CFB-47A9-B711-E8DC270DDF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مستطيل 4" descr=""/>
          <p:cNvPicPr/>
          <p:nvPr/>
        </p:nvPicPr>
        <p:blipFill>
          <a:blip r:embed="rId2"/>
          <a:stretch/>
        </p:blipFill>
        <p:spPr>
          <a:xfrm>
            <a:off x="55440" y="-146160"/>
            <a:ext cx="9453600" cy="1384560"/>
          </a:xfrm>
          <a:prstGeom prst="rect">
            <a:avLst/>
          </a:prstGeom>
          <a:ln w="0">
            <a:noFill/>
          </a:ln>
        </p:spPr>
      </p:pic>
      <p:sp>
        <p:nvSpPr>
          <p:cNvPr id="108" name="مستطيل 5"/>
          <p:cNvSpPr/>
          <p:nvPr/>
        </p:nvSpPr>
        <p:spPr>
          <a:xfrm>
            <a:off x="821160" y="134136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ph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2411280" y="1628640"/>
            <a:ext cx="122400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6:56:01Z</dcterms:created>
  <dc:creator>hopes</dc:creator>
  <dc:description/>
  <dc:language>en-US</dc:language>
  <cp:lastModifiedBy>user</cp:lastModifiedBy>
  <dcterms:modified xsi:type="dcterms:W3CDTF">2015-02-01T00:57:01Z</dcterms:modified>
  <cp:revision>57</cp:revision>
  <dc:subject/>
  <dc:title>الشريحة 1</dc:title>
</cp:coreProperties>
</file>