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1B4-D63D-4144-BE57-BF81A935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D2F-F348-440F-9E4E-CA90386A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0B8-C7AE-49FB-9CEE-D9B67B85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0EF-7B6F-4646-8259-EF025A08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8575-9902-4F4F-B580-B50EA1B6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9A2F-8C6A-4880-8700-4C39EBA4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006A-16F9-4610-A6B2-E8EA8476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40B4-F271-48C9-922E-4C733CFA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D795-EA32-4545-B04A-6B27585E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E01B-15CF-4BC3-BE58-ED40BA25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1BC7-9D26-46DB-AF87-E8A30D13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85A-2CCB-431E-8953-0123A9D1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7962-4C21-4FBB-BEA6-4E908C9F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AFF4-2105-4B0C-B7B9-26EABDB2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54CD-F509-4B55-BDAF-989F8C78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35FA-F241-4924-98DD-D18217A5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6FB3-47A5-4859-9513-88E5718E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94C6-6BD5-4EF9-9531-5170B415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2B98-395F-4424-AACD-64288567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D7EF-1933-4D50-901E-220CC2C1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A868-C1B3-420E-AF73-9BDF64E6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EE3D-BD59-4C12-8714-598619E3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AF9-EBFC-47B2-8996-B9E0833D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AFEB-F140-4AB8-AEE1-41472E51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E95B-FC96-4BBC-ACF6-619529B6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898A-0359-4131-9477-D644127E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497E-445C-44EE-B7DC-7BCDB618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7663-FE3B-40A7-A759-14FB50EE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BBDF-9578-4D32-BED2-218BF770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B2AE-0898-4E8F-9936-4E10096F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230A-154C-419B-8536-9BCFECAF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FCB05-8DC6-4201-8D6A-A0EC2E7B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DC97-FAEA-4EDF-8674-98C41913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744-5682-4DD0-9F30-3304A6A3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E7AD-06EF-41C5-93B4-3F10D4F1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513C2-2503-47BA-A5B3-498B913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37D3D-2FAA-40EA-80B4-7222EA86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DD673-E3DF-4177-BAC8-812D8BBE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C2F36-66FB-45FD-9C79-08ADBAB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5FBAF-4B80-4121-9F5B-1E9D518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7B131-5CB6-4FBA-9E29-69DF9C2D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7986-6A7F-4636-9AA9-D717AACC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3B82C-37C3-491D-B23D-36A94098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5B32E-F1CB-4CDC-8B55-4F9774C8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509-1A7F-47E2-BE77-C64C93AD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3BF2-04A5-4615-894C-4838931C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FB8B-3593-428B-8011-3DA2C59F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024E-FF1C-4805-A825-84F487B4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EA6E-3C2F-4BAE-8079-EA28A74A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355D-3B6A-4761-82A4-49370CA2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DB69-8A5F-434D-A69D-9F1C5DD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C5884-D897-4D2C-877C-75233BEE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FD5E-5F38-4E11-8C37-CF508C68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0AE5E-D729-412D-9CFB-5BA978C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F657-6DDA-47F1-BD43-F68C3076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C37-3DCE-495A-9599-D916E0C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FBEE0-DB59-4D69-854B-C08955A8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8AA-6F17-4679-B530-98DD5DF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81D-656D-4E54-A6E0-F4BF59EF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3DC-1128-4D56-ADF4-F7891815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F644-2DE2-4717-B294-0B778CB4BB4C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2B2A-638D-4507-9631-6E3F7C98581E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169B-511C-46AC-96A2-1B1E023E7E84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AD0A-023A-4EA9-BEC0-95DA329A1282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b4b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66ED-55F5-4541-BF98-8F56C162CD6F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2192040"/>
            <a:ext cx="75438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50560" y="3213000"/>
            <a:ext cx="88930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5a372c"/>
                </a:solidFill>
                <a:latin typeface="Times New Roman"/>
              </a:rPr>
              <a:t>Fluorometric determination of riboflavin</a:t>
            </a:r>
            <a:endParaRPr b="0" lang="en-US" sz="66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20" name="مربع نص 2"/>
          <p:cNvSpPr/>
          <p:nvPr/>
        </p:nvSpPr>
        <p:spPr>
          <a:xfrm>
            <a:off x="3276720" y="981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b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tent Placeholder 2"/>
          <p:cNvSpPr/>
          <p:nvPr/>
        </p:nvSpPr>
        <p:spPr>
          <a:xfrm>
            <a:off x="439560" y="404640"/>
            <a:ext cx="82296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uorescence compounds</a:t>
            </a:r>
            <a:r>
              <a:rPr b="1" lang="en-GB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and heterocyclic compoun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s with multiple conjugated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s containing electron donating groups as OH, NH2 ,OCH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poly cyclic compounds like vit K, purines, nucleosides, vit 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Content Placeholder 2"/>
          <p:cNvSpPr/>
          <p:nvPr/>
        </p:nvSpPr>
        <p:spPr>
          <a:xfrm>
            <a:off x="457200" y="642960"/>
            <a:ext cx="822960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H fluoresce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fluorescence compounds when converts to </a:t>
            </a:r>
            <a:r>
              <a:rPr b="0" lang="en-GB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uorescent derivative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s by chelat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ies</a:t>
            </a:r>
            <a:r>
              <a:rPr b="0" lang="en-GB" sz="3200" spc="-1" strike="noStrike">
                <a:solidFill>
                  <a:srgbClr val="7e4e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uorescence spectra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luorescence is used primarily for quantitative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alysis in ppm (part per millions) 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=K</a:t>
            </a:r>
            <a:r>
              <a:rPr b="0" lang="az-Cyrl-AZ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₀ (2.3 abc)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  F  is fluorescence  intensity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 instrument constant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az-Cyrl-AZ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quantum efficiency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₀ intensity of excitation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lar absorptive, b cell path, c molar        concent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so F=K.c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0920" y="765000"/>
            <a:ext cx="850716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</a:rPr>
              <a:t>Advantages of fluorometer: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Very specific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Very sensitive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Wide Concentration Range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Simplicity and Speed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Low Cost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611280" y="476280"/>
            <a:ext cx="828036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e fluorescence is very sensitive to environmental changes which include PH, temperature, solvent contamination and UV light used for excitation can make photochemic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ربع نص 4"/>
          <p:cNvSpPr/>
          <p:nvPr/>
        </p:nvSpPr>
        <p:spPr>
          <a:xfrm>
            <a:off x="755640" y="692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inical uses of instr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to measure fluorescence for qualitative and quantitative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measure any substance that exists in small conc. for example: vitamins from blood sampl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357200" y="2357280"/>
            <a:ext cx="4172040" cy="31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2627280" y="728640"/>
            <a:ext cx="3168720" cy="695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3"/>
          <a:stretch/>
        </p:blipFill>
        <p:spPr>
          <a:xfrm>
            <a:off x="6572160" y="2500200"/>
            <a:ext cx="20005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strumentation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280" y="1915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-Light Source: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lamp or light source provides the energy that excites the compound by emitting light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ight sources include xenon lamps, high pressure mercury vapor lamps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900000" y="1413000"/>
            <a:ext cx="7559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Excitation Filter /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itation filter is used to screen out the wavelengths of unabsorbed light by the compound being measu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10920" y="115560"/>
            <a:ext cx="77058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3-Sample Cell/Cuvette: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Times New Roman"/>
              </a:rPr>
              <a:t>*the cuvette material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must allow the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compound's absorption and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emission light energy to pass through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300" spc="-1" strike="noStrike">
                <a:solidFill>
                  <a:srgbClr val="c00000"/>
                </a:solidFill>
                <a:latin typeface="Times New Roman"/>
              </a:rPr>
              <a:t>the size of cuvette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ffects the measurement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greater the pathlength (or diameter) of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cell, the lower the concentration that can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e read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uvettes are made from borosilicate or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quartz glass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269" name="Picture 4" descr="http://www.luminometer.com/doc/appnotes/998_0050/image7.gif"/>
          <p:cNvPicPr/>
          <p:nvPr/>
        </p:nvPicPr>
        <p:blipFill>
          <a:blip r:embed="rId1"/>
          <a:stretch/>
        </p:blipFill>
        <p:spPr>
          <a:xfrm>
            <a:off x="8317080" y="7920"/>
            <a:ext cx="685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مستطيل 3"/>
          <p:cNvSpPr/>
          <p:nvPr/>
        </p:nvSpPr>
        <p:spPr>
          <a:xfrm>
            <a:off x="723960" y="134136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 is a kind of a luminescence, which is the emission of photons from electronically excited stat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 occurs when the electron is transferred from a lower energy state into an "excited" higher energy state to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fluoresce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ستطيل 3"/>
          <p:cNvSpPr/>
          <p:nvPr/>
        </p:nvSpPr>
        <p:spPr>
          <a:xfrm>
            <a:off x="623520" y="40464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luorescenc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611280" y="170028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Emission Filter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y light emitted from the samp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684360" y="549360"/>
            <a:ext cx="7704000" cy="56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5-Light Detector: 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light detector is most often a photomultiplier tube, so photodiodes are increasingly being used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light passing through the emission filter is detected by the photomultiplier or photodiode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light intensity, which is directly proportional (linear) to the compound's concentration, is registered as a digital readout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928800" y="1424160"/>
            <a:ext cx="7572240" cy="4576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3" name="مربع نص 3"/>
          <p:cNvSpPr/>
          <p:nvPr/>
        </p:nvSpPr>
        <p:spPr>
          <a:xfrm>
            <a:off x="503280" y="71424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mating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pH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Cleanliness of glassware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High standards of experimental technologist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e necessary to prevent quenching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Temperature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Cuvette Size (Pathlength)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-45900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iboflavin Experiment</a:t>
            </a: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5640" y="1484280"/>
            <a:ext cx="741672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iboflavin (vitamin B2) is strongly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luorescent in 5% acetic  acid solution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9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emical and solutions required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99640" y="1412640"/>
            <a:ext cx="741708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 5 % Acetic aci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dition of a few drops of glacial acetic acid to the solution will insure an acid pH and help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stabilize it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Riboflavin stock solution 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- Riboflavin standards solution 10( ppm)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-  Unknown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paration of standards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57120" y="1643040"/>
          <a:ext cx="8586720" cy="3627360"/>
        </p:xfrm>
        <a:graphic>
          <a:graphicData uri="http://schemas.openxmlformats.org/drawingml/2006/table">
            <a:tbl>
              <a:tblPr/>
              <a:tblGrid>
                <a:gridCol w="1571760"/>
                <a:gridCol w="1071360"/>
                <a:gridCol w="1036800"/>
                <a:gridCol w="1227240"/>
                <a:gridCol w="1226880"/>
                <a:gridCol w="1225800"/>
                <a:gridCol w="122688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boflavin stoc.std(10 p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edure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- switch on the 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hin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- install the excitation and emission filtered in their  holders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- start lamp (UV) by pressing 3-4 sec. the start switch and release it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- leave to warm up ,15 mins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- open the door of the instrument which acts as sample holder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24000" y="765000"/>
            <a:ext cx="88200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just the range select or at x1 (excitation filter) for less conc. sample (ppm) and the higher range for higher conc. samp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t reagent blank cuvette in the sample holder, close the door and with the help of blank knob set read out to zer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move reagent blank and insert the std. highest conc. And with help of attenuator knob set the read out to 100 and record this read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250920" y="836640"/>
            <a:ext cx="806616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 Check twice for zeroing and 100 by inserting appropriate samples . If this not ok select higher range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Take the reading for other std. and given unknown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electron will remain in this state for 10⁻⁸ sec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n the electron returns to the lower energy state and it releases the energy in form of fluorescence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457200" y="1643040"/>
          <a:ext cx="8229600" cy="22478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. In ppm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755640" y="981000"/>
            <a:ext cx="734544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1- plot the graph and from the graph find out the conc. of unknown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88" name="Straight Connector 4"/>
          <p:cNvSpPr/>
          <p:nvPr/>
        </p:nvSpPr>
        <p:spPr>
          <a:xfrm>
            <a:off x="3000240" y="2286000"/>
            <a:ext cx="0" cy="221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8"/>
          <p:cNvSpPr/>
          <p:nvPr/>
        </p:nvSpPr>
        <p:spPr>
          <a:xfrm>
            <a:off x="3000240" y="4500720"/>
            <a:ext cx="3214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10"/>
          <p:cNvSpPr/>
          <p:nvPr/>
        </p:nvSpPr>
        <p:spPr>
          <a:xfrm flipV="1">
            <a:off x="3000240" y="2214720"/>
            <a:ext cx="2857680" cy="228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2286000" y="30002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2857680" y="4572000"/>
            <a:ext cx="3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3571920" y="4500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5857920" y="4500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5"/>
          <p:cNvSpPr/>
          <p:nvPr/>
        </p:nvSpPr>
        <p:spPr>
          <a:xfrm>
            <a:off x="4000680" y="50007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CO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iws.collin.edu/biopage/faculty/mcculloch/1406/outlines/chapter%2010/Ma10-8b.JPG"/>
          <p:cNvPicPr/>
          <p:nvPr/>
        </p:nvPicPr>
        <p:blipFill>
          <a:blip r:embed="rId1"/>
          <a:stretch/>
        </p:blipFill>
        <p:spPr>
          <a:xfrm>
            <a:off x="1619280" y="836640"/>
            <a:ext cx="6095880" cy="457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611280" y="1484280"/>
            <a:ext cx="78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ultraviolet absorption spectroscopy  when molecule absorbs UV radiation at one wavelength and its immediately re-emission, usually in a longer waveleng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molecules fluoresce naturally and others can be modified to make fluorescent compoun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683640" y="85716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luorescence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0040" y="356760"/>
            <a:ext cx="837576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cxnSp>
        <p:nvCxnSpPr>
          <p:cNvPr id="229" name="Straight Arrow Connector 4"/>
          <p:cNvCxnSpPr/>
          <p:nvPr/>
        </p:nvCxnSpPr>
        <p:spPr>
          <a:xfrm flipV="1">
            <a:off x="1498680" y="1213920"/>
            <a:ext cx="2160" cy="2859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Straight Connector 16"/>
          <p:cNvSpPr/>
          <p:nvPr/>
        </p:nvSpPr>
        <p:spPr>
          <a:xfrm>
            <a:off x="2928960" y="928800"/>
            <a:ext cx="28573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1"/>
          <p:cNvSpPr/>
          <p:nvPr/>
        </p:nvSpPr>
        <p:spPr>
          <a:xfrm>
            <a:off x="2928960" y="1428840"/>
            <a:ext cx="29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23"/>
          <p:cNvSpPr/>
          <p:nvPr/>
        </p:nvSpPr>
        <p:spPr>
          <a:xfrm>
            <a:off x="3000240" y="1928880"/>
            <a:ext cx="29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25"/>
          <p:cNvSpPr/>
          <p:nvPr/>
        </p:nvSpPr>
        <p:spPr>
          <a:xfrm>
            <a:off x="2928960" y="571680"/>
            <a:ext cx="2786040" cy="0"/>
          </a:xfrm>
          <a:prstGeom prst="line">
            <a:avLst/>
          </a:prstGeom>
          <a:ln w="1584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29"/>
          <p:cNvSpPr/>
          <p:nvPr/>
        </p:nvSpPr>
        <p:spPr>
          <a:xfrm>
            <a:off x="3000240" y="4357800"/>
            <a:ext cx="3214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1"/>
          <p:cNvSpPr/>
          <p:nvPr/>
        </p:nvSpPr>
        <p:spPr>
          <a:xfrm>
            <a:off x="3000240" y="4929120"/>
            <a:ext cx="328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33"/>
          <p:cNvSpPr/>
          <p:nvPr/>
        </p:nvSpPr>
        <p:spPr>
          <a:xfrm>
            <a:off x="3000240" y="5429160"/>
            <a:ext cx="3357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3071880" y="5929200"/>
            <a:ext cx="3286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38"/>
          <p:cNvCxnSpPr/>
          <p:nvPr/>
        </p:nvCxnSpPr>
        <p:spPr>
          <a:xfrm flipV="1">
            <a:off x="3427560" y="785520"/>
            <a:ext cx="2160" cy="49312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Straight Arrow Connector 40"/>
          <p:cNvCxnSpPr/>
          <p:nvPr/>
        </p:nvCxnSpPr>
        <p:spPr>
          <a:xfrm flipH="1">
            <a:off x="4642560" y="1928880"/>
            <a:ext cx="2520" cy="2502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42"/>
          <p:cNvCxnSpPr/>
          <p:nvPr/>
        </p:nvCxnSpPr>
        <p:spPr>
          <a:xfrm flipH="1">
            <a:off x="3569400" y="713880"/>
            <a:ext cx="2520" cy="358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47"/>
          <p:cNvCxnSpPr/>
          <p:nvPr/>
        </p:nvCxnSpPr>
        <p:spPr>
          <a:xfrm flipH="1">
            <a:off x="3855240" y="1000080"/>
            <a:ext cx="2520" cy="357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Straight Arrow Connector 49"/>
          <p:cNvCxnSpPr/>
          <p:nvPr/>
        </p:nvCxnSpPr>
        <p:spPr>
          <a:xfrm flipH="1">
            <a:off x="4212360" y="1428840"/>
            <a:ext cx="2520" cy="429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Straight Arrow Connector 52"/>
          <p:cNvCxnSpPr/>
          <p:nvPr/>
        </p:nvCxnSpPr>
        <p:spPr>
          <a:xfrm flipH="1">
            <a:off x="5000400" y="4430880"/>
            <a:ext cx="2160" cy="429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Straight Arrow Connector 54"/>
          <p:cNvCxnSpPr/>
          <p:nvPr/>
        </p:nvCxnSpPr>
        <p:spPr>
          <a:xfrm flipH="1">
            <a:off x="5285520" y="5001840"/>
            <a:ext cx="252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Straight Arrow Connector 56"/>
          <p:cNvCxnSpPr/>
          <p:nvPr/>
        </p:nvCxnSpPr>
        <p:spPr>
          <a:xfrm flipH="1">
            <a:off x="5714640" y="5573880"/>
            <a:ext cx="2160" cy="357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6" name="TextBox 57"/>
          <p:cNvSpPr/>
          <p:nvPr/>
        </p:nvSpPr>
        <p:spPr>
          <a:xfrm>
            <a:off x="2774160" y="292896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8"/>
          <p:cNvSpPr/>
          <p:nvPr/>
        </p:nvSpPr>
        <p:spPr>
          <a:xfrm>
            <a:off x="4143240" y="300024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fluoresc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9"/>
          <p:cNvSpPr/>
          <p:nvPr/>
        </p:nvSpPr>
        <p:spPr>
          <a:xfrm>
            <a:off x="6429240" y="8571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First excited state with four vibrational energ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0"/>
          <p:cNvSpPr/>
          <p:nvPr/>
        </p:nvSpPr>
        <p:spPr>
          <a:xfrm>
            <a:off x="6732720" y="51116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Ground state with four Vibrational energ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560" y="692280"/>
            <a:ext cx="792180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Times New Roman"/>
              </a:rPr>
              <a:t>Fluorescent compounds have two characteristic spectra: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*an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excitation spectrum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the wavelength and amount of light absorbed) and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an emission spectru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(the wavelength and amount of light emitted).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se spectra  are often referred as a compound's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luorescence signature or fingerprint. 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No two compounds have the same fluorescence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 This principle makes fluorometry a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ighly specific analytical technique. 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640" y="475920"/>
            <a:ext cx="7848720" cy="581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GB" sz="3900" spc="-1" strike="noStrike">
                <a:solidFill>
                  <a:srgbClr val="c00000"/>
                </a:solidFill>
                <a:latin typeface="Times New Roman"/>
              </a:rPr>
              <a:t>*What is fluorometery?</a:t>
            </a:r>
            <a:endParaRPr b="0" lang="en-US" sz="39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luorometry is the measurement of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luorescence.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t’s measured by a fluorometer or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luorimeter.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52" name="مستطيل 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539640" y="981000"/>
            <a:ext cx="8136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luorome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using a beam of light, usuall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ltraviole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luorometer generates the wavelength of light required to excite the analyte of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lectively transmits the wavelength of light emitted, then it measures the intensity of the emitte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itted light is proportional to the concentration of the analyte being measure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3132000" y="40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OT</cp:lastModifiedBy>
  <dcterms:modified xsi:type="dcterms:W3CDTF">2014-09-08T07:51:01Z</dcterms:modified>
  <cp:revision>30</cp:revision>
  <dc:subject/>
  <dc:title>Cls 332 lab 2</dc:title>
</cp:coreProperties>
</file>