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3E7-F0D3-4788-9BAB-4E506E92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6D9-4427-4FC7-AFC2-44C13E14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B87-E50C-478E-9244-9151CA72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320-4B8A-4D12-B3F2-1CF7AA51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4176-E83D-4E4B-B571-2CB1A720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B5EE-1874-4EF7-9E0D-50E28409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198D-1ABE-4430-A15F-7006AC07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E07-90F2-474E-8D70-331664E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2E98-C8F3-4F48-95FB-E167E94F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06FB-47F6-434C-97C8-38E2747C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08BD-4DC7-4938-BA70-BE71A7D1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3A7-ECF6-4128-BD8D-BC6238C3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AC6C-1330-4173-A795-9474837F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A8BC-1CE6-4FA3-8036-8E046002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A8D6-AB07-4724-88DC-6674255A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6C36-8D88-4445-8C26-D250DEF6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53DA-07D6-4601-A4D7-9997D469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5F966-2A46-4B98-B597-97935326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7129-452E-43EB-BB91-33319645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716A-A895-4D21-8E90-96C2AC2C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E4B14-08BE-44F5-9CFB-D571DDC7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43905-7432-41C1-9845-20C34048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F3A3-6391-4DFC-AE06-C66821F6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235D5-DDD1-41F7-BCBE-EDA6020E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A362-9468-4298-AEF7-E4BBE13D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4B77-A685-4B32-9CA1-4B51705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BC0DD-3571-4126-97BB-8995CE0C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6438-A4BC-45C2-ADF3-43A84FA5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D817-0FB6-4BD0-A9FB-C29565DC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A655-6FB2-46AF-B6C9-26CC9928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B5D5D-1B00-4A42-B3D3-DBAFFCE9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4CB71-DEFD-4465-92DD-721B07B2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E33C-11DD-4983-BF77-B9F99DDE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DA7-D41A-42BF-AF91-980453E4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3EE7-8DE3-44AD-BC66-1F89A109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CE908-CB11-46FA-9890-02229841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7F3FB-AF71-4735-A4BE-E84E3BB0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98F8-4591-4C04-A1D7-E1751A69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3919-464C-4B07-A356-62571738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C074-B54A-40BF-8A5C-234A4798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BE09A-2E53-4863-A950-4C12F63F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8C27-0DD9-48FA-BC6F-396E8297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92AF-5B86-4072-B793-A72F3556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AC412-BEE3-4453-B97B-DA327BB2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1AE-6451-4CCE-BF8D-78A89EC7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ED503-5ABA-4893-A3F3-84BD0178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4416-716C-44C1-9017-BFCA3186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E11C5-E574-4E01-829F-E7EEAED4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E9CB8-F3DD-4240-A103-C0BE08E0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45674-64A6-46CD-B0E7-7D3687DD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08DB6-D743-4931-810C-9F5C704A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B2CE0-1721-483D-9647-BD323ADB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59EBC-08C4-4959-91E3-BC59E62D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B08D-7F8C-4279-904A-A575F69B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35F97-AD5F-477C-B199-45E65B2F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14BA-29F6-491A-B012-CD0412E3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1FAAD-82E7-4BE0-A7AE-C4CE84DA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BFF-F53C-462B-8ED3-4C1A219B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837-20F9-4606-A377-A83EBAB4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761-1D27-4151-B5F9-9CE8CE8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C5B-03D4-42CE-8953-2C2804B78AA2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0FC3-46E1-4243-BF54-17AAA72E91E7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C6E5-10B9-4A31-92D5-577E5CB5941D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7E21-4BAD-4802-B3E3-30EAFAD39EEE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b4b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1" marL="59364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2" marL="86832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3" marL="11430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78757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78757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2D7A-D932-48C3-BC40-B460AB606EA9}" type="slidenum">
              <a:rPr b="0" lang="ar-SA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2192040"/>
            <a:ext cx="75438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250560" y="3213000"/>
            <a:ext cx="88930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 rtl="1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5a372c"/>
                </a:solidFill>
                <a:latin typeface="Times New Roman"/>
              </a:rPr>
              <a:t>Fluorometric determination of riboflavin</a:t>
            </a:r>
            <a:endParaRPr b="0" lang="en-US" sz="66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20" name="مربع نص 2"/>
          <p:cNvSpPr/>
          <p:nvPr/>
        </p:nvSpPr>
        <p:spPr>
          <a:xfrm>
            <a:off x="3276720" y="981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b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tent Placeholder 2"/>
          <p:cNvSpPr/>
          <p:nvPr/>
        </p:nvSpPr>
        <p:spPr>
          <a:xfrm>
            <a:off x="439560" y="404640"/>
            <a:ext cx="82296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uorescence compounds</a:t>
            </a:r>
            <a:r>
              <a:rPr b="1" lang="en-GB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and heterocyclic compound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s with multiple conjugated grou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s containing electron donating groups as OH, NH2 ,OCH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poly cyclic compounds like vit K, purines, nucleosides, vit 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Content Placeholder 2"/>
          <p:cNvSpPr/>
          <p:nvPr/>
        </p:nvSpPr>
        <p:spPr>
          <a:xfrm>
            <a:off x="457200" y="642960"/>
            <a:ext cx="822960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H fluoresce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fluorescence compounds when converts to </a:t>
            </a:r>
            <a:r>
              <a:rPr b="0" lang="en-GB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uorescent derivative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s by chelat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ies</a:t>
            </a:r>
            <a:r>
              <a:rPr b="0" lang="en-GB" sz="3200" spc="-1" strike="noStrike">
                <a:solidFill>
                  <a:srgbClr val="7e4e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uorescence spectra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luorescence is used primarily for quantitative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alysis in ppm (part per millions) 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=K</a:t>
            </a:r>
            <a:r>
              <a:rPr b="0" lang="az-Cyrl-AZ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₀ (2.3 abc)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  F  is fluorescence  intensity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 instrument constant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az-Cyrl-AZ" sz="3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quantum efficiency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₀ intensity of excitation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molar absorptive, b cell path, c molar        concent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so F=K.c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10920" y="765000"/>
            <a:ext cx="850716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</a:rPr>
              <a:t>Advantages of fluorometer: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Very specific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Very sensitive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Wide Concentration Range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Simplicity and Speed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 Low Cost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"/>
          <p:cNvSpPr/>
          <p:nvPr/>
        </p:nvSpPr>
        <p:spPr>
          <a:xfrm>
            <a:off x="611280" y="476280"/>
            <a:ext cx="828036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The fluorescence is very sensitive to environmental changes which include PH, temperature, solvent contamination and UV light used for excitation can make photochemic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ربع نص 4"/>
          <p:cNvSpPr/>
          <p:nvPr/>
        </p:nvSpPr>
        <p:spPr>
          <a:xfrm>
            <a:off x="755640" y="6922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inical uses of instr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to measure fluorescence for qualitative and quantitative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measure any substance that exists in small conc. for example: vitamins from blood sampl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357200" y="2357280"/>
            <a:ext cx="4172040" cy="31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2627280" y="728640"/>
            <a:ext cx="3168720" cy="695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3"/>
          <a:stretch/>
        </p:blipFill>
        <p:spPr>
          <a:xfrm>
            <a:off x="6572160" y="2500200"/>
            <a:ext cx="20005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strumentation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9280" y="1915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-Light Source: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lamp or light source provides the energy that excites the compound by emitting light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ight sources include xenon lamps, high pressure mercury vapor lamps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900000" y="1413000"/>
            <a:ext cx="7559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Excitation Filter /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citation filter is used to screen out the wavelengths of unabsorbed light by the compound being measu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10920" y="115560"/>
            <a:ext cx="77058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3-Sample Cell/Cuvette: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Times New Roman"/>
              </a:rPr>
              <a:t>*the cuvette material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must allow the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compound's absorption and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emission light energy to pass through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300" spc="-1" strike="noStrike">
                <a:solidFill>
                  <a:srgbClr val="c00000"/>
                </a:solidFill>
                <a:latin typeface="Times New Roman"/>
              </a:rPr>
              <a:t>the size of cuvette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ffects the measurement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greater the pathlength (or diameter) of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cell, the lower the concentration that can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e read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uvettes are made from borosilicate or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0000" indent="-27000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quartz glass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269" name="Picture 4" descr="http://www.luminometer.com/doc/appnotes/998_0050/image7.gif"/>
          <p:cNvPicPr/>
          <p:nvPr/>
        </p:nvPicPr>
        <p:blipFill>
          <a:blip r:embed="rId1"/>
          <a:stretch/>
        </p:blipFill>
        <p:spPr>
          <a:xfrm>
            <a:off x="8317080" y="7920"/>
            <a:ext cx="685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مستطيل 3"/>
          <p:cNvSpPr/>
          <p:nvPr/>
        </p:nvSpPr>
        <p:spPr>
          <a:xfrm>
            <a:off x="723960" y="1341360"/>
            <a:ext cx="792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 is a kind of a luminescence, which is the emission of photons from electronically excited stat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 occurs when the electron is transferred from a lower energy state into an "excited" higher energy state to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fluoresce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ستطيل 3"/>
          <p:cNvSpPr/>
          <p:nvPr/>
        </p:nvSpPr>
        <p:spPr>
          <a:xfrm>
            <a:off x="623520" y="40464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luorescenc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"/>
          <p:cNvSpPr/>
          <p:nvPr/>
        </p:nvSpPr>
        <p:spPr>
          <a:xfrm>
            <a:off x="611280" y="170028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Emission Filter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y light emitted from the samp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684360" y="549360"/>
            <a:ext cx="7704000" cy="56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5-Light Detector: 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light detector is most often a photomultiplier tube, so photodiodes are increasingly being used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light passing through the emission filter is detected by the photomultiplier or photodiode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light intensity, which is directly proportional (linear) to the compound's concentration, is registered as a digital readout.</a:t>
            </a:r>
            <a:endParaRPr b="0" lang="en-US" sz="33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928800" y="1424160"/>
            <a:ext cx="7572240" cy="45766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3" name="مربع نص 3"/>
          <p:cNvSpPr/>
          <p:nvPr/>
        </p:nvSpPr>
        <p:spPr>
          <a:xfrm>
            <a:off x="503280" y="714240"/>
            <a:ext cx="224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mating 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pH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Cleanliness of glassware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High standards of experimental technologist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e necessary to prevent quenching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Temperature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-Cuvette Size (Pathlength)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-45900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iboflavin Experiment</a:t>
            </a: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55640" y="1484280"/>
            <a:ext cx="741672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iboflavin (vitamin B2) is strongly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luorescent in 5% acetic  acid solution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490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emical and solutions required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99640" y="1412640"/>
            <a:ext cx="7417080" cy="43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 5 % Acetic aci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dition of a few drops of glacial acetic acid to the solution will insure an acid pH and help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stabilize it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Riboflavin stock solution 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- Riboflavin standards solution 10( ppm)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-  Unknown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paration of standards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57120" y="1643040"/>
          <a:ext cx="8586720" cy="3627360"/>
        </p:xfrm>
        <a:graphic>
          <a:graphicData uri="http://schemas.openxmlformats.org/drawingml/2006/table">
            <a:tbl>
              <a:tblPr/>
              <a:tblGrid>
                <a:gridCol w="1571760"/>
                <a:gridCol w="1071360"/>
                <a:gridCol w="1036800"/>
                <a:gridCol w="1227240"/>
                <a:gridCol w="1226880"/>
                <a:gridCol w="1225800"/>
                <a:gridCol w="1226880"/>
              </a:tblGrid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 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d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12240">
                      <a:solidFill>
                        <a:srgbClr val="9cb084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boflavin stoc.std(10 p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1224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%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cb084"/>
                      </a:solidFill>
                    </a:lnL>
                    <a:lnR w="5760">
                      <a:solidFill>
                        <a:srgbClr val="9cb084"/>
                      </a:solidFill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edure</a:t>
            </a:r>
            <a:endParaRPr b="0" lang="en-US" sz="4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1- switch on the 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hin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2- install the excitation and emission filtered in their  holders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3- start lamp (UV) by pressing 3-4 sec. the start switch and release it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- leave to warm up ,15 mins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5- open the door of the instrument which acts as sample holder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24000" y="765000"/>
            <a:ext cx="88200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just the range select or at x1 (excitation filter) for less conc. sample (ppm) and the higher range for higher conc. samp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t reagent blank cuvette in the sample holder, close the door and with the help of blank knob set read out to zero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move reagent blank and insert the std. highest conc. And with help of attenuator knob set the read out to 100 and record this read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250920" y="836640"/>
            <a:ext cx="806616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 Check twice for zeroing and 100 by inserting appropriate samples . If this not ok select higher range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Take the reading for other std. and given unknown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electron will remain in this state for 10⁻⁸ sec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n the electron returns to the lower energy state and it releases the energy in form of fluorescence.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457200" y="1643040"/>
          <a:ext cx="8229600" cy="22478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c. In ppm 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cb084"/>
                      </a:solidFill>
                    </a:lnT>
                    <a:lnB>
                      <a:noFill/>
                    </a:lnB>
                    <a:solidFill>
                      <a:srgbClr val="9cb084">
                        <a:alpha val="20000"/>
                      </a:srgbClr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cb08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755640" y="981000"/>
            <a:ext cx="734544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1- plot the graph and from the graph find out the conc. of unknown.</a:t>
            </a: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88" name="Straight Connector 4"/>
          <p:cNvSpPr/>
          <p:nvPr/>
        </p:nvSpPr>
        <p:spPr>
          <a:xfrm>
            <a:off x="3000240" y="2286000"/>
            <a:ext cx="0" cy="221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8"/>
          <p:cNvSpPr/>
          <p:nvPr/>
        </p:nvSpPr>
        <p:spPr>
          <a:xfrm>
            <a:off x="3000240" y="4500720"/>
            <a:ext cx="3214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10"/>
          <p:cNvSpPr/>
          <p:nvPr/>
        </p:nvSpPr>
        <p:spPr>
          <a:xfrm flipV="1">
            <a:off x="3000240" y="2214720"/>
            <a:ext cx="2857680" cy="228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2286000" y="30002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nstantia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2857680" y="4572000"/>
            <a:ext cx="3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3571920" y="4500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4"/>
          <p:cNvSpPr/>
          <p:nvPr/>
        </p:nvSpPr>
        <p:spPr>
          <a:xfrm>
            <a:off x="5857920" y="4500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5"/>
          <p:cNvSpPr/>
          <p:nvPr/>
        </p:nvSpPr>
        <p:spPr>
          <a:xfrm>
            <a:off x="4000680" y="50007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nstantia"/>
              </a:rPr>
              <a:t>CO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://iws.collin.edu/biopage/faculty/mcculloch/1406/outlines/chapter%2010/Ma10-8b.JPG"/>
          <p:cNvPicPr/>
          <p:nvPr/>
        </p:nvPicPr>
        <p:blipFill>
          <a:blip r:embed="rId1"/>
          <a:stretch/>
        </p:blipFill>
        <p:spPr>
          <a:xfrm>
            <a:off x="1619280" y="836640"/>
            <a:ext cx="6095880" cy="4572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611280" y="1484280"/>
            <a:ext cx="78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ultraviolet absorption spectroscopy  when molecule absorbs UV radiation at one wavelength and its immediately re-emission, usually in a longer waveleng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molecules fluoresce naturally and others can be modified to make fluorescent compoun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683640" y="85716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luorescence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00040" y="356760"/>
            <a:ext cx="8375760" cy="59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 algn="r" rtl="1">
              <a:spcBef>
                <a:spcPts val="601"/>
              </a:spcBef>
              <a:buClr>
                <a:srgbClr val="ceb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cxnSp>
        <p:nvCxnSpPr>
          <p:cNvPr id="229" name="Straight Arrow Connector 4"/>
          <p:cNvCxnSpPr/>
          <p:nvPr/>
        </p:nvCxnSpPr>
        <p:spPr>
          <a:xfrm flipV="1">
            <a:off x="1498680" y="1213920"/>
            <a:ext cx="2160" cy="2859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0" name="Straight Connector 16"/>
          <p:cNvSpPr/>
          <p:nvPr/>
        </p:nvSpPr>
        <p:spPr>
          <a:xfrm>
            <a:off x="2928960" y="928800"/>
            <a:ext cx="28573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1"/>
          <p:cNvSpPr/>
          <p:nvPr/>
        </p:nvSpPr>
        <p:spPr>
          <a:xfrm>
            <a:off x="2928960" y="1428840"/>
            <a:ext cx="29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23"/>
          <p:cNvSpPr/>
          <p:nvPr/>
        </p:nvSpPr>
        <p:spPr>
          <a:xfrm>
            <a:off x="3000240" y="1928880"/>
            <a:ext cx="292896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25"/>
          <p:cNvSpPr/>
          <p:nvPr/>
        </p:nvSpPr>
        <p:spPr>
          <a:xfrm>
            <a:off x="2928960" y="571680"/>
            <a:ext cx="2786040" cy="0"/>
          </a:xfrm>
          <a:prstGeom prst="line">
            <a:avLst/>
          </a:prstGeom>
          <a:ln w="1584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29"/>
          <p:cNvSpPr/>
          <p:nvPr/>
        </p:nvSpPr>
        <p:spPr>
          <a:xfrm>
            <a:off x="3000240" y="4357800"/>
            <a:ext cx="3214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1"/>
          <p:cNvSpPr/>
          <p:nvPr/>
        </p:nvSpPr>
        <p:spPr>
          <a:xfrm>
            <a:off x="3000240" y="4929120"/>
            <a:ext cx="3286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33"/>
          <p:cNvSpPr/>
          <p:nvPr/>
        </p:nvSpPr>
        <p:spPr>
          <a:xfrm>
            <a:off x="3000240" y="5429160"/>
            <a:ext cx="3357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36"/>
          <p:cNvSpPr/>
          <p:nvPr/>
        </p:nvSpPr>
        <p:spPr>
          <a:xfrm>
            <a:off x="3071880" y="5929200"/>
            <a:ext cx="3286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38"/>
          <p:cNvCxnSpPr/>
          <p:nvPr/>
        </p:nvCxnSpPr>
        <p:spPr>
          <a:xfrm flipV="1">
            <a:off x="3427560" y="785520"/>
            <a:ext cx="2160" cy="49312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9" name="Straight Arrow Connector 40"/>
          <p:cNvCxnSpPr/>
          <p:nvPr/>
        </p:nvCxnSpPr>
        <p:spPr>
          <a:xfrm flipH="1">
            <a:off x="4642560" y="1928880"/>
            <a:ext cx="2520" cy="25027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Straight Arrow Connector 42"/>
          <p:cNvCxnSpPr/>
          <p:nvPr/>
        </p:nvCxnSpPr>
        <p:spPr>
          <a:xfrm flipH="1">
            <a:off x="3569400" y="713880"/>
            <a:ext cx="2520" cy="3582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Straight Arrow Connector 47"/>
          <p:cNvCxnSpPr/>
          <p:nvPr/>
        </p:nvCxnSpPr>
        <p:spPr>
          <a:xfrm flipH="1">
            <a:off x="3855240" y="1000080"/>
            <a:ext cx="2520" cy="357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Straight Arrow Connector 49"/>
          <p:cNvCxnSpPr/>
          <p:nvPr/>
        </p:nvCxnSpPr>
        <p:spPr>
          <a:xfrm flipH="1">
            <a:off x="4212360" y="1428840"/>
            <a:ext cx="2520" cy="429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3" name="Straight Arrow Connector 52"/>
          <p:cNvCxnSpPr/>
          <p:nvPr/>
        </p:nvCxnSpPr>
        <p:spPr>
          <a:xfrm flipH="1">
            <a:off x="5000400" y="4430880"/>
            <a:ext cx="2160" cy="4291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Straight Arrow Connector 54"/>
          <p:cNvCxnSpPr/>
          <p:nvPr/>
        </p:nvCxnSpPr>
        <p:spPr>
          <a:xfrm flipH="1">
            <a:off x="5285520" y="5001840"/>
            <a:ext cx="2520" cy="4294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5" name="Straight Arrow Connector 56"/>
          <p:cNvCxnSpPr/>
          <p:nvPr/>
        </p:nvCxnSpPr>
        <p:spPr>
          <a:xfrm flipH="1">
            <a:off x="5714640" y="5573880"/>
            <a:ext cx="2160" cy="357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6" name="TextBox 57"/>
          <p:cNvSpPr/>
          <p:nvPr/>
        </p:nvSpPr>
        <p:spPr>
          <a:xfrm>
            <a:off x="2774160" y="292896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8"/>
          <p:cNvSpPr/>
          <p:nvPr/>
        </p:nvSpPr>
        <p:spPr>
          <a:xfrm>
            <a:off x="4143240" y="300024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fluoresc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9"/>
          <p:cNvSpPr/>
          <p:nvPr/>
        </p:nvSpPr>
        <p:spPr>
          <a:xfrm>
            <a:off x="6429240" y="8571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First excited state with four vibrational energ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0"/>
          <p:cNvSpPr/>
          <p:nvPr/>
        </p:nvSpPr>
        <p:spPr>
          <a:xfrm>
            <a:off x="6732720" y="51116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Ground state with four Vibrational energ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26560" y="692280"/>
            <a:ext cx="792180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00000"/>
                </a:solidFill>
                <a:latin typeface="Times New Roman"/>
              </a:rPr>
              <a:t>Fluorescent compounds have two characteristic spectra: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*an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excitation spectrum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(the wavelength and amount of light absorbed) and </a:t>
            </a:r>
            <a:r>
              <a:rPr b="0" lang="en-GB" sz="3000" spc="-1" strike="noStrike" u="sng">
                <a:solidFill>
                  <a:srgbClr val="000000"/>
                </a:solidFill>
                <a:uFillTx/>
                <a:latin typeface="Times New Roman"/>
              </a:rPr>
              <a:t>an emission spectrum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(the wavelength and amount of light emitted).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These spectra  are often referred as a compound's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fluorescence signature or fingerprint. 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No two compounds have the same fluorescence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 This principle makes fluorometry a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ighly specific analytical technique. </a:t>
            </a: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967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39640" y="475920"/>
            <a:ext cx="7848720" cy="581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GB" sz="3900" spc="-1" strike="noStrike">
                <a:solidFill>
                  <a:srgbClr val="c00000"/>
                </a:solidFill>
                <a:latin typeface="Times New Roman"/>
              </a:rPr>
              <a:t>*What is fluorometery?</a:t>
            </a:r>
            <a:endParaRPr b="0" lang="en-US" sz="39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luorometry is the measurement of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luorescence.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It’s measured by a fluorometer or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luorimeter.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52" name="مستطيل 3"/>
          <p:cNvSpPr/>
          <p:nvPr/>
        </p:nvSpPr>
        <p:spPr>
          <a:xfrm>
            <a:off x="2286000" y="2828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539640" y="981000"/>
            <a:ext cx="8136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luorome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using a beam of light, usuall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ltraviole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luorometer generates the wavelength of light required to excite the analyte of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lectively transmits the wavelength of light emitted, then it measures the intensity of the emitted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itted light is proportional to the concentration of the analyte being measure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3132000" y="404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OT</cp:lastModifiedBy>
  <dcterms:modified xsi:type="dcterms:W3CDTF">2014-09-08T07:51:01Z</dcterms:modified>
  <cp:revision>30</cp:revision>
  <dc:subject/>
  <dc:title>Cls 332 lab 2</dc:title>
</cp:coreProperties>
</file>