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27F-8F89-476B-99FD-F303B6BB6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BD58-AAF9-4E23-82C9-79810763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6A2-032D-49F9-B6D9-C3851EDA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A4F-4F81-4895-922A-44284ADD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0CE4-6B2A-43BB-A450-274540B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2B4-87B0-4898-83BF-3D560AAD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859-8C0B-4FE4-AB15-5E4AA526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D5BB-525D-4A67-9D27-424912D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09C6-FDE7-46CF-B2A5-2ED006DC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405-88B6-4379-A76B-CC31E19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4BB-1A5D-4CB1-892B-3CD1EABC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CA8-C64D-4F08-B94E-B8B5ECE5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7827-61C6-48C7-BF27-1D0FA38D038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sa/imgres?imgurl=http://ag.arizona.edu/azaqua/aquaplants/photos/chara.jpg&amp;imgrefurl=http://ag.arizona.edu/azaqua/aquaplants/photos/&amp;usg=__6Qzpus4DoKT5Ylq-CZcR7FeOLmM=&amp;h=458&amp;w=643&amp;sz=228&amp;hl=ar&amp;start=5&amp;itbs=1&amp;tbnid=jnwqejLg-rltXM:&amp;tbnh=98&amp;tbnw=137&amp;prev=/images%3Fq%3DChara%26hl%3Dar%26safe%3Dactive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javascript:ClickThumbnail(145)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حالب الخضراء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طحالب الصفراء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Calibri"/>
              </a:rPr>
              <a:t>الدياتوما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صورة ذات صلة"/>
          <p:cNvPicPr/>
          <p:nvPr/>
        </p:nvPicPr>
        <p:blipFill>
          <a:blip r:embed="rId1"/>
          <a:stretch/>
        </p:blipFill>
        <p:spPr>
          <a:xfrm>
            <a:off x="2484360" y="1557360"/>
            <a:ext cx="4248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Diato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8128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يدة الخلية تعرف بالطحالب العصوية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ariophycea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يش منفردة اومستعمرة متحركة باسوا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ها هياكل سيلكية بعد موتها تكون تربة دياتومية تمتاز بالجمال والزخرفة العا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يش فى المياه العذبة والمياه المالح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14480" y="1676520"/>
            <a:ext cx="3543120" cy="3657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228600" y="5029200"/>
            <a:ext cx="28954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جد الدياتومات بكثرة في المياه العذبة والمالحة وفي التربة الرطبة وهي وحيدة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جد مفردة أو في تجمع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تكون من بروتوبلازم وجدار خلوي منقسم الى نصفين متراكبين مثل العلبة وغطائ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كلاهما يتكون من ترسبات السليكا على هيئة طبقات بأشكال جميلة على الجد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:Bacillari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: Bacillariophycea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los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7077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و طحلب وحيد الخلية وليس خيطي إنما توج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خلايا بجانب بعضها فتشبه الخيط ولكنها ليس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خيط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: Bacillari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: Bacillariophycea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innula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1187280" y="3284640"/>
            <a:ext cx="72010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5266080" cy="395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187280" y="249228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راف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قدة وسط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n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ليك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ar n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قدة قط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ision: Bacillari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ss: Bacillariophyce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eurosig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-61920" y="-136440"/>
            <a:ext cx="1143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240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. : Diatom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ddulph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2466720" cy="1873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25923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47260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Cladophor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50920" y="126828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/ Chlorophy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/ Chlorophycea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Or/ Cladophorales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/ Cladophoracea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ANd9GcT8Zl5UHlcVglMBSXRzFYWbHGfO95AcQy3XuHPwj1hG23UyM9oy_g"/>
          <p:cNvPicPr/>
          <p:nvPr/>
        </p:nvPicPr>
        <p:blipFill>
          <a:blip r:embed="rId1"/>
          <a:stretch/>
        </p:blipFill>
        <p:spPr>
          <a:xfrm>
            <a:off x="6732720" y="4149720"/>
            <a:ext cx="199836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ANd9GcTSdCsPIqGn3OBUDGC0Em92FQkF7oZL7te0kgFQ1f9BdUJPr3MZIA"/>
          <p:cNvPicPr/>
          <p:nvPr/>
        </p:nvPicPr>
        <p:blipFill>
          <a:blip r:embed="rId2"/>
          <a:stretch/>
        </p:blipFill>
        <p:spPr>
          <a:xfrm>
            <a:off x="5003640" y="836640"/>
            <a:ext cx="3672000" cy="187308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13"/>
          <p:cNvSpPr/>
          <p:nvPr/>
        </p:nvSpPr>
        <p:spPr>
          <a:xfrm>
            <a:off x="3348000" y="249552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5" descr="ANd9GcR7c-YHZ9GW-vlclykgdnPB7JkjfMykpn23C59dmVo6NBf4ohXXQw"/>
          <p:cNvPicPr/>
          <p:nvPr/>
        </p:nvPicPr>
        <p:blipFill>
          <a:blip r:embed="rId3"/>
          <a:stretch/>
        </p:blipFill>
        <p:spPr>
          <a:xfrm>
            <a:off x="3564000" y="4292640"/>
            <a:ext cx="24955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ي من طحالب المياه العذبة والمالحة . وهي خيوط ذات ملمس خشن قليلة التفرع بعض خلايا الخيط مفردة وبعضها يكون مندمج خلوي في نفس الخيط وتوجد في قمة الخيط خلية قمية نامية ، كما أن الخلايا مستطيلة ذات جدر سميكة ( جدار سليلوزي مغطى بمادة كيتينية وبكتينية ) وتتكون بلاستيدات شبكية بها مراكز لتكوين النشا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كلادوفورا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adoph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5076720" y="1268280"/>
            <a:ext cx="3743280" cy="32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ladophora"/>
          <p:cNvPicPr/>
          <p:nvPr/>
        </p:nvPicPr>
        <p:blipFill>
          <a:blip r:embed="rId2"/>
          <a:srcRect l="0" t="0" r="0" b="12386"/>
          <a:stretch/>
        </p:blipFill>
        <p:spPr>
          <a:xfrm>
            <a:off x="324000" y="1268280"/>
            <a:ext cx="4752720" cy="540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ladophora_aegagrophila"/>
          <p:cNvPicPr/>
          <p:nvPr/>
        </p:nvPicPr>
        <p:blipFill>
          <a:blip r:embed="rId3"/>
          <a:stretch/>
        </p:blipFill>
        <p:spPr>
          <a:xfrm>
            <a:off x="5076720" y="4508640"/>
            <a:ext cx="3816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48974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/ Charophyta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/ Charophyceae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r/ Charales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/ Characea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ha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33360"/>
            <a:ext cx="2124000" cy="3527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973440" y="404640"/>
            <a:ext cx="2256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ff0000"/>
                </a:solidFill>
                <a:uFillTx/>
                <a:latin typeface="Arial"/>
              </a:rPr>
              <a:t>Cha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5" descr="ANd9GcQKH2WZyeEdGAdqq5jEHaFtobGffnnZVj069lMp2-eH17qwMuLD"/>
          <p:cNvPicPr/>
          <p:nvPr/>
        </p:nvPicPr>
        <p:blipFill>
          <a:blip r:embed="rId3"/>
          <a:stretch/>
        </p:blipFill>
        <p:spPr>
          <a:xfrm>
            <a:off x="4500720" y="333360"/>
            <a:ext cx="2376360" cy="36003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7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9"/>
          <p:cNvSpPr/>
          <p:nvPr/>
        </p:nvSpPr>
        <p:spPr>
          <a:xfrm>
            <a:off x="3610080" y="2238480"/>
            <a:ext cx="19238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1" descr="chara_fil_algae"/>
          <p:cNvPicPr/>
          <p:nvPr/>
        </p:nvPicPr>
        <p:blipFill>
          <a:blip r:embed="rId4"/>
          <a:stretch/>
        </p:blipFill>
        <p:spPr>
          <a:xfrm>
            <a:off x="324000" y="4292640"/>
            <a:ext cx="3095640" cy="234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ANd9GcS7C2h7B_GWv1trW0GelGVcO2k882aifBJOfRkHjh0tZqYreTAR6A"/>
          <p:cNvPicPr/>
          <p:nvPr/>
        </p:nvPicPr>
        <p:blipFill>
          <a:blip r:embed="rId5"/>
          <a:stretch/>
        </p:blipFill>
        <p:spPr>
          <a:xfrm>
            <a:off x="3708360" y="4221000"/>
            <a:ext cx="2438280" cy="2376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ANd9GcR3dcv6oln5i8Y3qgiNYSXNAYLs3ZGQOFLPtrisNrLpEk3prW8s"/>
          <p:cNvPicPr/>
          <p:nvPr/>
        </p:nvPicPr>
        <p:blipFill>
          <a:blip r:embed="rId6"/>
          <a:stretch/>
        </p:blipFill>
        <p:spPr>
          <a:xfrm>
            <a:off x="6300720" y="4221000"/>
            <a:ext cx="23749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ي البحيرات والبرك يثبت نفسة على الرمل والط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بواسطة أشباه جذور عديدة الخلاي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كون الثالوس من محور ريشي طويل مستقي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سطواني متفرع ، يتميز الى عقد وسلاميا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ي كل عقدة من المحور الرئيسي تخرج مجموعة أفر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ثانوية تنقسم بدورها إلى عقد وسلاميات وهي أقص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في الطول من الأفرع الرئيسية عبارة عن خلية واحد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شوكية الشكل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Xanthophy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حالب الصفرا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476360" y="2924280"/>
            <a:ext cx="63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تعيش هذه الطحالب فى المياه العذبة وتحتوى خلاياها على بلاستيدات عدسية الشكل أو قرصية توجد بها صبغات مختلفة تعطى الطحالب لوناً أخضراً مصفراً وهى 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ophyll a-Carotenes -Xanthophylls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) والغذاء المدخر لهذه الطحالب عبارة عن زيوت ، كما لا توجد بالبلاستيده مراكز لتكوين النش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0" y="907920"/>
            <a:ext cx="525636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/ Xanthophyt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/ Xanthophycea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/ Vauchariales or heterosiphonales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/ Vaucheriacea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941720"/>
            <a:ext cx="3816360" cy="1773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"/>
          <p:cNvSpPr/>
          <p:nvPr/>
        </p:nvSpPr>
        <p:spPr>
          <a:xfrm>
            <a:off x="179280" y="333360"/>
            <a:ext cx="382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Vaucher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ANd9GcSrYMzO9su07TXgq4vf9P8GHM3Lhp5_oi_XHXALJMr-VABeHN4X"/>
          <p:cNvPicPr/>
          <p:nvPr/>
        </p:nvPicPr>
        <p:blipFill>
          <a:blip r:embed="rId3"/>
          <a:stretch/>
        </p:blipFill>
        <p:spPr>
          <a:xfrm>
            <a:off x="5148360" y="2997360"/>
            <a:ext cx="3816360" cy="18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5" descr="ANd9GcTBS8fnJ5zCB8KUkbE7us5hnAht44g5IXPmdLprLJNzZvYdTd1O"/>
          <p:cNvPicPr/>
          <p:nvPr/>
        </p:nvPicPr>
        <p:blipFill>
          <a:blip r:embed="rId4"/>
          <a:stretch/>
        </p:blipFill>
        <p:spPr>
          <a:xfrm>
            <a:off x="324000" y="5445000"/>
            <a:ext cx="2504880" cy="11811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7"/>
          <p:cNvSpPr/>
          <p:nvPr/>
        </p:nvSpPr>
        <p:spPr>
          <a:xfrm>
            <a:off x="3343320" y="2610000"/>
            <a:ext cx="245736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C0052464-Vaucheria_Yellow-Green_Algae_with_zygotes-SPL"/>
          <p:cNvPicPr/>
          <p:nvPr/>
        </p:nvPicPr>
        <p:blipFill>
          <a:blip r:embed="rId5"/>
          <a:stretch/>
        </p:blipFill>
        <p:spPr>
          <a:xfrm>
            <a:off x="5148360" y="549360"/>
            <a:ext cx="381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تكون الثالوس من خيوط انبوبية متفرعة والتفرع غير منتظ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هو عبارة عن مدمج خلوي لا توجد أي جدر او فواصل بين التفرعات الجانب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يحتوي على السيتوبلازم وبلاستيدات خضراء وفجوة عصارية كبير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كاثر جنسي بواسطة الاوجونة والانثريد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8:59:10Z</dcterms:created>
  <dc:creator>Om fahad</dc:creator>
  <dc:description/>
  <dc:language>en-US</dc:language>
  <cp:lastModifiedBy>user</cp:lastModifiedBy>
  <dcterms:modified xsi:type="dcterms:W3CDTF">2015-11-25T17:42:45Z</dcterms:modified>
  <cp:revision>34</cp:revision>
  <dc:subject/>
  <dc:title>الطحالب الخضراء  Green Algae</dc:title>
</cp:coreProperties>
</file>