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9E3-20E4-484C-A31C-3364DBED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5D0-0A3F-436B-942D-DAA35A9A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6E5-B9E7-4E3A-A483-BC870974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625-7656-4BF3-858D-23288404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9D1-67EC-48B1-BC37-B83731DF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BB7-263A-4C6D-8250-1DD8500B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3FA-00B8-42C1-8871-0B281812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DF6-7315-4173-B421-9F4320C0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6DD-1F38-4BB6-BAD0-619E705C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35F-3C51-4113-A8BB-1D7E1A43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30C-1C60-4469-9CB7-E498DDA8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AE4-4D9B-4D24-904A-11ABFE85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D7B8-D44D-4694-85C4-0F49CA0D497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ag.arizona.edu/azaqua/aquaplants/photos/chara.jpg&amp;imgrefurl=http://ag.arizona.edu/azaqua/aquaplants/photos/&amp;usg=__6Qzpus4DoKT5Ylq-CZcR7FeOLmM=&amp;h=458&amp;w=643&amp;sz=228&amp;hl=ar&amp;start=5&amp;itbs=1&amp;tbnid=jnwqejLg-rltXM:&amp;tbnh=98&amp;tbnw=137&amp;prev=/images%3Fq%3DChara%26hl%3Dar%26safe%3Dactive%26sa%3DG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ClickThumbnail(145)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طحالب الصفراء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دياتوم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صورة ذات صلة"/>
          <p:cNvPicPr/>
          <p:nvPr/>
        </p:nvPicPr>
        <p:blipFill>
          <a:blip r:embed="rId1"/>
          <a:stretch/>
        </p:blipFill>
        <p:spPr>
          <a:xfrm>
            <a:off x="2484360" y="1557360"/>
            <a:ext cx="4248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Dia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8128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يدة الخلية تعرف بالطحالب العصوية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ariophycea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يش منفردة اومستعمرة متحركة باسوا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ا هياكل سيلكية بعد موتها تكون تربة دياتومية تمتاز بالجمال والزخرفة العا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يش فى المياه العذبة والمياه المال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4480" y="1676520"/>
            <a:ext cx="3543120" cy="3657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28600" y="5029200"/>
            <a:ext cx="28954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جد الدياتومات بكثرة في المياه العذبة والمالحة وفي التربة الرطبة وهي وحيدة ال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جد مفردة أو في تجمع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تكون من بروتوبلازم وجدار خلوي منقسم الى نصفين متراكبين مثل العلبة وغطائ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كلاهما يتكون من ترسبات السليكا على هيئة طبقات بأشكال جميلة على الجد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:Bacillari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: Bacillariophycea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. : Di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losi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077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و طحلب وحيد الخلية وليس خيطي إنما توج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خلايا بجانب بعضها فتشبه الخيط ولكنها ليس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خيط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: Bacillari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: Bacillariophycea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. : Di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innula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187280" y="3284640"/>
            <a:ext cx="7201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266080" cy="395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187280" y="24922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راف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قدة وسط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n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ليك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 n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قدة قطب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: Bacillari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: Bacillariophyce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. : Di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eurosig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-61920" y="-13644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240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. : Diatom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ddulph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2466720" cy="187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2592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4726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Calibri"/>
              </a:rPr>
              <a:t>Cladophor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126828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/ Chlorophy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/ Chlorophycea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Or/ Cladophoral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/ Cladophoracea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ANd9GcT8Zl5UHlcVglMBSXRzFYWbHGfO95AcQy3XuHPwj1hG23UyM9oy_g"/>
          <p:cNvPicPr/>
          <p:nvPr/>
        </p:nvPicPr>
        <p:blipFill>
          <a:blip r:embed="rId1"/>
          <a:stretch/>
        </p:blipFill>
        <p:spPr>
          <a:xfrm>
            <a:off x="6732720" y="4149720"/>
            <a:ext cx="1998360" cy="2162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ANd9GcTSdCsPIqGn3OBUDGC0Em92FQkF7oZL7te0kgFQ1f9BdUJPr3MZIA"/>
          <p:cNvPicPr/>
          <p:nvPr/>
        </p:nvPicPr>
        <p:blipFill>
          <a:blip r:embed="rId2"/>
          <a:stretch/>
        </p:blipFill>
        <p:spPr>
          <a:xfrm>
            <a:off x="5003640" y="836640"/>
            <a:ext cx="3672000" cy="18730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3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ANd9GcR7c-YHZ9GW-vlclykgdnPB7JkjfMykpn23C59dmVo6NBf4ohXXQw"/>
          <p:cNvPicPr/>
          <p:nvPr/>
        </p:nvPicPr>
        <p:blipFill>
          <a:blip r:embed="rId3"/>
          <a:stretch/>
        </p:blipFill>
        <p:spPr>
          <a:xfrm>
            <a:off x="3564000" y="4292640"/>
            <a:ext cx="24955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هي من طحالب المياه العذبة والمالحة . وهي خيوط ذات ملمس خشن قليلة التفرع بعض خلايا الخيط مفردة وبعضها يكون مندمج خلوي في نفس الخيط وتوجد في قمة الخيط خلية قمية نامية ، كما أن الخلايا مستطيلة ذات جدر سميكة ( جدار سليلوزي مغطى بمادة كيتينية وبكتينية ) وتتكون بلاستيدات شبكية بها مراكز لتكوين النشا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كلادوفورا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dop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743280" cy="324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ladophora"/>
          <p:cNvPicPr/>
          <p:nvPr/>
        </p:nvPicPr>
        <p:blipFill>
          <a:blip r:embed="rId2"/>
          <a:srcRect l="0" t="0" r="0" b="12386"/>
          <a:stretch/>
        </p:blipFill>
        <p:spPr>
          <a:xfrm>
            <a:off x="324000" y="1268280"/>
            <a:ext cx="4752720" cy="540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ladophora_aegagrophila"/>
          <p:cNvPicPr/>
          <p:nvPr/>
        </p:nvPicPr>
        <p:blipFill>
          <a:blip r:embed="rId3"/>
          <a:stretch/>
        </p:blipFill>
        <p:spPr>
          <a:xfrm>
            <a:off x="5076720" y="4508640"/>
            <a:ext cx="3816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/ Charophyta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/ Charophyceae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r/ Charal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/ Characea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ha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33360"/>
            <a:ext cx="2124000" cy="3527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973440" y="40464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ANd9GcQKH2WZyeEdGAdqq5jEHaFtobGffnnZVj069lMp2-eH17qwMuLD"/>
          <p:cNvPicPr/>
          <p:nvPr/>
        </p:nvPicPr>
        <p:blipFill>
          <a:blip r:embed="rId3"/>
          <a:stretch/>
        </p:blipFill>
        <p:spPr>
          <a:xfrm>
            <a:off x="4500720" y="333360"/>
            <a:ext cx="2376360" cy="3600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7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chara_fil_algae"/>
          <p:cNvPicPr/>
          <p:nvPr/>
        </p:nvPicPr>
        <p:blipFill>
          <a:blip r:embed="rId4"/>
          <a:stretch/>
        </p:blipFill>
        <p:spPr>
          <a:xfrm>
            <a:off x="324000" y="4292640"/>
            <a:ext cx="3095640" cy="23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ANd9GcS7C2h7B_GWv1trW0GelGVcO2k882aifBJOfRkHjh0tZqYreTAR6A"/>
          <p:cNvPicPr/>
          <p:nvPr/>
        </p:nvPicPr>
        <p:blipFill>
          <a:blip r:embed="rId5"/>
          <a:stretch/>
        </p:blipFill>
        <p:spPr>
          <a:xfrm>
            <a:off x="3708360" y="4221000"/>
            <a:ext cx="2438280" cy="23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ANd9GcR3dcv6oln5i8Y3qgiNYSXNAYLs3ZGQOFLPtrisNrLpEk3prW8s"/>
          <p:cNvPicPr/>
          <p:nvPr/>
        </p:nvPicPr>
        <p:blipFill>
          <a:blip r:embed="rId6"/>
          <a:stretch/>
        </p:blipFill>
        <p:spPr>
          <a:xfrm>
            <a:off x="6300720" y="4221000"/>
            <a:ext cx="23749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ي البحيرات والبرك يثبت نفسة على الرمل والط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بواسطة أشباه جذور عديدة الخلاي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كون الثالوس من محور ريشي طويل مستق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طواني متفرع ، يتميز الى عقد وسلامي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ي كل عقدة من المحور الرئيسي تخرج مجموعة أفر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ثانوية تنقسم بدورها إلى عقد وسلاميات وهي أقص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ي الطول من الأفرع الرئيسية عبارة عن خلية واح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شوكية الشك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anth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حالب الصفر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476360" y="292428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عيش هذه الطحالب فى المياه العذبة وتحتوى خلاياها على بلاستيدات عدسية الشكل أو قرصية توجد بها صبغات مختلفة تعطى الطحالب لوناً أخضراً مصفراً وهى 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lorophyll a-Carotenes -Xanthophy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) والغذاء المدخر لهذه الطحالب عبارة عن زيوت ، كما لا توجد بالبلاستيده مراكز لتكوين النش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07920"/>
            <a:ext cx="52563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/ Xanthophyt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/ Xanthophycea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Vauchariales or heterosiphon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/ Vaucheriacea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941720"/>
            <a:ext cx="3816360" cy="177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179280" y="333360"/>
            <a:ext cx="382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Vaucher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ANd9GcSrYMzO9su07TXgq4vf9P8GHM3Lhp5_oi_XHXALJMr-VABeHN4X"/>
          <p:cNvPicPr/>
          <p:nvPr/>
        </p:nvPicPr>
        <p:blipFill>
          <a:blip r:embed="rId3"/>
          <a:stretch/>
        </p:blipFill>
        <p:spPr>
          <a:xfrm>
            <a:off x="5148360" y="2997360"/>
            <a:ext cx="381636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ANd9GcTBS8fnJ5zCB8KUkbE7us5hnAht44g5IXPmdLprLJNzZvYdTd1O"/>
          <p:cNvPicPr/>
          <p:nvPr/>
        </p:nvPicPr>
        <p:blipFill>
          <a:blip r:embed="rId4"/>
          <a:stretch/>
        </p:blipFill>
        <p:spPr>
          <a:xfrm>
            <a:off x="324000" y="5445000"/>
            <a:ext cx="2504880" cy="11811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7"/>
          <p:cNvSpPr/>
          <p:nvPr/>
        </p:nvSpPr>
        <p:spPr>
          <a:xfrm>
            <a:off x="3343320" y="2610000"/>
            <a:ext cx="24573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C0052464-Vaucheria_Yellow-Green_Algae_with_zygotes-SPL"/>
          <p:cNvPicPr/>
          <p:nvPr/>
        </p:nvPicPr>
        <p:blipFill>
          <a:blip r:embed="rId5"/>
          <a:stretch/>
        </p:blipFill>
        <p:spPr>
          <a:xfrm>
            <a:off x="5148360" y="549360"/>
            <a:ext cx="381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كون الثالوس من خيوط انبوبية متفرعة والتفرع غير منت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هو عبارة عن مدمج خلوي لا توجد أي جدر او فواصل بين التفرعات الجان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حتوي على السيتوبلازم وبلاستيدات خضراء وفجوة عصارية كبي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كاثر جنسي بواسطة الاوجونة والانثريد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user</cp:lastModifiedBy>
  <dcterms:modified xsi:type="dcterms:W3CDTF">2015-11-25T17:42:45Z</dcterms:modified>
  <cp:revision>34</cp:revision>
  <dc:subject/>
  <dc:title>الطحالب الخضراء  Green Algae</dc:title>
</cp:coreProperties>
</file>