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01A-D47E-455E-B665-4DC1AC30C6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762-16AB-449E-9435-5A73A3E043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1DE-18DC-4925-8004-E87922AF9E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87A-0631-41E5-8D54-B605CED459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3DB-93B3-49C7-9D34-D30EF2F971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166-BD31-4F95-AB52-8874F1AAF0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024F-7AD5-40A8-B5F3-A190D22A5E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25B0-F267-49DB-9227-2A9EBECA40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484-F43E-4A50-B074-89985C1C5D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8E32-29C6-4BAA-9578-67FE895373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36A3-66FD-4825-979A-D739EA89FC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DC3E-2960-45EB-B4A4-96EA5F026C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A604-BCBB-442A-96B9-79D8D282F3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92BD-B477-46A5-A6F8-946FB5C5A2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9D9E-13AB-4D4F-92B2-C3E673B1D4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62C-5020-4564-9EC2-2AB0C4AE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E97-750E-408C-9006-8B6E2E59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E59-6C0C-416A-B812-B3D52C5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6E5-2C03-4610-956E-3714EDD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ED6-9BBE-4866-8251-13FC1B30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35E-89CF-4250-B2D9-1F04F774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A20-3863-4F28-822E-F25E3774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EB1-6677-456F-BFA5-ED08AFF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AE8-46D6-422C-96A7-D7DBE9D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13F-B192-4A85-A7E3-3D22FFBC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CE2-5F38-4190-A9D9-620D1F39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AC7-8148-4952-8881-FDCC7B15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26A3-C534-4D0B-A3DC-43D1483FCA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adionuclide Generator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636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ab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http://www.samedical.se/media/gallium1.jpg"/>
          <p:cNvPicPr/>
          <p:nvPr/>
        </p:nvPicPr>
        <p:blipFill>
          <a:blip r:embed="rId1"/>
          <a:stretch/>
        </p:blipFill>
        <p:spPr>
          <a:xfrm>
            <a:off x="2843280" y="3500280"/>
            <a:ext cx="29574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al Physics\Images\bush_19_07a.tif"/>
          <p:cNvPicPr/>
          <p:nvPr/>
        </p:nvPicPr>
        <p:blipFill>
          <a:blip r:embed="rId1"/>
          <a:stretch/>
        </p:blipFill>
        <p:spPr>
          <a:xfrm>
            <a:off x="2664000" y="609480"/>
            <a:ext cx="381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46040" y="115920"/>
            <a:ext cx="8229600" cy="151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aughter activity grown by the decay of the parent is  separated chemically from the paren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eluent in vial A is drawn through the column and the daughter nuclide is collected in vial B under vacu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  <p:sp>
        <p:nvSpPr>
          <p:cNvPr id="109" name="عنصر نائب للمحتوى 2"/>
          <p:cNvSpPr/>
          <p:nvPr/>
        </p:nvSpPr>
        <p:spPr>
          <a:xfrm>
            <a:off x="446040" y="6165720"/>
            <a:ext cx="822960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ypical generator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46040" y="115560"/>
            <a:ext cx="822960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ial containing the eluant is first inverted onto needle A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other evacuated vial is inverted onto the other needle B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05264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604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acuum in the vial on needle B draws the eluant through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lumn and elutes the daughter nuclide, leaving the 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uclide on the colum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484280"/>
            <a:ext cx="820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4604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acuum in the vial on needle B draws the eluant through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lumn and elutes the daughter nuclide, leaving the 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uclide on the colum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484280"/>
            <a:ext cx="820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tor produced radionuc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etium-99m has been the most important radionuclide used in nuclear medic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hort half-life (6 hours) makes it impractical to store even a weekly supp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other isotope in 99Mo, which is reactor produc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y problem overcome by obtaining parent Mo-99, which has a longer half-life (67 hours) and continually produces Tc-99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9Mo can be produced in a reactor or from fission products, but it cannot be produced in a cyclotron (99Mo is a beta emitter, requiring the addition of neutrons, not proton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مربع نص 1"/>
          <p:cNvSpPr/>
          <p:nvPr/>
        </p:nvSpPr>
        <p:spPr>
          <a:xfrm>
            <a:off x="1547640" y="249228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short-lived radionuclides has grown considerably, because larger dosages of these radionuclides can be administered to the patient with only minimal radiation dose and produce excellent image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ing appreciation of short-lived radionuclides has led to the development of radionuclide generators that serve as convenient sources of their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http://analyticalassociatestitanlabs.com/images/j0434729%5b1%5d.png"/>
          <p:cNvPicPr/>
          <p:nvPr/>
        </p:nvPicPr>
        <p:blipFill>
          <a:blip r:embed="rId1"/>
          <a:stretch/>
        </p:blipFill>
        <p:spPr>
          <a:xfrm>
            <a:off x="7308720" y="189000"/>
            <a:ext cx="16416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a Gener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tor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tructed on the princip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decay-growth relationship between a long-lived parent radionuclide and its short-lived daughter radionuc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mical property of the daughter nuclide must be distinctly different from that of the parent nuclide so that the former can be readily sepa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a Gener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generator, basically a long-lived parent nuclide is allowed to decay to its short-lived daughter nuclide and the latter is then chemically sepa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importance of radionuclide generators lies in the fact that they 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transpor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 as sources of short-lived radionuclides in institutions far from the site of a cyclotron or reactor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istor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irst commercial radionuclide generator was the 132Te (t1/2=78 hr)–132I (t1/2=2.3 hr) in the early 1960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then, a number of other generator systems have been developed and tried for routine use in nuclear medici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a few of these generators are of importance in nuclear medic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re the 99Mo–99mTc, 113Sn–113m In, 82Sr–82Rb, and 68Ge–68Ga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 and Mechanis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a glass or plastic column fitted at the bottom with a fritted dis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umn is filled with adsorbent material such as cation- or anion-exchange resin, alumina, and zirconia, on which the parent nuclide is adsorb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ughter radionuclide grows as a result of the decay of the parent until either a transient or a secular equilibrium is reached within several half-lives of the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re are differences in chemical properties, the daughter activity is eluted in a carrierfree state with an appropriate solvent leaving the parent on the colum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lution, the daughter activity starts to grow again in the column until an equilibrium is reached in the manner mentioned above; the elution of activity can be made repeate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 and Mechanis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or Activity Leve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33727" t="35720" r="17976" b="19762"/>
          <a:stretch/>
        </p:blipFill>
        <p:spPr>
          <a:xfrm>
            <a:off x="1187280" y="177336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0:58:02Z</dcterms:created>
  <dc:creator>Nodi.Sam</dc:creator>
  <dc:description/>
  <dc:language>en-US</dc:language>
  <cp:lastModifiedBy>bquadeib</cp:lastModifiedBy>
  <dcterms:modified xsi:type="dcterms:W3CDTF">2014-09-09T06:40:08Z</dcterms:modified>
  <cp:revision>33</cp:revision>
  <dc:subject/>
  <dc:title>Radionuclide Generators</dc:title>
</cp:coreProperties>
</file>