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71F-3E70-4931-B581-2D169A0C28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C5D-D37C-4C88-BC41-207ECA0F85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388-689A-404A-801F-435EA7DA1C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8095-1273-4E74-87D0-8A6E252758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206A-E209-4EBE-BA46-B129352A145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15D0-E22C-4BE1-9EC7-E739CF9E3B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1149-C090-4CEA-B970-C87EE6DCB8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331-2DF2-4B6B-9412-AC112053BA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732-9E8F-4F9D-9D43-7AAC99AE57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72B4-5B19-47D3-BF9E-8CC1EA4C85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B043-369B-4157-B0AC-9ADBF2DA4F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25BA-806B-4C38-B86B-2E73BEE1FA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5126-E34B-4E95-82BE-C363A2B227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9272-C080-4831-8D34-F17F6F3390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934-09DA-4C0C-A1CE-DFABB36928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FE0-38B6-46F2-B155-A4DECCF4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22E-E7E3-4F3C-98C8-ACE4124A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268-AE87-4FF8-B6AF-E84FAC7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4A1-CD41-46B0-B257-FB8551B4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E3F-D5BD-4AE1-B1B3-91A84EA5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B03-B960-4BCA-9F05-340E0CE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6D6-B027-4D0B-84FF-CC7CB58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671-B28F-4FBC-9F99-F02B326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9EB-87F9-42C4-8098-57895B27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F4B-AEFC-4162-B30B-FADD2353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71B-45FD-43F3-912B-48D7DE03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8F0-4756-4454-80D6-C744177D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7287-950B-4ED2-9FB0-4FA8829616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adionuclide Generator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2636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ab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http://www.samedical.se/media/gallium1.jpg"/>
          <p:cNvPicPr/>
          <p:nvPr/>
        </p:nvPicPr>
        <p:blipFill>
          <a:blip r:embed="rId1"/>
          <a:stretch/>
        </p:blipFill>
        <p:spPr>
          <a:xfrm>
            <a:off x="2843280" y="3500280"/>
            <a:ext cx="29574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Dal Physics\Images\bush_19_07a.tif"/>
          <p:cNvPicPr/>
          <p:nvPr/>
        </p:nvPicPr>
        <p:blipFill>
          <a:blip r:embed="rId1"/>
          <a:stretch/>
        </p:blipFill>
        <p:spPr>
          <a:xfrm>
            <a:off x="2664000" y="609480"/>
            <a:ext cx="3814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46040" y="115920"/>
            <a:ext cx="8229600" cy="151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aughter activity grown by the decay of the parent is  separated chemically from the parent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eluent in vial A is drawn through the column and the daughter nuclide is collected in vial B under vacu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  <p:sp>
        <p:nvSpPr>
          <p:cNvPr id="109" name="عنصر نائب للمحتوى 2"/>
          <p:cNvSpPr/>
          <p:nvPr/>
        </p:nvSpPr>
        <p:spPr>
          <a:xfrm>
            <a:off x="446040" y="6165720"/>
            <a:ext cx="8229600" cy="5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ypical generator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46040" y="115560"/>
            <a:ext cx="822960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ial containing the eluant is first inverted onto needle A,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other evacuated vial is inverted onto the other needle B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052640"/>
            <a:ext cx="82072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604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acuum in the vial on needle B draws the eluant through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lumn and elutes the daughter nuclide, leaving the 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uclide on the colum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484280"/>
            <a:ext cx="820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46040" y="11556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vacuum in the vial on needle B draws the eluant through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lumn and elutes the daughter nuclide, leaving the 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uclide on the colum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15218" t="17347" r="35529" b="14734"/>
          <a:stretch/>
        </p:blipFill>
        <p:spPr>
          <a:xfrm>
            <a:off x="468360" y="1484280"/>
            <a:ext cx="820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tor produced radionuc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etium-99m has been the most important radionuclide used in nuclear medic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hort half-life (6 hours) makes it impractical to store even a weekly supp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other isotope in 99Mo, which is reactor produc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y problem overcome by obtaining parent Mo-99, which has a longer half-life (67 hours) and continually produces Tc-99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9Mo can be produced in a reactor or from fission products, but it cannot be produced in a cyclotron (99Mo is a beta emitter, requiring the addition of neutrons, not proton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مربع نص 1"/>
          <p:cNvSpPr/>
          <p:nvPr/>
        </p:nvSpPr>
        <p:spPr>
          <a:xfrm>
            <a:off x="1547640" y="249228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short-lived radionuclides has grown considerably, because larger dosages of these radionuclides can be administered to the patient with only minimal radiation dose and produce excellent image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reasing appreciation of short-lived radionuclides has led to the development of radionuclide generators that serve as convenient sources of their p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http://analyticalassociatestitanlabs.com/images/j0434729%5b1%5d.png"/>
          <p:cNvPicPr/>
          <p:nvPr/>
        </p:nvPicPr>
        <p:blipFill>
          <a:blip r:embed="rId1"/>
          <a:stretch/>
        </p:blipFill>
        <p:spPr>
          <a:xfrm>
            <a:off x="7308720" y="189000"/>
            <a:ext cx="164160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a Gener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enerator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tructed on the princip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decay-growth relationship between a long-lived parent radionuclide and its short-lived daughter radionucl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mical property of the daughter nuclide must be distinctly different from that of the parent nuclide so that the former can be readily sepa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a Gener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generator, basically a long-lived parent nuclide is allowed to decay to its short-lived daughter nuclide and the latter is then chemically separ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importance of radionuclide generators lies in the fact that they a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ly transporta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e as sources of short-lived radionuclides in institutions far from the site of a cyclotron or reactor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istor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irst commercial radionuclide generator was the 132Te (t1/2=78 hr)–132I (t1/2=2.3 hr) in the early 1960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then, a number of other generator systems have been developed and tried for routine use in nuclear medici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a few of these generators are of importance in nuclear medic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are the 99Mo–99mTc, 113Sn–113m In, 82Sr–82Rb, and 68Ge–68Ga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 and Mechanis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sts of a glass or plastic column fitted at the bottom with a fritted dis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umn is filled with adsorbent material such as cation- or anion-exchange resin, alumina, and zirconia, on which the parent nuclide is adsorb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aughter radionuclide grows as a result of the decay of the parent until either a transient or a secular equilibrium is reached within several half-lives of the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re are differences in chemical properties, the daughter activity is eluted in a carrierfree state with an appropriate solvent leaving the parent on the colum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elution, the daughter activity starts to grow again in the column until an equilibrium is reached in the manner mentioned above; the elution of activity can be made repeated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 and Mechanis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or Activity Leve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33727" t="35720" r="17976" b="19762"/>
          <a:stretch/>
        </p:blipFill>
        <p:spPr>
          <a:xfrm>
            <a:off x="1187280" y="1773360"/>
            <a:ext cx="662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20:58:02Z</dcterms:created>
  <dc:creator>Nodi.Sam</dc:creator>
  <dc:description/>
  <dc:language>en-US</dc:language>
  <cp:lastModifiedBy>bquadeib</cp:lastModifiedBy>
  <dcterms:modified xsi:type="dcterms:W3CDTF">2014-09-09T06:40:08Z</dcterms:modified>
  <cp:revision>33</cp:revision>
  <dc:subject/>
  <dc:title>Radionuclide Generators</dc:title>
</cp:coreProperties>
</file>