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C7A-75CF-42D1-AE0D-ACBB3583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BE8-A8CC-43B4-AC09-318AA464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62E-7464-4EEF-A24E-02689DAE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F94-544C-478E-AD62-EAF83BDB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9EC-7E48-4A82-BB61-50BEF5EF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BF8-60C6-4F08-8CDE-91A40BA4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E02-66A4-4E56-AEB3-99583BE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CEA-1725-4D18-826A-68836F67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3F95-E181-4B25-820A-78AB8EB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B8D1-1490-45E2-B532-BDDF89A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82C-5D45-4472-BB7D-F78AFE5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457-4258-4DC2-AE17-D13ED22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EFD6-50D0-4B6E-9157-2A26DC9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096C-FD2A-47CC-97B1-CC26CF1D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FC97-7249-4820-AD84-6FB4F51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C70D-0B19-4175-99A6-0B8AB22A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664-8F8F-4109-B56C-19E1C08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1C4A-9EFE-4D26-AE26-5AB4631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3D76-EED1-4532-93C1-3FD7E8F2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4B54-D9A0-4DD6-82F0-E68DD46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6674-47FE-4190-96A2-C184164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57EA-7924-4A41-AC40-052D333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541-50FE-4DEC-BC6C-A5C4B69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7875-5843-49D9-BDA1-9302FFAE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14B7-4D72-401D-90B9-85F83E3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9793-1FF9-4163-8D15-7E5EB19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A41E-7D0C-41A3-A77D-38E3196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AE28-6ED1-455F-B906-AA2B7DC0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3286-8A7C-4F3D-B481-401CA676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B8EE-38D4-4B5C-B618-BBC37DE0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1EB0-CB28-4943-90BF-52166727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D021-47DE-4D74-9AA6-1B33C00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BD8E-0901-4D57-B574-6C6BCE1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FC7-3C27-4AAB-8CF2-C8E098D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DDA7-68E7-4978-AADB-7F6447E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039A-C1F2-42E3-87A9-2D5D120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054B-2E12-4E43-9480-B70E76AF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C7B1-578C-47DA-B9B0-544566D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0B69-3256-41E7-9242-453DAA1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3CB0-749E-47C8-8C8A-2448ED7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6F49-CC56-4811-8E0B-635B3FC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2F1B-4932-4F08-8005-ECBED94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6C43-B0B0-480C-B2E1-87704C92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282-2B37-48A7-9829-BB080C58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E2E-19BA-457F-9D5C-BA4DBA2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399-D9E9-4FAA-9567-DCA8CBC3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79E-4977-41AB-805B-FBFC852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35C-D3E3-40A5-AF0A-A497D16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E4F6-64CD-4A69-86C8-BA49F39BD7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75E-633A-4EA2-A79E-F18D39D54D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B6DE-91EF-4432-87F6-B411DD6744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D6CE-8BE9-4E2D-943E-5B0CAB8E39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vious lab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662120" y="1935000"/>
            <a:ext cx="5819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603360" y="450720"/>
            <a:ext cx="8381880" cy="1543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eacters of colony includ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m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gi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v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fac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igment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acters of colon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527120" y="1935000"/>
            <a:ext cx="6089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Qosmio\Desktop\1-s2.0-S0168160508000068-gr2.jpg"/>
          <p:cNvPicPr/>
          <p:nvPr/>
        </p:nvPicPr>
        <p:blipFill>
          <a:blip r:embed="rId2"/>
          <a:stretch/>
        </p:blipFill>
        <p:spPr>
          <a:xfrm>
            <a:off x="457200" y="2514600"/>
            <a:ext cx="80773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C:\Users\Qosmio\Desktop\bacteria pigment productio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99164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991640" cy="1805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Qosmio\Desktop\bacteria pigment production.jpg"/>
          <p:cNvPicPr/>
          <p:nvPr/>
        </p:nvPicPr>
        <p:blipFill>
          <a:blip r:embed="rId2"/>
          <a:stretch/>
        </p:blipFill>
        <p:spPr>
          <a:xfrm>
            <a:off x="533520" y="2332080"/>
            <a:ext cx="792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gmen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Qosmio\Desktop\bacteria_palette (1).jpg"/>
          <p:cNvPicPr/>
          <p:nvPr/>
        </p:nvPicPr>
        <p:blipFill>
          <a:blip r:embed="rId1"/>
          <a:stretch/>
        </p:blipFill>
        <p:spPr>
          <a:xfrm>
            <a:off x="914400" y="2209680"/>
            <a:ext cx="70102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rfa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Qosmio\Desktop\petri.jpg"/>
          <p:cNvPicPr/>
          <p:nvPr/>
        </p:nvPicPr>
        <p:blipFill>
          <a:blip r:embed="rId1"/>
          <a:stretch/>
        </p:blipFill>
        <p:spPr>
          <a:xfrm>
            <a:off x="457200" y="2209680"/>
            <a:ext cx="3419640" cy="2200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Qosmio\Desktop\images.jpg"/>
          <p:cNvPicPr/>
          <p:nvPr/>
        </p:nvPicPr>
        <p:blipFill>
          <a:blip r:embed="rId2"/>
          <a:stretch/>
        </p:blipFill>
        <p:spPr>
          <a:xfrm>
            <a:off x="6553080" y="1828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7:41:21Z</dcterms:created>
  <dc:creator>Qosmio</dc:creator>
  <dc:description/>
  <dc:language>en-US</dc:language>
  <cp:lastModifiedBy>Qosmio</cp:lastModifiedBy>
  <dcterms:modified xsi:type="dcterms:W3CDTF">2013-10-29T17:07:56Z</dcterms:modified>
  <cp:revision>2</cp:revision>
  <dc:subject/>
  <dc:title>Previous lab  </dc:title>
</cp:coreProperties>
</file>