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722-29B6-4976-BB74-5AC69B7B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2C77-9BD9-4202-A93F-017F65DE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EFB3-49A8-4294-9E21-450F29B2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B84-837D-41A0-9DDF-3677DF9A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000A-646E-4CE4-BF7D-998578C1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1180-F016-45EE-A1B7-2105F6D3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6E3E-E72A-4938-A0DB-DCC556B0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61C0-AB91-439B-AA45-E2A7E888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9FBD-6A89-41E8-87DA-9640008D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AD2B-DE65-44D7-909B-ECDDB094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2057-8BFB-41D8-B5F6-5FEAF387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3A7-2AE4-453C-BBA0-DADD9F77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A88F-6DAA-4DE0-BBAF-0A930433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E08D-D360-405A-A7AD-3D07F8F1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2FDD-ACD7-427F-BC69-5989B26B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0672-4459-4E02-88DE-8F53553E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BE6C-1287-499E-8C18-5E794696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806E6-154D-4333-9ED4-CB63A9F5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0ACAB-A9A1-46C5-B490-CBDDA62B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E0592-BE5D-4823-87A9-B7DF66BD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3CF3E-AB38-4DCE-897B-566E22D0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4841B-3C0E-4C18-A80A-11CEFF31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D43-8FF5-4CC8-B6E2-BDC5760D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E30BE-C7B0-46C0-96E9-D10048E7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965A1-565A-45A5-957A-945D493C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10AFC-6FCA-4B40-8958-E2C7F835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C8DFF-9406-4557-9B7F-1C146EBB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B6282-B920-4EC0-90C2-485BDCD8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10720-7198-4485-B243-69F595C2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BB34E-B5A5-4EEC-8B39-FEC51A78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9842C-D39E-4456-BB26-625414A4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ACB14-4D3F-46DF-BF65-04D7D006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7EE85-2B10-494E-AA2F-341C6310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9A22-B53D-438D-A6F7-26AD257D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78953-D605-4E00-9B0D-A77A89DE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F2680-C5D3-4BA2-9577-A3919BF3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B0574-0D76-43F4-A1B4-D4E0B4B7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AC543-1F0A-46E1-9236-58AB1827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15B23-3D7A-419E-A3D0-59618C4E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C6473-301C-444E-A983-5A8D9BC2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60DA1-03BF-4955-8EB6-346C34F2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53DEF-2E28-440C-A14D-C202E784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3A66D-BB77-4128-8B18-AA0E29E7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96E-40E0-4615-ADEF-1D4B5838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1EDE-FE67-4862-A36B-2A2C6E62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6902-A4BA-442D-8A68-66E213C1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E07E-0967-4531-92B9-72C64A45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686-5131-4005-841B-962BB64C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FE6B-DA2F-411D-8160-F250FF7FFAA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C4FE-938C-41D8-904C-CFC787C0826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B451-05CF-4D41-BA33-3FD77CD24FE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6E9C-4FE3-4B98-A388-3040D58B648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revious lab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662120" y="1935000"/>
            <a:ext cx="58197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603360" y="450720"/>
            <a:ext cx="8381880" cy="15433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aeacters of colony includ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rm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rgin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levation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rfac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igmentation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racters of colony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1527120" y="1935000"/>
            <a:ext cx="60897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1600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Users\Qosmio\Desktop\1-s2.0-S0168160508000068-gr2.jpg"/>
          <p:cNvPicPr/>
          <p:nvPr/>
        </p:nvPicPr>
        <p:blipFill>
          <a:blip r:embed="rId2"/>
          <a:stretch/>
        </p:blipFill>
        <p:spPr>
          <a:xfrm>
            <a:off x="457200" y="2514600"/>
            <a:ext cx="80773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" descr="C:\Users\Qosmio\Desktop\bacteria pigment production.jpg"/>
          <p:cNvPicPr/>
          <p:nvPr/>
        </p:nvPicPr>
        <p:blipFill>
          <a:blip r:embed="rId1"/>
          <a:stretch/>
        </p:blipFill>
        <p:spPr>
          <a:xfrm>
            <a:off x="1828800" y="1935000"/>
            <a:ext cx="5486400" cy="4389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99164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991640" cy="1805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C:\Users\Qosmio\Desktop\bacteria pigment production.jpg"/>
          <p:cNvPicPr/>
          <p:nvPr/>
        </p:nvPicPr>
        <p:blipFill>
          <a:blip r:embed="rId2"/>
          <a:stretch/>
        </p:blipFill>
        <p:spPr>
          <a:xfrm>
            <a:off x="533520" y="2332080"/>
            <a:ext cx="7924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igmenta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C:\Users\Qosmio\Desktop\bacteria_palette (1).jpg"/>
          <p:cNvPicPr/>
          <p:nvPr/>
        </p:nvPicPr>
        <p:blipFill>
          <a:blip r:embed="rId1"/>
          <a:stretch/>
        </p:blipFill>
        <p:spPr>
          <a:xfrm>
            <a:off x="914400" y="2209680"/>
            <a:ext cx="70102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rfac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2" descr="C:\Users\Qosmio\Desktop\petri.jpg"/>
          <p:cNvPicPr/>
          <p:nvPr/>
        </p:nvPicPr>
        <p:blipFill>
          <a:blip r:embed="rId1"/>
          <a:stretch/>
        </p:blipFill>
        <p:spPr>
          <a:xfrm>
            <a:off x="457200" y="2209680"/>
            <a:ext cx="3419640" cy="2200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C:\Users\Qosmio\Desktop\images.jpg"/>
          <p:cNvPicPr/>
          <p:nvPr/>
        </p:nvPicPr>
        <p:blipFill>
          <a:blip r:embed="rId2"/>
          <a:stretch/>
        </p:blipFill>
        <p:spPr>
          <a:xfrm>
            <a:off x="6553080" y="18288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07:41:21Z</dcterms:created>
  <dc:creator>Qosmio</dc:creator>
  <dc:description/>
  <dc:language>en-US</dc:language>
  <cp:lastModifiedBy>Qosmio</cp:lastModifiedBy>
  <dcterms:modified xsi:type="dcterms:W3CDTF">2013-10-29T17:07:56Z</dcterms:modified>
  <cp:revision>2</cp:revision>
  <dc:subject/>
  <dc:title>Previous lab  </dc:title>
</cp:coreProperties>
</file>