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A5A25-1323-4929-BFFA-AC5003EE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8E544-795E-4ED0-A06A-4E761303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5D31E-4AAD-4BB9-89B2-9915C155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71847-7112-4036-94FC-261A4811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F8DE-263D-4256-A505-F0DC87F2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79F8-9BB1-4898-AA91-2BB36099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6275-4CA9-44FF-A35A-968B8EEE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87B2-49E9-4092-AF1B-E86DA8F9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4623-4A27-4BA9-A328-FA19C108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D48D-7B72-4447-962D-5DBD93E0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C750-1CBD-4FCC-815B-D7608A26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B0700-625C-4CC1-A180-96F00F15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F134-8795-4689-8F30-CFBBDDB2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E2B3-7E6F-4B4E-AE41-BFD70563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96E1-2DE7-4B83-85D7-C0D5A324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86FA-2A4C-4DF5-8DF2-07EDEFFC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E9C5-AE3B-496A-9ED0-C37ADC29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3DEED-568B-4879-8F83-38791AF4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075AF-355E-4B5B-ACFB-3E8111F4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233BD-B8B0-467C-8C44-C230D441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AC96B-0FAF-4E9B-B4EF-BB7E47B8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327EB-4D93-4F7E-8ED9-5336E0EC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C03F6-1B9F-4A06-9D92-7FC44DAE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3F0F2-AAC4-426A-88B5-F507D943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3C1B-1815-4B2C-BCA0-6244E98EB3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DDDA-ED6C-45A8-857F-54F597D72D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51720" y="0"/>
            <a:ext cx="534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Garamond"/>
              </a:rPr>
              <a:t>جسم النبات الابتدائ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76280"/>
            <a:ext cx="851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66ff33"/>
                </a:solidFill>
                <a:latin typeface="Garamond"/>
              </a:rPr>
              <a:t>اولا الجذور: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</a:rPr>
              <a:t>جذر ذوات الفلق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68320"/>
            <a:ext cx="799308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1600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94920" y="196920"/>
            <a:ext cx="596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Garamond"/>
              </a:rPr>
              <a:t>ثانيا : السيقان ذوات الفلقت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10920" y="3860640"/>
            <a:ext cx="165708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611280" y="2276640"/>
            <a:ext cx="417672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826920" y="4869000"/>
            <a:ext cx="216072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755640" y="1557000"/>
            <a:ext cx="100800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84360" y="2924280"/>
            <a:ext cx="8632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102240" y="4724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حزمه وعائ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5877000"/>
            <a:ext cx="54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ق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3920" y="28828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ق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60120" y="2057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خا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133560" y="155736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بشره خارج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062000" y="1143000"/>
            <a:ext cx="768672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V="1">
            <a:off x="6156360" y="1341000"/>
            <a:ext cx="180036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372360" y="1844280"/>
            <a:ext cx="1871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443640" y="2708280"/>
            <a:ext cx="187344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43640" y="2781360"/>
            <a:ext cx="194472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716280"/>
            <a:ext cx="180036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4149720"/>
            <a:ext cx="1728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32720" y="4508640"/>
            <a:ext cx="180000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572000" y="5373720"/>
            <a:ext cx="172872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24560" y="7938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ب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04200" y="15858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كولنشيه زاو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09320" y="3098880"/>
            <a:ext cx="18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غلاف نشو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يمثل بشره داخل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03840" y="216216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الياف خارج لح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864560" y="39625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كامبيوم وعائ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067960" y="48690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01880" y="59785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92680" y="630864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خا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284720" y="3500280"/>
            <a:ext cx="2016000" cy="13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5960" y="482616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514"/>
                </a:solidFill>
                <a:latin typeface="Garamond"/>
              </a:rPr>
              <a:t>لح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71640" y="514440"/>
            <a:ext cx="7056360" cy="5290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113920" y="6029280"/>
            <a:ext cx="57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Garamond"/>
              </a:rPr>
              <a:t>ق.ع في ساق ذوات الفلقت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7416720" cy="5562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flipH="1">
            <a:off x="900000" y="2565360"/>
            <a:ext cx="194328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755280" y="3284640"/>
            <a:ext cx="2592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826920" y="3789360"/>
            <a:ext cx="237672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484360" y="4365720"/>
            <a:ext cx="719280" cy="20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84720" y="5084640"/>
            <a:ext cx="86364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1115640" y="1413000"/>
            <a:ext cx="388764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1258920" y="476280"/>
            <a:ext cx="16574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10920" y="1773360"/>
            <a:ext cx="216036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360" y="29052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بشره خارج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157320" y="206064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كولنشيمه زاو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127080" y="2449440"/>
            <a:ext cx="95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اليا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ارج لح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8680" y="374652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لح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3240" y="52293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كامبيو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00480" y="62658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98240" y="61945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1560" y="115416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ق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187280" y="1412640"/>
            <a:ext cx="3672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00720" y="5805360"/>
            <a:ext cx="122400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12440" y="64101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خا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696000" cy="55116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508840" y="263520"/>
            <a:ext cx="675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ساق  من ذوات الفلقه الواح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258920" y="1483920"/>
            <a:ext cx="223344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1258920" y="1557360"/>
            <a:ext cx="24494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1258920" y="1628280"/>
            <a:ext cx="165744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71640" y="4292640"/>
            <a:ext cx="316872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826560" y="3284280"/>
            <a:ext cx="79236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3720" y="1370160"/>
            <a:ext cx="12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حزم وعائ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مغلق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133560" y="328464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بشره خارج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180720" y="551664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سيج اساس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382160" cy="5166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-1692000" y="0"/>
            <a:ext cx="125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ساق  من ذوات الفلقه الواحده يوضح حزمه وعائيه مغلقه-مقلوب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59640" y="4076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492360" y="3716280"/>
            <a:ext cx="3384720" cy="23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940000" y="4437000"/>
            <a:ext cx="107964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476360" y="3213000"/>
            <a:ext cx="4680000" cy="302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755640" y="1413000"/>
            <a:ext cx="612144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804000" y="1628640"/>
            <a:ext cx="1655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67640" y="4653000"/>
            <a:ext cx="100800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993800" y="1441440"/>
            <a:ext cx="13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فراغ الخش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ال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799400" y="61228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سيج اساس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03720" y="641016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غلاف الحزم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0080" y="612288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لحاء منتظ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1928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5040" y="62658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186480" y="144144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H="1" flipV="1">
            <a:off x="611280" y="1628280"/>
            <a:ext cx="48974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610920" y="2708280"/>
            <a:ext cx="460836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95640" y="2637000"/>
            <a:ext cx="1728720" cy="36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10920" y="1844640"/>
            <a:ext cx="4824360" cy="266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96000" y="2852640"/>
            <a:ext cx="647640" cy="324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859280" y="1412640"/>
            <a:ext cx="360036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440560" y="1225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ب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50760" y="6122880"/>
            <a:ext cx="19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فراغ الخشب ال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24800" y="64101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-133200" y="29242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-47520" y="4683240"/>
            <a:ext cx="8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غلا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الحزم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692000" y="3933720"/>
            <a:ext cx="4392360" cy="230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9960" y="63388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سيج اساس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11280" y="1773360"/>
            <a:ext cx="4681440" cy="26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7273800" cy="49690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95800" y="189000"/>
            <a:ext cx="97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Garamond"/>
              </a:rPr>
              <a:t>ثالثا: الورقه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i-IN" sz="3600" spc="-1" strike="noStrike">
                <a:solidFill>
                  <a:srgbClr val="ffff00"/>
                </a:solidFill>
                <a:latin typeface="Garamond"/>
              </a:rPr>
              <a:t>قطاع عرضي في ورقة فلق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2050920" y="692280"/>
            <a:ext cx="21592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1547280" y="981000"/>
            <a:ext cx="2519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899640" y="1989000"/>
            <a:ext cx="410364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900000" y="3573000"/>
            <a:ext cx="360072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899640" y="4005360"/>
            <a:ext cx="352764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971280" y="4292640"/>
            <a:ext cx="504036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971640" y="4508640"/>
            <a:ext cx="316872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971640" y="1413000"/>
            <a:ext cx="180000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55280" y="1844640"/>
            <a:ext cx="2303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826560" y="2276640"/>
            <a:ext cx="15130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08720" y="5950080"/>
            <a:ext cx="50328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148000" y="5950080"/>
            <a:ext cx="16556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4560" y="7938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بشره علي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5120" y="2174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كولنشيه زاو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4760" y="1700280"/>
            <a:ext cx="6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سي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عماد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20" y="2378160"/>
            <a:ext cx="9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سي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اسفنج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920" y="302580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ق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-42120" y="35305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-83880" y="39625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-54360" y="518652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لحاء غي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منتظ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29400" y="63388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كولنشيم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02680" y="63388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بشره سفل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486400" cy="5181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 flipH="1" flipV="1">
            <a:off x="1476360" y="1125000"/>
            <a:ext cx="273528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1403280" y="1557360"/>
            <a:ext cx="309744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332000" y="2133720"/>
            <a:ext cx="324000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1403280" y="2924280"/>
            <a:ext cx="295272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476360" y="3141720"/>
            <a:ext cx="2951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115640" y="5445000"/>
            <a:ext cx="23036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1116000" y="4581360"/>
            <a:ext cx="3240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59640" y="1484280"/>
            <a:ext cx="122544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32720" y="2492280"/>
            <a:ext cx="1511280" cy="8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27640" y="5589720"/>
            <a:ext cx="208908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49200" y="237816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سيج عماد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1520" y="35305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سيج اسفنج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5160" y="324180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9400" y="40338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7400" y="461016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برنشيم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37760" y="61228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كولنشيم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19400" y="62658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بشره سفل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8680" y="209088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برنشيم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-24120" y="144144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كولنشيمه زاو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0840" y="72216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بشره عليا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53320" y="196920"/>
            <a:ext cx="43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Garamond"/>
              </a:rPr>
              <a:t>ق.ع في ورقه فلقت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387360"/>
            <a:ext cx="6408720" cy="5162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07440" y="571644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Garamond"/>
              </a:rPr>
              <a:t>قطاع عرضي في جذر فلقت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796000" y="1052640"/>
            <a:ext cx="158436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580000" y="1628640"/>
            <a:ext cx="2592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500720" y="1628640"/>
            <a:ext cx="3743280" cy="13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24360" y="3141720"/>
            <a:ext cx="3527280" cy="19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82280" y="189000"/>
            <a:ext cx="455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بشره خارجي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تتكون من طبقتي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الطبقه الداخليه مسوبره وبها خلايا مرو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37200" y="1441440"/>
            <a:ext cx="13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ق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واسعه جد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08640" y="504180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حزمه وعائ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84360" y="550800"/>
            <a:ext cx="6821280" cy="50500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59560" y="5924520"/>
            <a:ext cx="99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Garamond"/>
              </a:rPr>
              <a:t>قطاع عرضي ثلاثي الابعاد يوضح  ورقه ذات فلقت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6985080" cy="49086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897560" y="220680"/>
            <a:ext cx="78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Garamond"/>
              </a:rPr>
              <a:t>قطاع عرضي في ورقه فلقه واح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611280" y="2133360"/>
            <a:ext cx="223200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042920" y="5157720"/>
            <a:ext cx="16574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826560" y="3573000"/>
            <a:ext cx="2808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971640" y="765000"/>
            <a:ext cx="3456000" cy="288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276720" y="4653000"/>
            <a:ext cx="122400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443640" y="3429000"/>
            <a:ext cx="158436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64000" y="4365720"/>
            <a:ext cx="1368720" cy="19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71720" y="6338880"/>
            <a:ext cx="36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غلاف الميستوم-برنشيمه رقيقة الجد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4571640" y="5084640"/>
            <a:ext cx="14436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46280" y="626580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سكلرنشي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غلاف الحزم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72440" y="612288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لحاء منتظ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49680" y="61945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بشره داخل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33200" y="35002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520" y="43344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6120" y="1730520"/>
            <a:ext cx="7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بشر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علي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8920" y="288288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حزمه وعائيه صغي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610920" y="3500280"/>
            <a:ext cx="431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760" y="4683240"/>
            <a:ext cx="8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لاي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حرك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659640" y="4437000"/>
            <a:ext cx="1873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98680" y="540216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برنشيمه –غلاف الحزم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315200" cy="4826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22080" y="6053040"/>
            <a:ext cx="73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Garamond"/>
              </a:rPr>
              <a:t>قطاع عرضي في ورقة فلقه واحده – ثلاثي الابعا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00000" y="674640"/>
            <a:ext cx="7344000" cy="45831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581120" y="5357880"/>
            <a:ext cx="68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Garamond"/>
              </a:rPr>
              <a:t>قطاع عرضي في ورقه ذات فلقه واحد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123640" y="4149720"/>
            <a:ext cx="208764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2123640" y="3716280"/>
            <a:ext cx="79236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124000" y="3573360"/>
            <a:ext cx="3456000" cy="20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3560" y="561816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حزم وعائيه مغلق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684000" y="3213000"/>
            <a:ext cx="3095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720" y="424980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سيج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وسط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102360" cy="6308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H="1">
            <a:off x="1042560" y="2060640"/>
            <a:ext cx="20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55280" y="3284640"/>
            <a:ext cx="331164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1042560" y="907920"/>
            <a:ext cx="129708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84000" y="4221000"/>
            <a:ext cx="12236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755640" y="616572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52560" y="72216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لية مرو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53000" y="17002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ارجي المنشأ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080" y="3573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941720"/>
            <a:ext cx="11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بشرة داخلي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شريط كاسبا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760" y="558972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لح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920" y="59072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ق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899640" y="4941720"/>
            <a:ext cx="324036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74280" y="260280"/>
            <a:ext cx="23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Garamond"/>
              </a:rPr>
              <a:t>الحزمه الوعائي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Garamond"/>
              </a:rPr>
              <a:t>قطري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25360" y="6338880"/>
            <a:ext cx="55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</a:rPr>
              <a:t>الخشب مكون من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اذرع فق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2205000"/>
            <a:ext cx="144000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98960" y="230652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برسيك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طبقه محيط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77800" y="333360"/>
            <a:ext cx="7450200" cy="5299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5800" y="5837400"/>
            <a:ext cx="74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Garamond"/>
              </a:rPr>
              <a:t>قطاع  عرضي في حزمه وعائيه لجذر ذوات فلقت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905040"/>
            <a:ext cx="8280360" cy="5116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604960" y="0"/>
            <a:ext cx="70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Garamond"/>
              </a:rPr>
              <a:t>قطاع عرضي في </a:t>
            </a:r>
            <a:r>
              <a:rPr b="1" lang="hi-IN" sz="4000" spc="-1" strike="noStrike">
                <a:solidFill>
                  <a:srgbClr val="ffff00"/>
                </a:solidFill>
                <a:latin typeface="Garamond"/>
              </a:rPr>
              <a:t>جذر فلقه واحد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68360" y="1197000"/>
            <a:ext cx="151128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39640" y="2492280"/>
            <a:ext cx="165600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39640" y="3500280"/>
            <a:ext cx="2376720" cy="8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3933720"/>
            <a:ext cx="2305080" cy="23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339640" y="4149720"/>
            <a:ext cx="187164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11280" y="4365720"/>
            <a:ext cx="3240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4653000"/>
            <a:ext cx="14292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6120" y="649440"/>
            <a:ext cx="8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ب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خارج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154800" y="28828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ق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149760" y="386064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بشره داخل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11988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7040" y="61945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70680" y="62658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لح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560" y="641016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نخاع قد يتلجن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5640" y="3860640"/>
            <a:ext cx="2232000" cy="23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85680" y="5877000"/>
            <a:ext cx="8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طبق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محيط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315200" cy="5905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38880" y="62388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Garamond"/>
              </a:rPr>
              <a:t>قطاع عرضي في جذر فلقه واحد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561440" cy="5670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164240" y="6048360"/>
            <a:ext cx="59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Garamond"/>
              </a:rPr>
              <a:t>قطاع عرضي في جذر فلقه واحد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11280" y="148428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100440" y="549360"/>
            <a:ext cx="14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  بشره داخل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بها خلايا مرو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  مقابله لاذر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      الخشب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84000" y="3284640"/>
            <a:ext cx="287964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7560" y="33861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خا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042560" y="4869000"/>
            <a:ext cx="10810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200" y="626580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ق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6624720" cy="5214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1696320" y="5661000"/>
            <a:ext cx="1265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قطاع عرضي في جذر فلقه واحده يوضح </a:t>
            </a:r>
            <a:r>
              <a:rPr b="1" lang="ar-SA" sz="2800" spc="-1" strike="noStrike">
                <a:solidFill>
                  <a:srgbClr val="66ff33"/>
                </a:solidFill>
                <a:latin typeface="Garamond"/>
              </a:rPr>
              <a:t>البشره الداخليه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 وخلايا المرور ب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وكذلك </a:t>
            </a:r>
            <a:r>
              <a:rPr b="1" lang="ar-SA" sz="2800" spc="-1" strike="noStrike">
                <a:solidFill>
                  <a:srgbClr val="66ff33"/>
                </a:solidFill>
                <a:latin typeface="Garamond"/>
              </a:rPr>
              <a:t>اوعية الخشب واللح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26560" y="2133720"/>
            <a:ext cx="129708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39640" y="4221000"/>
            <a:ext cx="115272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3068640"/>
            <a:ext cx="1512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580000" y="1844280"/>
            <a:ext cx="2592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971280" y="1844640"/>
            <a:ext cx="23050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158680" y="151452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لح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01080" y="314172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080" y="5013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52560" y="32418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لية مرو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2421000"/>
            <a:ext cx="10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192600" y="244944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بشره داخل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971640" y="1197000"/>
            <a:ext cx="1296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1560" y="129852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ق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3:26:55Z</dcterms:created>
  <dc:creator>HELP</dc:creator>
  <dc:description/>
  <dc:language>en-US</dc:language>
  <cp:lastModifiedBy>HELP</cp:lastModifiedBy>
  <dcterms:modified xsi:type="dcterms:W3CDTF">2008-04-07T15:59:24Z</dcterms:modified>
  <cp:revision>37</cp:revision>
  <dc:subject/>
  <dc:title>الشريحة 1</dc:title>
</cp:coreProperties>
</file>