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CF988-C3CD-4E27-905D-8A138E77B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FF085-24E5-4EB5-A9FF-8ECCA3A4F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38BF5-3EDF-4CC4-8427-0C76DBF79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A432B-8C93-4C54-8B6D-C0BEE99B9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216CE-918B-4444-B6AD-715920A29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877FB-748A-4A5F-9F1D-6B41B9647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2BE76-EBDD-40AA-80DC-7E8E44630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0FDA1-7B6F-4331-9563-BD9A2F270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97037-AC61-4BF2-973F-41FB983FD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F5DBE-B1E3-47A6-AE77-7A0D61E45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263E3-4A66-430E-A4C4-166A354E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66926-6BF0-4BC0-A4AF-45201AFCF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489CA-9550-41FF-867E-C9CD2DB4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030B9-DF98-4993-9760-BF1F599B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002C1-6DB0-46AB-9395-D8DCB8E5B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49810-6482-4F9C-8DFF-F793C35D7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4D205-9968-4428-9C46-3741E4634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A4ECC-179B-4896-A1D7-0319C0087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D901F-702A-4C8D-85C0-A8A97D08C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68102-CE6D-4A15-976A-EF47ED8A3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4120E-1F49-460F-989C-CB8609812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A5441-4361-4A80-B098-67A37E57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F2E19-DAB1-42D3-9D3B-DD06292D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CE16B-4939-4DE5-A425-8E3D5D5D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820C8-082A-4013-AFC4-24AA91C08F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119FD-0941-4EF8-9A04-FE46AAB256E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151720" y="0"/>
            <a:ext cx="534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Garamond"/>
              </a:rPr>
              <a:t>جسم النبات الابتدائي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476280"/>
            <a:ext cx="8516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66ff33"/>
                </a:solidFill>
                <a:latin typeface="Garamond"/>
              </a:rPr>
              <a:t>اولا الجذور:ـ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Garamond"/>
              </a:rPr>
              <a:t>جذر ذوات الفلقتي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5280" y="1768320"/>
            <a:ext cx="7993080" cy="50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8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116000" y="11430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094920" y="196920"/>
            <a:ext cx="596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Garamond"/>
              </a:rPr>
              <a:t>ثانيا : السيقان ذوات الفلقتي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610920" y="3860640"/>
            <a:ext cx="165708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611280" y="2276640"/>
            <a:ext cx="4176720" cy="358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826920" y="4869000"/>
            <a:ext cx="2160720" cy="93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755640" y="1557000"/>
            <a:ext cx="1008000" cy="14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684360" y="2924280"/>
            <a:ext cx="863280" cy="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-102240" y="4724280"/>
            <a:ext cx="13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Garamond"/>
              </a:rPr>
              <a:t>حزمه وعائي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24000" y="5877000"/>
            <a:ext cx="54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قشر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33920" y="288288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قشر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-60120" y="20574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نخا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-133560" y="1557360"/>
            <a:ext cx="141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Garamond"/>
              </a:rPr>
              <a:t>بشره خارجي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8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062000" y="1143000"/>
            <a:ext cx="7686720" cy="50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8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 flipV="1">
            <a:off x="6156360" y="1341000"/>
            <a:ext cx="180036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6372360" y="1844280"/>
            <a:ext cx="187164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6443640" y="2708280"/>
            <a:ext cx="1873440" cy="649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443640" y="2781360"/>
            <a:ext cx="194472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16720" y="3716280"/>
            <a:ext cx="180036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32720" y="4149720"/>
            <a:ext cx="17287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732720" y="4508640"/>
            <a:ext cx="180000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4572000" y="5373720"/>
            <a:ext cx="1728720" cy="1150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224560" y="79380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بشر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504200" y="158580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Garamond"/>
              </a:rPr>
              <a:t>كولنشيه زاوي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609320" y="3098880"/>
            <a:ext cx="18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غلاف نشو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يمثل بشره داخلي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503840" y="2162160"/>
            <a:ext cx="168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الياف خارج لحا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864560" y="396252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Garamond"/>
              </a:rPr>
              <a:t>كامبيوم وعائ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067960" y="48690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خشب تال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201880" y="597852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خشب او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92680" y="630864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نخا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4284720" y="3500280"/>
            <a:ext cx="2016000" cy="136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765960" y="4826160"/>
            <a:ext cx="5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514"/>
                </a:solidFill>
                <a:latin typeface="Garamond"/>
              </a:rPr>
              <a:t>لحا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971640" y="514440"/>
            <a:ext cx="7056360" cy="52909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2113920" y="6029280"/>
            <a:ext cx="573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Garamond"/>
              </a:rPr>
              <a:t>ق.ع في ساق ذوات الفلقتي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8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403280" y="549360"/>
            <a:ext cx="7416720" cy="55623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 flipH="1">
            <a:off x="900000" y="2565360"/>
            <a:ext cx="1943280" cy="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755280" y="3284640"/>
            <a:ext cx="259236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826920" y="3789360"/>
            <a:ext cx="2376720" cy="136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2484360" y="4365720"/>
            <a:ext cx="719280" cy="20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284720" y="5084640"/>
            <a:ext cx="863640" cy="115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1115640" y="1413000"/>
            <a:ext cx="3887640" cy="194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1258920" y="476280"/>
            <a:ext cx="165744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610920" y="1773360"/>
            <a:ext cx="2160360" cy="21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-360" y="290520"/>
            <a:ext cx="141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Garamond"/>
              </a:rPr>
              <a:t>بشره خارجي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-157320" y="2060640"/>
            <a:ext cx="16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Garamond"/>
              </a:rPr>
              <a:t>كولنشيمه زاوي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-127080" y="2449440"/>
            <a:ext cx="95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الياف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خارج لحا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38680" y="3746520"/>
            <a:ext cx="5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لحا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3240" y="522936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Garamond"/>
              </a:rPr>
              <a:t>كامبيو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00480" y="62658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خشب تال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98240" y="619452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خشب او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21560" y="115416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قشر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 flipV="1">
            <a:off x="1187280" y="1412640"/>
            <a:ext cx="367200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300720" y="5805360"/>
            <a:ext cx="122400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12440" y="64101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نخا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403280" y="1197000"/>
            <a:ext cx="6696000" cy="55116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2508840" y="263520"/>
            <a:ext cx="675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Garamond"/>
              </a:rPr>
              <a:t>ساق  من ذوات الفلقه الواحد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1258920" y="1483920"/>
            <a:ext cx="2233440" cy="86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1258920" y="1557360"/>
            <a:ext cx="244944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 flipV="1">
            <a:off x="1258920" y="1628280"/>
            <a:ext cx="1657440" cy="25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971640" y="4292640"/>
            <a:ext cx="316872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826560" y="3284280"/>
            <a:ext cx="792360" cy="21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3720" y="1370160"/>
            <a:ext cx="122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Garamond"/>
              </a:rPr>
              <a:t>حزم وعائي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Garamond"/>
              </a:rPr>
              <a:t>مغلق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-133560" y="3284640"/>
            <a:ext cx="141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Garamond"/>
              </a:rPr>
              <a:t>بشره خارجي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-180720" y="551664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نسيج اساس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8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8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900000" y="765000"/>
            <a:ext cx="7382160" cy="51660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-1692000" y="0"/>
            <a:ext cx="1255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Garamond"/>
              </a:rPr>
              <a:t>ساق  من ذوات الفلقه الواحده يوضح حزمه وعائيه مغلقه-مقلوب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659640" y="407664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3492360" y="3716280"/>
            <a:ext cx="3384720" cy="237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5940000" y="4437000"/>
            <a:ext cx="1079640" cy="194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1476360" y="3213000"/>
            <a:ext cx="4680000" cy="302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 flipV="1">
            <a:off x="755640" y="1413000"/>
            <a:ext cx="6121440" cy="151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6804000" y="1628640"/>
            <a:ext cx="165564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67640" y="4653000"/>
            <a:ext cx="1008000" cy="115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993800" y="1441440"/>
            <a:ext cx="139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فراغ الخش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الاو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799400" y="612288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نسيج اساس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03720" y="641016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غلاف الحزم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620080" y="6122880"/>
            <a:ext cx="123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لحاء منتظ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619280" y="6237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35040" y="62658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خشب تال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-186480" y="144144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خشب او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8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 flipH="1" flipV="1">
            <a:off x="611280" y="1628280"/>
            <a:ext cx="489744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610920" y="2708280"/>
            <a:ext cx="4608360" cy="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3995640" y="2637000"/>
            <a:ext cx="1728720" cy="36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610920" y="1844640"/>
            <a:ext cx="4824360" cy="266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796000" y="2852640"/>
            <a:ext cx="647640" cy="324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4859280" y="1412640"/>
            <a:ext cx="3600360" cy="21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440560" y="12254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بشر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450760" y="6122880"/>
            <a:ext cx="192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فراغ الخشب الاو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124800" y="64101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خشب او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-133200" y="29242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خشب تال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-47520" y="4683240"/>
            <a:ext cx="89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غلا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الحزم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1692000" y="3933720"/>
            <a:ext cx="4392360" cy="230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69960" y="633888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نسيج اساس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611280" y="1773360"/>
            <a:ext cx="4681440" cy="26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1116000" y="1125360"/>
            <a:ext cx="7273800" cy="496908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595800" y="189000"/>
            <a:ext cx="976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Garamond"/>
              </a:rPr>
              <a:t>ثالثا: الورقه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hi-IN" sz="3600" spc="-1" strike="noStrike">
                <a:solidFill>
                  <a:srgbClr val="ffff00"/>
                </a:solidFill>
                <a:latin typeface="Garamond"/>
              </a:rPr>
              <a:t>قطاع عرضي في ورقة فلقتي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2050920" y="692280"/>
            <a:ext cx="215928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 flipV="1">
            <a:off x="1547280" y="981000"/>
            <a:ext cx="251964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899640" y="1989000"/>
            <a:ext cx="4103640" cy="10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900000" y="3573000"/>
            <a:ext cx="3600720" cy="14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899640" y="4005360"/>
            <a:ext cx="3527640" cy="7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971280" y="4292640"/>
            <a:ext cx="5040360" cy="108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971640" y="4508640"/>
            <a:ext cx="3168720" cy="86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971640" y="1413000"/>
            <a:ext cx="1800000" cy="7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755280" y="1844640"/>
            <a:ext cx="230364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826560" y="2276640"/>
            <a:ext cx="151308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308720" y="5950080"/>
            <a:ext cx="50328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5148000" y="5950080"/>
            <a:ext cx="165564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4560" y="79380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بشره علي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35120" y="21744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Garamond"/>
              </a:rPr>
              <a:t>كولنشيه زاوي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04760" y="1700280"/>
            <a:ext cx="67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نسي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عماد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120" y="2378160"/>
            <a:ext cx="95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نسي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اسفنج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920" y="302580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قشر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-42120" y="353052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خشب او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-83880" y="39625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خشب تال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-54360" y="5186520"/>
            <a:ext cx="95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لحاء غي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منتظ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929400" y="6338880"/>
            <a:ext cx="10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Garamond"/>
              </a:rPr>
              <a:t>كولنشيم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402680" y="633888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بشره سفل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8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1828800" y="838080"/>
            <a:ext cx="5486400" cy="51818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 flipH="1" flipV="1">
            <a:off x="1476360" y="1125000"/>
            <a:ext cx="2735280" cy="14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1403280" y="1557360"/>
            <a:ext cx="3097440" cy="7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1332000" y="2133720"/>
            <a:ext cx="324000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1403280" y="2924280"/>
            <a:ext cx="2952720" cy="433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1476360" y="3141720"/>
            <a:ext cx="295128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1115640" y="5445000"/>
            <a:ext cx="230364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1116000" y="4581360"/>
            <a:ext cx="3240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659640" y="1484280"/>
            <a:ext cx="1225440" cy="115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732720" y="2492280"/>
            <a:ext cx="1511280" cy="865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427640" y="5589720"/>
            <a:ext cx="2089080" cy="93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549200" y="2378160"/>
            <a:ext cx="13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نسيج عماد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61520" y="3530520"/>
            <a:ext cx="15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نسيج اسفنج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5160" y="324180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خشب او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19400" y="40338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خشب تال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47400" y="4610160"/>
            <a:ext cx="96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Garamond"/>
              </a:rPr>
              <a:t>برنشيم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737760" y="6122880"/>
            <a:ext cx="10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Garamond"/>
              </a:rPr>
              <a:t>كولنشيم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19400" y="626580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بشره سفل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8680" y="2090880"/>
            <a:ext cx="96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Garamond"/>
              </a:rPr>
              <a:t>برنشيم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-24120" y="1441440"/>
            <a:ext cx="16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Garamond"/>
              </a:rPr>
              <a:t>كولنشيمه زاوي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10840" y="722160"/>
            <a:ext cx="11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بشره عليا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053320" y="196920"/>
            <a:ext cx="43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Garamond"/>
              </a:rPr>
              <a:t>ق.ع في ورقه فلقتي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8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95280" y="387360"/>
            <a:ext cx="6408720" cy="51624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207440" y="5716440"/>
            <a:ext cx="51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00"/>
                </a:solidFill>
                <a:latin typeface="Garamond"/>
              </a:rPr>
              <a:t>قطاع عرضي في جذر فلقت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796000" y="1052640"/>
            <a:ext cx="1584360" cy="7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580000" y="1628640"/>
            <a:ext cx="2592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500720" y="1628640"/>
            <a:ext cx="3743280" cy="136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24360" y="3141720"/>
            <a:ext cx="3527280" cy="194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82280" y="189000"/>
            <a:ext cx="455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Garamond"/>
              </a:rPr>
              <a:t>بشره خارجيه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Garamond"/>
              </a:rPr>
              <a:t>تتكون من طبقتي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Garamond"/>
              </a:rPr>
              <a:t>الطبقه الداخليه مسوبره وبها خلايا مرو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837200" y="1441440"/>
            <a:ext cx="13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Garamond"/>
              </a:rPr>
              <a:t>قشر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Garamond"/>
              </a:rPr>
              <a:t>واسعه جد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208640" y="5041800"/>
            <a:ext cx="153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Garamond"/>
              </a:rPr>
              <a:t>حزمه وعائي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8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684360" y="550800"/>
            <a:ext cx="6821280" cy="505008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259560" y="5924520"/>
            <a:ext cx="999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Garamond"/>
              </a:rPr>
              <a:t>قطاع عرضي ثلاثي الابعاد يوضح  ورقه ذات فلقتي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8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6985080" cy="49086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1897560" y="220680"/>
            <a:ext cx="782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Garamond"/>
              </a:rPr>
              <a:t>قطاع عرضي في ورقه فلقه واحد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 flipV="1">
            <a:off x="611280" y="2133360"/>
            <a:ext cx="2232000" cy="1150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1042920" y="5157720"/>
            <a:ext cx="165744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 flipV="1">
            <a:off x="826560" y="3573000"/>
            <a:ext cx="280836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 flipV="1">
            <a:off x="971640" y="765000"/>
            <a:ext cx="3456000" cy="288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3276720" y="4653000"/>
            <a:ext cx="1224000" cy="165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572000" y="5013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6443640" y="3429000"/>
            <a:ext cx="158436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364000" y="4365720"/>
            <a:ext cx="1368720" cy="194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671720" y="6338880"/>
            <a:ext cx="36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Garamond"/>
              </a:rPr>
              <a:t>غلاف الميستوم-برنشيمه رقيقة الجد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4571640" y="5084640"/>
            <a:ext cx="144360" cy="115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46280" y="6265800"/>
            <a:ext cx="138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Garamond"/>
              </a:rPr>
              <a:t>سكلرنشي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Garamond"/>
              </a:rPr>
              <a:t>غلاف الحزم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972440" y="6122880"/>
            <a:ext cx="123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لحاء منتظ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-49680" y="619452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بشره داخلي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-133200" y="35002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خشب تال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9520" y="43344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خشب او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96120" y="1730520"/>
            <a:ext cx="75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بشره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علي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78920" y="2882880"/>
            <a:ext cx="201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Garamond"/>
              </a:rPr>
              <a:t>حزمه وعائيه صغير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610920" y="3500280"/>
            <a:ext cx="43164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4760" y="4683240"/>
            <a:ext cx="81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خلاي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حركي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659640" y="4437000"/>
            <a:ext cx="187308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898680" y="5402160"/>
            <a:ext cx="23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Garamond"/>
              </a:rPr>
              <a:t>برنشيمه –غلاف الحزم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8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7315200" cy="48261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622080" y="6053040"/>
            <a:ext cx="736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00"/>
                </a:solidFill>
                <a:latin typeface="Garamond"/>
              </a:rPr>
              <a:t>قطاع عرضي في ورقة فلقه واحده – ثلاثي الابعا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8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8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900000" y="674640"/>
            <a:ext cx="7344000" cy="458316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1581120" y="5357880"/>
            <a:ext cx="688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00"/>
                </a:solidFill>
                <a:latin typeface="Garamond"/>
              </a:rPr>
              <a:t>قطاع عرضي في ورقه ذات فلقه واحد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2123640" y="4149720"/>
            <a:ext cx="2087640" cy="151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2123640" y="3716280"/>
            <a:ext cx="792360" cy="194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2124000" y="3573360"/>
            <a:ext cx="3456000" cy="208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93560" y="5618160"/>
            <a:ext cx="18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Garamond"/>
              </a:rPr>
              <a:t>حزم وعائيه مغلق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684000" y="3213000"/>
            <a:ext cx="309564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1720" y="4249800"/>
            <a:ext cx="86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نسيج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وسط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8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8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2296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8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102360" cy="63086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 flipH="1">
            <a:off x="1042560" y="2060640"/>
            <a:ext cx="2089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755280" y="3284640"/>
            <a:ext cx="331164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1042560" y="907920"/>
            <a:ext cx="1297080" cy="649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684000" y="4221000"/>
            <a:ext cx="122364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755640" y="6165720"/>
            <a:ext cx="151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-52560" y="72216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خلية مرو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153000" y="170028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خشب او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خارجي المنشأ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080" y="357336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خشب تال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4941720"/>
            <a:ext cx="118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Garamond"/>
              </a:rPr>
              <a:t>بشرة داخليه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Garamond"/>
              </a:rPr>
              <a:t>شريط كاسبا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4760" y="5589720"/>
            <a:ext cx="5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لحا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3920" y="590724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قشر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899640" y="4941720"/>
            <a:ext cx="324036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74280" y="260280"/>
            <a:ext cx="239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Garamond"/>
              </a:rPr>
              <a:t>الحزمه الوعائي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Garamond"/>
              </a:rPr>
              <a:t>قطري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25360" y="6338880"/>
            <a:ext cx="554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Garamond"/>
              </a:rPr>
              <a:t>الخشب مكون من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8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اذرع فق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516720" y="2205000"/>
            <a:ext cx="144000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98960" y="2306520"/>
            <a:ext cx="144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Garamond"/>
              </a:rPr>
              <a:t>برسيك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Garamond"/>
              </a:rPr>
              <a:t>طبقه محيطي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8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8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77800" y="333360"/>
            <a:ext cx="7450200" cy="52992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5800" y="5837400"/>
            <a:ext cx="74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Garamond"/>
              </a:rPr>
              <a:t>قطاع  عرضي في حزمه وعائيه لجذر ذوات فلقتي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905040"/>
            <a:ext cx="8280360" cy="51163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604960" y="0"/>
            <a:ext cx="708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00"/>
                </a:solidFill>
                <a:latin typeface="Garamond"/>
              </a:rPr>
              <a:t>قطاع عرضي في </a:t>
            </a:r>
            <a:r>
              <a:rPr b="1" lang="hi-IN" sz="4000" spc="-1" strike="noStrike">
                <a:solidFill>
                  <a:srgbClr val="ffff00"/>
                </a:solidFill>
                <a:latin typeface="Garamond"/>
              </a:rPr>
              <a:t>جذر فلقه واحد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468360" y="1197000"/>
            <a:ext cx="151128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539640" y="2492280"/>
            <a:ext cx="1656000" cy="50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39640" y="3500280"/>
            <a:ext cx="2376720" cy="865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88000" y="3933720"/>
            <a:ext cx="2305080" cy="237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2339640" y="4149720"/>
            <a:ext cx="187164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11280" y="4365720"/>
            <a:ext cx="324000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16360" y="4653000"/>
            <a:ext cx="142920" cy="165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-6120" y="649440"/>
            <a:ext cx="83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Garamond"/>
              </a:rPr>
              <a:t>بشر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Garamond"/>
              </a:rPr>
              <a:t>خارجي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-154800" y="288288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قشر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-149760" y="386064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بشره داخلي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-119880" y="47973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خشب او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7040" y="61945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خشب تال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70680" y="6265800"/>
            <a:ext cx="5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لحا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64560" y="641016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Garamond"/>
              </a:rPr>
              <a:t>نخاع قد يتلجن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755640" y="3860640"/>
            <a:ext cx="2232000" cy="230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-85680" y="5877000"/>
            <a:ext cx="89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طبقه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محيطي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7315200" cy="59054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838880" y="6238800"/>
            <a:ext cx="51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00"/>
                </a:solidFill>
                <a:latin typeface="Garamond"/>
              </a:rPr>
              <a:t>قطاع عرضي في جذر فلقه واحد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8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7561440" cy="56703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164240" y="6048360"/>
            <a:ext cx="591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00"/>
                </a:solidFill>
                <a:latin typeface="Garamond"/>
              </a:rPr>
              <a:t>قطاع عرضي في جذر فلقه واحد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611280" y="1484280"/>
            <a:ext cx="194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-100440" y="549360"/>
            <a:ext cx="14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Garamond"/>
              </a:rPr>
              <a:t>  بشره داخلي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Garamond"/>
              </a:rPr>
              <a:t>بها خلايا مرو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Garamond"/>
              </a:rPr>
              <a:t>  مقابله لاذر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Garamond"/>
              </a:rPr>
              <a:t>      الخشب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684000" y="3284640"/>
            <a:ext cx="2879640" cy="21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7560" y="33861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نخا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1042560" y="4869000"/>
            <a:ext cx="108108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200" y="626580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قشر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8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116000" y="260280"/>
            <a:ext cx="6624720" cy="52149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-1696320" y="5661000"/>
            <a:ext cx="1265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Garamond"/>
              </a:rPr>
              <a:t>قطاع عرضي في جذر فلقه واحده يوضح </a:t>
            </a:r>
            <a:r>
              <a:rPr b="1" lang="ar-SA" sz="2800" spc="-1" strike="noStrike">
                <a:solidFill>
                  <a:srgbClr val="66ff33"/>
                </a:solidFill>
                <a:latin typeface="Garamond"/>
              </a:rPr>
              <a:t>البشره الداخليه</a:t>
            </a:r>
            <a:r>
              <a:rPr b="1" lang="ar-SA" sz="2800" spc="-1" strike="noStrike">
                <a:solidFill>
                  <a:srgbClr val="ffff00"/>
                </a:solidFill>
                <a:latin typeface="Garamond"/>
              </a:rPr>
              <a:t> وخلايا المرور ب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Garamond"/>
              </a:rPr>
              <a:t>وكذلك </a:t>
            </a:r>
            <a:r>
              <a:rPr b="1" lang="ar-SA" sz="2800" spc="-1" strike="noStrike">
                <a:solidFill>
                  <a:srgbClr val="66ff33"/>
                </a:solidFill>
                <a:latin typeface="Garamond"/>
              </a:rPr>
              <a:t>اوعية الخشب واللح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826560" y="2133720"/>
            <a:ext cx="1297080" cy="21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539640" y="4221000"/>
            <a:ext cx="115272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659640" y="3068640"/>
            <a:ext cx="151272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5580000" y="1844280"/>
            <a:ext cx="2592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971280" y="1844640"/>
            <a:ext cx="230508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158680" y="1514520"/>
            <a:ext cx="5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لحا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101080" y="3141720"/>
            <a:ext cx="90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خشب او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080" y="501336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خشب تال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-52560" y="324180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خلية مرو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79280" y="2421000"/>
            <a:ext cx="102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-192600" y="244944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بشره داخلي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971640" y="1197000"/>
            <a:ext cx="129672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21560" y="129852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Garamond"/>
              </a:rPr>
              <a:t>قشر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8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7T13:26:55Z</dcterms:created>
  <dc:creator>HELP</dc:creator>
  <dc:description/>
  <dc:language>en-US</dc:language>
  <cp:lastModifiedBy>HELP</cp:lastModifiedBy>
  <dcterms:modified xsi:type="dcterms:W3CDTF">2008-04-07T15:59:24Z</dcterms:modified>
  <cp:revision>37</cp:revision>
  <dc:subject/>
  <dc:title>الشريحة 1</dc:title>
</cp:coreProperties>
</file>