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2C69-28B9-4738-AE2B-D8907E0F4BA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بشر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144C9-1472-443C-9AE9-BBF0FA8E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CD238-1240-4B5B-AE49-D8EB3E58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F26FD-DD73-459C-B631-4ED4CE53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5641-8DB3-45E3-9875-827E1E9C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C53E-4FDD-4344-B7BE-1E6E8645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3B44-F425-4660-95C6-9D108B23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76C4-D66F-4EA4-BED0-9660724A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398A-4159-474D-98B9-59884730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5A85-D2B8-4EC4-BF34-7B0729AB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220A-61BB-42F4-AE24-769690E7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EDB9-EAC9-4633-BF19-2CEAE064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B12C-2C42-4C77-A7C5-1FFE9035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D1DB-0F0B-4D10-86BD-A89677AC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347F-0848-40B3-9C65-7639293B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394B-0D4B-46A4-B277-DCE3B85C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1CDD-930C-44CD-AD21-7496770A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52B9-F140-44EC-BABB-8500D4E3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0CD67-A4CB-4F53-9C31-2F5D8B2A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6D2E-4251-4BE5-9ACF-6B448CFD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E884-0BAA-4862-88B4-D2CCA16D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37B8-745C-4503-AEBB-C222E940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8E81A-8708-4407-94F2-C9C6B75A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16D2-A97D-4437-8198-87749958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66F88-8841-4937-97CE-B51F5F1F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89D4-517F-42FE-BBD4-8C6A43A5FE2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6BA8-7285-4DC6-97C4-0101AFFD7A5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35240" y="404640"/>
            <a:ext cx="66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ahoma"/>
              </a:rPr>
              <a:t>تقسم النباتات حسب احتياجها للماء ال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55280" y="112536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8360" y="1125360"/>
            <a:ext cx="431640" cy="1008360"/>
          </a:xfrm>
          <a:prstGeom prst="downArrow">
            <a:avLst>
              <a:gd name="adj1" fmla="val 50000"/>
              <a:gd name="adj2" fmla="val 5840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1125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125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36400" y="19890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00"/>
                </a:solidFill>
                <a:uFillTx/>
                <a:latin typeface="Tahoma"/>
              </a:rPr>
              <a:t>متوسط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2160" y="2060640"/>
            <a:ext cx="159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ahoma"/>
              </a:rPr>
              <a:t>جفافي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8320" y="198900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Tahoma"/>
              </a:rPr>
              <a:t>مائي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3320" y="2540160"/>
            <a:ext cx="34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تعيش في بيئه ذات محتو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ائي متوس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2960" y="2611440"/>
            <a:ext cx="49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هي نباتات المناطق الجافه وشبه الجاف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3141720"/>
            <a:ext cx="486000" cy="574560"/>
          </a:xfrm>
          <a:prstGeom prst="downArrow">
            <a:avLst>
              <a:gd name="adj1" fmla="val 50000"/>
              <a:gd name="adj2" fmla="val 2955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09680" y="3645000"/>
            <a:ext cx="18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ffff"/>
                </a:solidFill>
                <a:uFillTx/>
                <a:latin typeface="Tahoma"/>
              </a:rPr>
              <a:t>مميزات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1120" y="4210200"/>
            <a:ext cx="350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- نسيج دعام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- التفاف الاورا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3</a:t>
            </a: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- ثغور غائره وتجاوي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- اختزال سطح الورق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- نسيج تخزيني كبي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6</a:t>
            </a: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- شعيرات كثيف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7</a:t>
            </a: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- ادمه سميك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256536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565360"/>
            <a:ext cx="215640" cy="647640"/>
          </a:xfrm>
          <a:prstGeom prst="downArrow">
            <a:avLst>
              <a:gd name="adj1" fmla="val 50000"/>
              <a:gd name="adj2" fmla="val 7508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13000"/>
            <a:ext cx="159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طافيه     مغمور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3573360"/>
            <a:ext cx="341280" cy="935280"/>
          </a:xfrm>
          <a:prstGeom prst="downArrow">
            <a:avLst>
              <a:gd name="adj1" fmla="val 100000"/>
              <a:gd name="adj2" fmla="val 6352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040" y="443700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ffff"/>
                </a:solidFill>
                <a:uFillTx/>
                <a:latin typeface="Tahoma"/>
              </a:rPr>
              <a:t>مميزات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662760" y="4937040"/>
            <a:ext cx="4361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99cc"/>
                </a:solidFill>
                <a:latin typeface="Tahoma"/>
              </a:rPr>
              <a:t>1</a:t>
            </a:r>
            <a:r>
              <a:rPr b="1" lang="ar-SA" sz="2000" spc="-1" strike="noStrike">
                <a:solidFill>
                  <a:srgbClr val="ff99cc"/>
                </a:solidFill>
                <a:latin typeface="Tahoma"/>
              </a:rPr>
              <a:t>- وجود مسافات بين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99cc"/>
                </a:solidFill>
                <a:latin typeface="Tahoma"/>
              </a:rPr>
              <a:t>2</a:t>
            </a:r>
            <a:r>
              <a:rPr b="1" lang="ar-SA" sz="2000" spc="-1" strike="noStrike">
                <a:solidFill>
                  <a:srgbClr val="ff99cc"/>
                </a:solidFill>
                <a:latin typeface="Tahoma"/>
              </a:rPr>
              <a:t>- جذزرها لا تحتوي على شعيرات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99cc"/>
                </a:solidFill>
                <a:latin typeface="Tahoma"/>
              </a:rPr>
              <a:t>3</a:t>
            </a:r>
            <a:r>
              <a:rPr b="1" lang="ar-SA" sz="2000" spc="-1" strike="noStrike">
                <a:solidFill>
                  <a:srgbClr val="ff99cc"/>
                </a:solidFill>
                <a:latin typeface="Tahoma"/>
              </a:rPr>
              <a:t>- اختزال الانسجه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ffff"/>
                </a:solidFill>
                <a:latin typeface="Tahoma"/>
              </a:rPr>
              <a:t>*- الدعام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ffff"/>
                </a:solidFill>
                <a:latin typeface="Tahoma"/>
              </a:rPr>
              <a:t>*- الوعائ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ffff"/>
                </a:solidFill>
                <a:latin typeface="Tahoma"/>
              </a:rPr>
              <a:t>*- الواق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3080" cy="4076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34480" y="609300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</a:rPr>
              <a:t>قطاع عرضي في ورقة قصب الرم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24360" y="836640"/>
            <a:ext cx="4906800" cy="4767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1403280" y="2276640"/>
            <a:ext cx="1224000" cy="23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331640" y="3573360"/>
            <a:ext cx="4392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6680" y="4653000"/>
            <a:ext cx="149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شعيرا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على الب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العلي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2349360"/>
            <a:ext cx="720720" cy="251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771280" y="3068640"/>
            <a:ext cx="2087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5013360"/>
            <a:ext cx="10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حزم وعائ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39640" y="2421000"/>
            <a:ext cx="936720" cy="33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0320" y="574992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اليا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1413000"/>
            <a:ext cx="4319640" cy="482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08720" y="4869000"/>
            <a:ext cx="2876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21440" y="61815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خلايا برنشيم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50920" y="189000"/>
            <a:ext cx="4419360" cy="5546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778280" y="189000"/>
            <a:ext cx="4162680" cy="5545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545200" y="5877000"/>
            <a:ext cx="411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الثغر الغائر بالصنوب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524720" y="2924280"/>
            <a:ext cx="287280" cy="32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1125360"/>
            <a:ext cx="4608360" cy="504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32720" y="6299280"/>
            <a:ext cx="13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نسيج وسط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907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547280" y="692280"/>
            <a:ext cx="287640" cy="547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38240" y="61815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تجو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547280" y="2349360"/>
            <a:ext cx="6264360" cy="38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907920"/>
            <a:ext cx="863640" cy="518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81760" y="61102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ثغ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777440" cy="5833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753640" y="5952960"/>
            <a:ext cx="314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Tahoma"/>
              </a:rPr>
              <a:t>تجاويف ثغري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547280" y="3068640"/>
            <a:ext cx="2232360" cy="33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2060640"/>
            <a:ext cx="2016000" cy="42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43640" y="2924280"/>
            <a:ext cx="1224000" cy="33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68000" y="1268280"/>
            <a:ext cx="1871640" cy="496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117720" y="630864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شره علي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03400" y="63975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تجو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0280" y="625320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نسيج عماد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69160" y="625320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نسيج اسفنج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3213000"/>
            <a:ext cx="43164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59400" y="63262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شره سفل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561080" cy="5111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14200" y="544500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نسيج دعامي في ورقة نبات الهاكي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00720" y="1341360"/>
            <a:ext cx="1584360" cy="468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804000" y="1989000"/>
            <a:ext cx="720720" cy="41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6920" y="61815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ب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84400" y="596592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خلايا حجريه عظم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5958000" cy="4680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70960" y="5734080"/>
            <a:ext cx="68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ساق نبات الالوديا  يوضح الغرف الهوائي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755640" y="3500280"/>
            <a:ext cx="223200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27640" y="2708280"/>
            <a:ext cx="230508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186920" y="3068640"/>
            <a:ext cx="2808360" cy="26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042920" y="1844640"/>
            <a:ext cx="936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32120" y="55339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شره داخل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4920" y="5678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حزمه وعائ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01880" y="458136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برنشي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هوائ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6200" y="19335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583480" y="430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2:24:23Z</dcterms:created>
  <dc:creator>HELP</dc:creator>
  <dc:description/>
  <dc:language>en-US</dc:language>
  <cp:lastModifiedBy>HELP</cp:lastModifiedBy>
  <dcterms:modified xsi:type="dcterms:W3CDTF">2008-05-06T13:21:41Z</dcterms:modified>
  <cp:revision>8</cp:revision>
  <dc:subject/>
  <dc:title>الشريحة 1</dc:title>
</cp:coreProperties>
</file>