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184-981A-4564-AFDD-82CF8A16AB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بشر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E524-5BC6-4201-BBDF-65FE9164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4140-EB6B-4D3D-AB48-F382F9C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911A-719C-41E4-B06C-49A9332A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C7D3-3656-4654-A33D-9A40909A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F11D-B306-4636-8E37-9C155AE8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BBDB-E486-404F-AFCB-B6BA60D1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3FB-B6E3-4709-88FC-036478EC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CB10-D8C3-4D3A-A2AD-1D26B750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B3A6-48D7-42B6-8940-0049EF7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F473-B35A-4010-8D01-FFB64B1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0110-0B8F-4F9F-960E-C08C8EA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13E5-BC97-49AE-A440-ACAC95BB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C260-254E-43D4-ACF6-4CA2BDA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404-CFC8-4CE7-B4AA-799E13D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3F1A-F06E-41A8-B07D-434F9D96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A840-C460-4769-B2B3-014590E1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5FA0-6C43-441C-AC37-BB16E009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01C34-0623-4B19-B6BC-A2740CF1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E9DD-6A29-423D-88E0-624C25D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FA5B-EA11-4862-BC4E-6FA3CA9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4BFC-23E7-44A5-92A9-BBD9B2C7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A9A4-AAD0-406D-86AF-769C236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F6AF-AA0C-4867-8621-09315B4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FC76-ACF0-45F7-BAE0-5030840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30A-3830-4E9C-9ACC-D3981E459A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49C0-7D0E-48DF-B71D-4CF4FD5872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5240" y="40464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ahoma"/>
              </a:rPr>
              <a:t>تقسم النباتات حسب احتياجها للماء ا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55280" y="112536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1125360"/>
            <a:ext cx="431640" cy="1008360"/>
          </a:xfrm>
          <a:prstGeom prst="downArrow">
            <a:avLst>
              <a:gd name="adj1" fmla="val 50000"/>
              <a:gd name="adj2" fmla="val 584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12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2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36400" y="198900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ff00"/>
                </a:solidFill>
                <a:uFillTx/>
                <a:latin typeface="Tahoma"/>
              </a:rPr>
              <a:t>متوسط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2160" y="206064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جفافي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8320" y="19890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مائ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3320" y="2540160"/>
            <a:ext cx="342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عيش في بيئه ذات محتو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مائي متوس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2960" y="2611440"/>
            <a:ext cx="49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هي نباتات المناطق الجافه وشبه الجاف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141720"/>
            <a:ext cx="486000" cy="574560"/>
          </a:xfrm>
          <a:prstGeom prst="downArrow">
            <a:avLst>
              <a:gd name="adj1" fmla="val 50000"/>
              <a:gd name="adj2" fmla="val 2955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09680" y="3645000"/>
            <a:ext cx="18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 u="sng">
                <a:solidFill>
                  <a:srgbClr val="00ffff"/>
                </a:solidFill>
                <a:uFillTx/>
                <a:latin typeface="Tahoma"/>
              </a:rPr>
              <a:t>مميزا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1120" y="4210200"/>
            <a:ext cx="350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نسيج دعام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لتفاف الاورا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ثغور غائره وتجاوي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ختزال سطح الورق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نسيج تخزيني كبي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6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شعيرات كثيف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7</a:t>
            </a:r>
            <a:r>
              <a:rPr b="1" lang="ar-SA" sz="2400" spc="-1" strike="noStrike">
                <a:solidFill>
                  <a:srgbClr val="ff99cc"/>
                </a:solidFill>
                <a:latin typeface="Tahoma"/>
              </a:rPr>
              <a:t>- ادمه سمي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2565360"/>
            <a:ext cx="216000" cy="64764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565360"/>
            <a:ext cx="215640" cy="647640"/>
          </a:xfrm>
          <a:prstGeom prst="downArrow">
            <a:avLst>
              <a:gd name="adj1" fmla="val 50000"/>
              <a:gd name="adj2" fmla="val 7508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13000"/>
            <a:ext cx="159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طافيه     مغمو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573360"/>
            <a:ext cx="341280" cy="935280"/>
          </a:xfrm>
          <a:prstGeom prst="downArrow">
            <a:avLst>
              <a:gd name="adj1" fmla="val 100000"/>
              <a:gd name="adj2" fmla="val 6352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6040" y="44370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ffff"/>
                </a:solidFill>
                <a:uFillTx/>
                <a:latin typeface="Tahoma"/>
              </a:rPr>
              <a:t>مميزا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662760" y="4937040"/>
            <a:ext cx="4361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وجود مسافات بي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جذزرها لا تحتوي على شعيرات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99cc"/>
                </a:solidFill>
                <a:latin typeface="Tahoma"/>
              </a:rPr>
              <a:t>- اختزال الانسجه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دعام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وعائ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ffff"/>
                </a:solidFill>
                <a:latin typeface="Tahoma"/>
              </a:rPr>
              <a:t>*- الواق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3080" cy="4076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34480" y="609300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</a:rPr>
              <a:t>قطاع عرضي في ورقة قصب الرم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906800" cy="4767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1403280" y="2276640"/>
            <a:ext cx="1224000" cy="23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331640" y="3573360"/>
            <a:ext cx="439236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6680" y="4653000"/>
            <a:ext cx="149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شعيرا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على ال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ال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2349360"/>
            <a:ext cx="720720" cy="25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71280" y="3068640"/>
            <a:ext cx="2087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5013360"/>
            <a:ext cx="10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حزم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39640" y="2421000"/>
            <a:ext cx="936720" cy="33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0320" y="57499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اليا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1413000"/>
            <a:ext cx="4319640" cy="48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4869000"/>
            <a:ext cx="287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1440" y="61815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خلايا برنشيم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50920" y="189000"/>
            <a:ext cx="4419360" cy="5546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778280" y="189000"/>
            <a:ext cx="4162680" cy="5545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45200" y="5877000"/>
            <a:ext cx="41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ثغر الغائر بالصنوب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7524720" y="2924280"/>
            <a:ext cx="287280" cy="32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1125360"/>
            <a:ext cx="4608360" cy="50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32720" y="6299280"/>
            <a:ext cx="13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نسيج وسط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9079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547280" y="692280"/>
            <a:ext cx="287640" cy="547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38240" y="61815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تجو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547280" y="2349360"/>
            <a:ext cx="6264360" cy="38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907920"/>
            <a:ext cx="863640" cy="518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381760" y="6110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ثغ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777440" cy="5833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753640" y="5952960"/>
            <a:ext cx="314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ahoma"/>
              </a:rPr>
              <a:t>تجاويف ثغري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547280" y="3068640"/>
            <a:ext cx="223236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060640"/>
            <a:ext cx="2016000" cy="42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2924280"/>
            <a:ext cx="1224000" cy="33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68000" y="1268280"/>
            <a:ext cx="1871640" cy="496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17720" y="630864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03400" y="63975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تجوي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0280" y="62532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نسيج 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69160" y="62532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نسيج 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3213000"/>
            <a:ext cx="431640" cy="31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59400" y="63262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561080" cy="5111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14200" y="5445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نسيج دعامي في ورقة نبات الهاك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00720" y="1341360"/>
            <a:ext cx="1584360" cy="468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804000" y="1989000"/>
            <a:ext cx="72072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6920" y="61815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4400" y="59659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ahoma"/>
              </a:rPr>
              <a:t>خلايا حجريه عظم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958000" cy="4680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70960" y="573408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ساق نبات الالوديا  يوضح الغرف الهوائ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55640" y="3500280"/>
            <a:ext cx="2232000" cy="165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27640" y="2708280"/>
            <a:ext cx="23050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186920" y="3068640"/>
            <a:ext cx="2808360" cy="26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042920" y="1844640"/>
            <a:ext cx="936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32120" y="55339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4920" y="567864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01880" y="458136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هو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6200" y="19335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583480" y="4308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2:24:23Z</dcterms:created>
  <dc:creator>HELP</dc:creator>
  <dc:description/>
  <dc:language>en-US</dc:language>
  <cp:lastModifiedBy>HELP</cp:lastModifiedBy>
  <dcterms:modified xsi:type="dcterms:W3CDTF">2008-05-06T13:21:41Z</dcterms:modified>
  <cp:revision>8</cp:revision>
  <dc:subject/>
  <dc:title>الشريحة 1</dc:title>
</cp:coreProperties>
</file>