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797-727A-4AEA-8A64-A6554283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EEE-3111-41B7-AA3E-94688998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C2E-2783-44CB-9B6F-9FC2FF89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187-746C-475D-BE38-1D08CBA8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DDB-6AAF-4747-B9FD-798A4484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908-215E-437F-9C07-C59B0E68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0A9-BA1D-4C3E-9A76-82246B71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1F3-ED5D-4727-A946-BF79521B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80F-F52C-4A18-8640-B53C8F20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13B-0A62-4359-9106-A115E68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2DC-5135-4312-AF04-A14CCF1D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28A-6A1A-43AE-9640-471E43D4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B421-1650-4F00-8453-A84B3BE8FF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ingdom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omyc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us:- Albugo.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bugo2"/>
          <p:cNvPicPr/>
          <p:nvPr/>
        </p:nvPicPr>
        <p:blipFill>
          <a:blip r:embed="rId1"/>
          <a:stretch/>
        </p:blipFill>
        <p:spPr>
          <a:xfrm>
            <a:off x="1547640" y="2276640"/>
            <a:ext cx="584532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ygomyc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ve structure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yg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m are saprophy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tive hyphae 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a (asep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spo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suspen.jpg (3398 bytes)"/>
          <p:cNvPicPr/>
          <p:nvPr/>
        </p:nvPicPr>
        <p:blipFill>
          <a:blip r:embed="rId1"/>
          <a:stretch/>
        </p:blipFill>
        <p:spPr>
          <a:xfrm>
            <a:off x="2124000" y="2133720"/>
            <a:ext cx="50245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u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Rhizopus.s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ead Mol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hae modifi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hizoi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oldfa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l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h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angi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exual rep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www.rogers.k12.ar.us/users/ehutches/tigerbreadmold1.jpg"/>
          <p:cNvPicPr/>
          <p:nvPr/>
        </p:nvPicPr>
        <p:blipFill>
          <a:blip r:embed="rId1"/>
          <a:stretch/>
        </p:blipFill>
        <p:spPr>
          <a:xfrm>
            <a:off x="2268360" y="333360"/>
            <a:ext cx="4929480" cy="226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Rhizopus_arrhizus_2"/>
          <p:cNvPicPr/>
          <p:nvPr/>
        </p:nvPicPr>
        <p:blipFill>
          <a:blip r:embed="rId2"/>
          <a:stretch/>
        </p:blipFill>
        <p:spPr>
          <a:xfrm>
            <a:off x="3924360" y="2708280"/>
            <a:ext cx="2332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564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comyc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c Fung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: yeasts, some mol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ate hyph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xual reproduction – sp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idioph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u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spergillus.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spergillus_1"/>
          <p:cNvPicPr/>
          <p:nvPr/>
        </p:nvPicPr>
        <p:blipFill>
          <a:blip r:embed="rId1"/>
          <a:stretch/>
        </p:blipFill>
        <p:spPr>
          <a:xfrm>
            <a:off x="3492360" y="25653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u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enicillium.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enicillium conrdiophores tjv"/>
          <p:cNvPicPr/>
          <p:nvPr/>
        </p:nvPicPr>
        <p:blipFill>
          <a:blip r:embed="rId1"/>
          <a:stretch/>
        </p:blipFill>
        <p:spPr>
          <a:xfrm>
            <a:off x="2268360" y="2492280"/>
            <a:ext cx="48625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sidiomyc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: mushrooms, puffba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f 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economically important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: rusts and sm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di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ingdom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prophy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obtain foo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organic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asi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feed on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nus:Agaricus.sp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oprinus"/>
          <p:cNvPicPr/>
          <p:nvPr/>
        </p:nvPicPr>
        <p:blipFill>
          <a:blip r:embed="rId1"/>
          <a:stretch/>
        </p:blipFill>
        <p:spPr>
          <a:xfrm>
            <a:off x="468360" y="2492280"/>
            <a:ext cx="4419720" cy="2935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almond%20agaricus,%20less%20easy"/>
          <p:cNvPicPr/>
          <p:nvPr/>
        </p:nvPicPr>
        <p:blipFill>
          <a:blip r:embed="rId2"/>
          <a:stretch/>
        </p:blipFill>
        <p:spPr>
          <a:xfrm>
            <a:off x="5219640" y="2349360"/>
            <a:ext cx="3670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yp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slender filament of cytoplasm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 enclosed by a cell w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of hyphae that make up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c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p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crosswalls that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and nuclei in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enocy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describes hypha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septate (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a) multinucl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275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roduction in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i can reproduce either 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organisms are haploid 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exual and asex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on produ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become adult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o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nidiosp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lamydos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sporangios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d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mitosis with un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of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agment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breaking of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into pieces, which deve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new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hyphae of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ally different individual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species encounter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tes (produced by mi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together and form dip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N) zyg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ygote undergoes meiosis t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loid (N) sp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i are divided into phylum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exual reproductive structu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mycetes-oospores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mycetes – zyg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omycetes – asc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diomycetes – basidi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19:17Z</dcterms:created>
  <dc:creator>User</dc:creator>
  <dc:description/>
  <dc:language>en-US</dc:language>
  <cp:lastModifiedBy>najla</cp:lastModifiedBy>
  <dcterms:modified xsi:type="dcterms:W3CDTF">2015-02-10T14:03:52Z</dcterms:modified>
  <cp:revision>9</cp:revision>
  <dc:subject/>
  <dc:title>Kingdom Fung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