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6A8-C392-4D7B-B3DE-19B731CD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62F-A226-4E21-8940-A516B319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A31-C90C-48A9-9BA3-1698DB30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789-0281-41E4-86A1-8ED62702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858-BE7F-40FD-8B2B-4CB91C06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47B-C583-40D2-B7B3-C075884B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B90-B47F-4F21-A51C-60112802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355-E909-42A3-BED7-0D9FE988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626-1851-45BE-AE32-D96AA80B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995-D1F3-4829-9B6C-C9423FBE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2DD-29A4-48F9-90F6-D85E7732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5ED-984D-48DF-BAD1-060CA14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117B-DFE9-45F2-85BC-26967B1E5D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ingdom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omyc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us:- Albugo.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bugo2"/>
          <p:cNvPicPr/>
          <p:nvPr/>
        </p:nvPicPr>
        <p:blipFill>
          <a:blip r:embed="rId1"/>
          <a:stretch/>
        </p:blipFill>
        <p:spPr>
          <a:xfrm>
            <a:off x="1547640" y="2276640"/>
            <a:ext cx="584532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ygomyc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ve structure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yg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m are saprophy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tive hyphae 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a (asep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spo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suspen.jpg (3398 bytes)"/>
          <p:cNvPicPr/>
          <p:nvPr/>
        </p:nvPicPr>
        <p:blipFill>
          <a:blip r:embed="rId1"/>
          <a:stretch/>
        </p:blipFill>
        <p:spPr>
          <a:xfrm>
            <a:off x="2124000" y="2133720"/>
            <a:ext cx="50245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u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Rhizopus.s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ead Mol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hae modifi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hizoi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oldfa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l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h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angi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exual rep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www.rogers.k12.ar.us/users/ehutches/tigerbreadmold1.jpg"/>
          <p:cNvPicPr/>
          <p:nvPr/>
        </p:nvPicPr>
        <p:blipFill>
          <a:blip r:embed="rId1"/>
          <a:stretch/>
        </p:blipFill>
        <p:spPr>
          <a:xfrm>
            <a:off x="2268360" y="333360"/>
            <a:ext cx="4929480" cy="226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Rhizopus_arrhizus_2"/>
          <p:cNvPicPr/>
          <p:nvPr/>
        </p:nvPicPr>
        <p:blipFill>
          <a:blip r:embed="rId2"/>
          <a:stretch/>
        </p:blipFill>
        <p:spPr>
          <a:xfrm>
            <a:off x="3924360" y="2708280"/>
            <a:ext cx="2332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564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comyc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c Fung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: yeasts, some mol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ate hyph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xual reproduction – sp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idioph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u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spergillus.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spergillus_1"/>
          <p:cNvPicPr/>
          <p:nvPr/>
        </p:nvPicPr>
        <p:blipFill>
          <a:blip r:embed="rId1"/>
          <a:stretch/>
        </p:blipFill>
        <p:spPr>
          <a:xfrm>
            <a:off x="3492360" y="25653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u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enicillium.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enicillium conrdiophores tjv"/>
          <p:cNvPicPr/>
          <p:nvPr/>
        </p:nvPicPr>
        <p:blipFill>
          <a:blip r:embed="rId1"/>
          <a:stretch/>
        </p:blipFill>
        <p:spPr>
          <a:xfrm>
            <a:off x="2268360" y="2492280"/>
            <a:ext cx="48625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sidiomyc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: mushrooms, puffba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f 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economically important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: rusts and sm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di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ingdom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prophy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obtain foo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organic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asi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feed on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nus:Agaricus.sp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oprinus"/>
          <p:cNvPicPr/>
          <p:nvPr/>
        </p:nvPicPr>
        <p:blipFill>
          <a:blip r:embed="rId1"/>
          <a:stretch/>
        </p:blipFill>
        <p:spPr>
          <a:xfrm>
            <a:off x="468360" y="2492280"/>
            <a:ext cx="4419720" cy="2935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almond%20agaricus,%20less%20easy"/>
          <p:cNvPicPr/>
          <p:nvPr/>
        </p:nvPicPr>
        <p:blipFill>
          <a:blip r:embed="rId2"/>
          <a:stretch/>
        </p:blipFill>
        <p:spPr>
          <a:xfrm>
            <a:off x="5219640" y="2349360"/>
            <a:ext cx="3670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yp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slender filament of cytoplasm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 enclosed by a cell w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of hyphae that make up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c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p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crosswalls that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and nuclei in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enocy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describes hypha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septate (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a) multinucl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275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roduction in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i can reproduce either 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organisms are haploid 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exual and asex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on produ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become adult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o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nidiosp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lamydos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sporangios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d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mitosis with un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of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agment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breaking of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into pieces, which deve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new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hyphae of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ally different individual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species encounter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tes (produced by mi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together and form dip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N) zyg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ygote undergoes meiosis t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loid (N) sp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i are divided into phylum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exual reproductive structu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mycetes-oospores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mycetes – zyg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omycetes – asc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diomycetes – basidios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19:17Z</dcterms:created>
  <dc:creator>User</dc:creator>
  <dc:description/>
  <dc:language>en-US</dc:language>
  <cp:lastModifiedBy>najla</cp:lastModifiedBy>
  <dcterms:modified xsi:type="dcterms:W3CDTF">2015-02-10T14:03:52Z</dcterms:modified>
  <cp:revision>9</cp:revision>
  <dc:subject/>
  <dc:title>Kingdom Fung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