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0872-CF20-4644-9221-1B147A206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9856-C008-40FD-9D41-B149569C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0261-F42C-478E-BA8A-7AD6A2713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A77B-2781-46BA-A59F-336A41CAD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3B37-91F0-49B7-BCDD-EAED2D44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D639-1EAA-4BEA-BEE2-40F883BF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6BB3-EF59-4465-8922-C3E41639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4E1A-BF68-4DDC-BD26-D6BB2B75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5498-7CB5-4C40-80A0-A6CDE871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8F40-395C-4EC0-86F5-6C569FB6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0A49-D9BC-4711-8CB9-69CBA68B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C0CE-686E-4632-A180-BD4280A7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E38D-BAB4-4799-A48B-14CD3F071DB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470880" y="2637000"/>
            <a:ext cx="81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LONY MORPHOLOGY ON AGAR PLATE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pigmentml"/>
          <p:cNvPicPr/>
          <p:nvPr/>
        </p:nvPicPr>
        <p:blipFill>
          <a:blip r:embed="rId1"/>
          <a:stretch/>
        </p:blipFill>
        <p:spPr>
          <a:xfrm>
            <a:off x="3059280" y="3357720"/>
            <a:ext cx="3162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Preparing a smear for stai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he following procedure is used for all of our staining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terilize) your inoculating loop/needle befo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fter 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fig2a"/>
          <p:cNvPicPr/>
          <p:nvPr/>
        </p:nvPicPr>
        <p:blipFill>
          <a:blip r:embed="rId1"/>
          <a:stretch/>
        </p:blipFill>
        <p:spPr>
          <a:xfrm>
            <a:off x="5651640" y="620640"/>
            <a:ext cx="2900160" cy="37371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"/>
          <p:cNvSpPr/>
          <p:nvPr/>
        </p:nvSpPr>
        <p:spPr>
          <a:xfrm>
            <a:off x="687600" y="620640"/>
            <a:ext cx="23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Prepare the 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sm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271800" y="2421000"/>
            <a:ext cx="536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have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ulture (agar colony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m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rop of water on a clean sli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the sterile inoculating needle t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ough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d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colony.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829800" y="4005360"/>
            <a:ext cx="434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ntly spread the mixture into a cir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331920" y="5661000"/>
            <a:ext cx="765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oop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qu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ulture can be placed directly on the slide and spread 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4"/>
          <p:cNvGrpSpPr/>
          <p:nvPr/>
        </p:nvGrpSpPr>
        <p:grpSpPr>
          <a:xfrm>
            <a:off x="411120" y="709560"/>
            <a:ext cx="8299440" cy="4237200"/>
            <a:chOff x="411120" y="709560"/>
            <a:chExt cx="8299440" cy="4237200"/>
          </a:xfrm>
        </p:grpSpPr>
        <p:pic>
          <p:nvPicPr>
            <p:cNvPr id="90" name="Picture 5" descr="fig2b"/>
            <p:cNvPicPr/>
            <p:nvPr/>
          </p:nvPicPr>
          <p:blipFill>
            <a:blip r:embed="rId1"/>
            <a:stretch/>
          </p:blipFill>
          <p:spPr>
            <a:xfrm>
              <a:off x="3648240" y="709560"/>
              <a:ext cx="5062320" cy="423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6"/>
            <p:cNvSpPr/>
            <p:nvPr/>
          </p:nvSpPr>
          <p:spPr>
            <a:xfrm>
              <a:off x="411120" y="1249200"/>
              <a:ext cx="2941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3.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Let the smear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air dry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completely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4"/>
          <p:cNvGrpSpPr/>
          <p:nvPr/>
        </p:nvGrpSpPr>
        <p:grpSpPr>
          <a:xfrm>
            <a:off x="822240" y="392040"/>
            <a:ext cx="7120080" cy="5211720"/>
            <a:chOff x="822240" y="392040"/>
            <a:chExt cx="7120080" cy="5211720"/>
          </a:xfrm>
        </p:grpSpPr>
        <p:pic>
          <p:nvPicPr>
            <p:cNvPr id="94" name="Picture 5" descr="Fig4a"/>
            <p:cNvPicPr/>
            <p:nvPr/>
          </p:nvPicPr>
          <p:blipFill>
            <a:blip r:embed="rId1"/>
            <a:stretch/>
          </p:blipFill>
          <p:spPr>
            <a:xfrm>
              <a:off x="4065480" y="392040"/>
              <a:ext cx="3876840" cy="521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6"/>
            <p:cNvSpPr/>
            <p:nvPr/>
          </p:nvSpPr>
          <p:spPr>
            <a:xfrm>
              <a:off x="822240" y="884160"/>
              <a:ext cx="3062520" cy="34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4.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Heat-Fix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the smear.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mears are heat-fixed by quickly passing the slide through a flame two or three time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his causes the microbes to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stick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to the slide and not get washed off during the staining proces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4"/>
          <p:cNvGrpSpPr/>
          <p:nvPr/>
        </p:nvGrpSpPr>
        <p:grpSpPr>
          <a:xfrm>
            <a:off x="755640" y="765000"/>
            <a:ext cx="7259760" cy="5062680"/>
            <a:chOff x="755640" y="765000"/>
            <a:chExt cx="7259760" cy="5062680"/>
          </a:xfrm>
        </p:grpSpPr>
        <p:sp>
          <p:nvSpPr>
            <p:cNvPr id="98" name="Text Box 5"/>
            <p:cNvSpPr/>
            <p:nvPr/>
          </p:nvSpPr>
          <p:spPr>
            <a:xfrm>
              <a:off x="755640" y="1306440"/>
              <a:ext cx="3063960" cy="23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5.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Stain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the smear.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lace the slide on a rack over the sink.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Flood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the smear with stain and let it for 60-90 seconds.  Rinse gently and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blot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dry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6" descr="Fig3"/>
            <p:cNvPicPr/>
            <p:nvPr/>
          </p:nvPicPr>
          <p:blipFill>
            <a:blip r:embed="rId1"/>
            <a:stretch/>
          </p:blipFill>
          <p:spPr>
            <a:xfrm>
              <a:off x="3711600" y="765000"/>
              <a:ext cx="4303800" cy="5062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4"/>
          <p:cNvGrpSpPr/>
          <p:nvPr/>
        </p:nvGrpSpPr>
        <p:grpSpPr>
          <a:xfrm>
            <a:off x="822240" y="522360"/>
            <a:ext cx="7070760" cy="5738760"/>
            <a:chOff x="822240" y="522360"/>
            <a:chExt cx="7070760" cy="5738760"/>
          </a:xfrm>
        </p:grpSpPr>
        <p:pic>
          <p:nvPicPr>
            <p:cNvPr id="102" name="Picture 5" descr="fig6"/>
            <p:cNvPicPr/>
            <p:nvPr/>
          </p:nvPicPr>
          <p:blipFill>
            <a:blip r:embed="rId1"/>
            <a:stretch/>
          </p:blipFill>
          <p:spPr>
            <a:xfrm>
              <a:off x="4478400" y="522360"/>
              <a:ext cx="341460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6"/>
            <p:cNvSpPr/>
            <p:nvPr/>
          </p:nvSpPr>
          <p:spPr>
            <a:xfrm>
              <a:off x="822240" y="1323720"/>
              <a:ext cx="3384720" cy="29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6.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Observe the slide under low and high-dry lenses to locate, center, and focus the image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hen, place a drop of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oil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directly on the stained smear .Turn the oil lens into position and fine focus to observe the cells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4"/>
          <p:cNvGrpSpPr/>
          <p:nvPr/>
        </p:nvGrpSpPr>
        <p:grpSpPr>
          <a:xfrm>
            <a:off x="747720" y="333360"/>
            <a:ext cx="7923240" cy="6173640"/>
            <a:chOff x="747720" y="333360"/>
            <a:chExt cx="7923240" cy="6173640"/>
          </a:xfrm>
        </p:grpSpPr>
        <p:sp>
          <p:nvSpPr>
            <p:cNvPr id="106" name="Text Box 5"/>
            <p:cNvSpPr/>
            <p:nvPr/>
          </p:nvSpPr>
          <p:spPr>
            <a:xfrm>
              <a:off x="3243240" y="333360"/>
              <a:ext cx="307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occus (cocci pl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Picture 6" descr="cocci"/>
            <p:cNvPicPr/>
            <p:nvPr/>
          </p:nvPicPr>
          <p:blipFill>
            <a:blip r:embed="rId1"/>
            <a:stretch/>
          </p:blipFill>
          <p:spPr>
            <a:xfrm>
              <a:off x="747720" y="946080"/>
              <a:ext cx="3706920" cy="556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7" descr="gram+staphau"/>
            <p:cNvPicPr/>
            <p:nvPr/>
          </p:nvPicPr>
          <p:blipFill>
            <a:blip r:embed="rId2"/>
            <a:stretch/>
          </p:blipFill>
          <p:spPr>
            <a:xfrm>
              <a:off x="4502160" y="914400"/>
              <a:ext cx="4168800" cy="5551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4"/>
          <p:cNvGrpSpPr/>
          <p:nvPr/>
        </p:nvGrpSpPr>
        <p:grpSpPr>
          <a:xfrm>
            <a:off x="1619280" y="609480"/>
            <a:ext cx="6230880" cy="4968720"/>
            <a:chOff x="1619280" y="609480"/>
            <a:chExt cx="6230880" cy="4968720"/>
          </a:xfrm>
        </p:grpSpPr>
        <p:sp>
          <p:nvSpPr>
            <p:cNvPr id="111" name="Text Box 5"/>
            <p:cNvSpPr/>
            <p:nvPr/>
          </p:nvSpPr>
          <p:spPr>
            <a:xfrm>
              <a:off x="3063960" y="609480"/>
              <a:ext cx="368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acillus (Bacilli pl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6" descr="bacilli"/>
            <p:cNvPicPr/>
            <p:nvPr/>
          </p:nvPicPr>
          <p:blipFill>
            <a:blip r:embed="rId1"/>
            <a:stretch/>
          </p:blipFill>
          <p:spPr>
            <a:xfrm>
              <a:off x="1619280" y="1108080"/>
              <a:ext cx="2955960" cy="4408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" name="Group 7"/>
            <p:cNvGrpSpPr/>
            <p:nvPr/>
          </p:nvGrpSpPr>
          <p:grpSpPr>
            <a:xfrm>
              <a:off x="4581360" y="1066680"/>
              <a:ext cx="3268800" cy="4511520"/>
              <a:chOff x="4581360" y="1066680"/>
              <a:chExt cx="3268800" cy="4511520"/>
            </a:xfrm>
          </p:grpSpPr>
          <p:pic>
            <p:nvPicPr>
              <p:cNvPr id="114" name="Picture 8" descr="bacillus3"/>
              <p:cNvPicPr/>
              <p:nvPr/>
            </p:nvPicPr>
            <p:blipFill>
              <a:blip r:embed="rId2"/>
              <a:stretch/>
            </p:blipFill>
            <p:spPr>
              <a:xfrm rot="16200000">
                <a:off x="4042440" y="1686240"/>
                <a:ext cx="4313160" cy="323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Rectangle 9"/>
              <p:cNvSpPr/>
              <p:nvPr/>
            </p:nvSpPr>
            <p:spPr>
              <a:xfrm>
                <a:off x="7743600" y="1066680"/>
                <a:ext cx="106560" cy="4511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4"/>
          <p:cNvGrpSpPr/>
          <p:nvPr/>
        </p:nvGrpSpPr>
        <p:grpSpPr>
          <a:xfrm>
            <a:off x="1392120" y="638280"/>
            <a:ext cx="6094440" cy="5533920"/>
            <a:chOff x="1392120" y="638280"/>
            <a:chExt cx="6094440" cy="5533920"/>
          </a:xfrm>
        </p:grpSpPr>
        <p:sp>
          <p:nvSpPr>
            <p:cNvPr id="118" name="Text Box 5"/>
            <p:cNvSpPr/>
            <p:nvPr/>
          </p:nvSpPr>
          <p:spPr>
            <a:xfrm>
              <a:off x="2894040" y="638280"/>
              <a:ext cx="329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pirillum (Spirilli pl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6" descr="spirillum2"/>
            <p:cNvPicPr/>
            <p:nvPr/>
          </p:nvPicPr>
          <p:blipFill>
            <a:blip r:embed="rId1"/>
            <a:stretch/>
          </p:blipFill>
          <p:spPr>
            <a:xfrm>
              <a:off x="1392120" y="1090440"/>
              <a:ext cx="6094440" cy="508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4"/>
          <p:cNvGrpSpPr/>
          <p:nvPr/>
        </p:nvGrpSpPr>
        <p:grpSpPr>
          <a:xfrm>
            <a:off x="644400" y="268200"/>
            <a:ext cx="5778720" cy="6243840"/>
            <a:chOff x="644400" y="268200"/>
            <a:chExt cx="5778720" cy="6243840"/>
          </a:xfrm>
        </p:grpSpPr>
        <p:pic>
          <p:nvPicPr>
            <p:cNvPr id="122" name="Picture 5" descr="bacteria"/>
            <p:cNvPicPr/>
            <p:nvPr/>
          </p:nvPicPr>
          <p:blipFill>
            <a:blip r:embed="rId1"/>
            <a:stretch/>
          </p:blipFill>
          <p:spPr>
            <a:xfrm>
              <a:off x="644400" y="974520"/>
              <a:ext cx="5778720" cy="553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6"/>
            <p:cNvSpPr/>
            <p:nvPr/>
          </p:nvSpPr>
          <p:spPr>
            <a:xfrm>
              <a:off x="1128600" y="268200"/>
              <a:ext cx="47545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Name the bacterial morphologies (shapes and arrangements) seen her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7"/>
            <p:cNvSpPr/>
            <p:nvPr/>
          </p:nvSpPr>
          <p:spPr>
            <a:xfrm>
              <a:off x="1365120" y="2511360"/>
              <a:ext cx="32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8"/>
            <p:cNvSpPr/>
            <p:nvPr/>
          </p:nvSpPr>
          <p:spPr>
            <a:xfrm>
              <a:off x="5619600" y="2363760"/>
              <a:ext cx="37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9"/>
            <p:cNvSpPr/>
            <p:nvPr/>
          </p:nvSpPr>
          <p:spPr>
            <a:xfrm>
              <a:off x="1938240" y="38638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0"/>
            <p:cNvSpPr/>
            <p:nvPr/>
          </p:nvSpPr>
          <p:spPr>
            <a:xfrm>
              <a:off x="2168640" y="5533920"/>
              <a:ext cx="29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1"/>
            <p:cNvSpPr/>
            <p:nvPr/>
          </p:nvSpPr>
          <p:spPr>
            <a:xfrm>
              <a:off x="4986360" y="4402080"/>
              <a:ext cx="35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2"/>
            <p:cNvSpPr/>
            <p:nvPr/>
          </p:nvSpPr>
          <p:spPr>
            <a:xfrm>
              <a:off x="3876840" y="3083040"/>
              <a:ext cx="37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3"/>
            <p:cNvSpPr/>
            <p:nvPr/>
          </p:nvSpPr>
          <p:spPr>
            <a:xfrm flipV="1">
              <a:off x="4097160" y="3082680"/>
              <a:ext cx="87480" cy="9972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4"/>
            <p:cNvSpPr/>
            <p:nvPr/>
          </p:nvSpPr>
          <p:spPr>
            <a:xfrm flipV="1">
              <a:off x="4219560" y="3204720"/>
              <a:ext cx="73080" cy="7452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Rectangle 15"/>
          <p:cNvSpPr/>
          <p:nvPr/>
        </p:nvSpPr>
        <p:spPr>
          <a:xfrm>
            <a:off x="4284720" y="2781360"/>
            <a:ext cx="45720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ril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c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il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plobacil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ptobacil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plococ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form"/>
          <p:cNvPicPr/>
          <p:nvPr/>
        </p:nvPicPr>
        <p:blipFill>
          <a:blip r:embed="rId1"/>
          <a:stretch/>
        </p:blipFill>
        <p:spPr>
          <a:xfrm>
            <a:off x="1619280" y="1268280"/>
            <a:ext cx="6002280" cy="5070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3708720" y="54936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 of Col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عنصر نائب للمحتوى 3" descr="mashrom.png"/>
          <p:cNvPicPr/>
          <p:nvPr/>
        </p:nvPicPr>
        <p:blipFill>
          <a:blip r:embed="rId1"/>
          <a:stretch/>
        </p:blipFill>
        <p:spPr>
          <a:xfrm>
            <a:off x="468360" y="1413000"/>
            <a:ext cx="3871800" cy="3671640"/>
          </a:xfrm>
          <a:prstGeom prst="rect">
            <a:avLst/>
          </a:prstGeom>
          <a:ln w="0">
            <a:noFill/>
          </a:ln>
        </p:spPr>
      </p:pic>
      <p:pic>
        <p:nvPicPr>
          <p:cNvPr id="135" name="صورة 4" descr="m.png"/>
          <p:cNvPicPr/>
          <p:nvPr/>
        </p:nvPicPr>
        <p:blipFill>
          <a:blip r:embed="rId2"/>
          <a:stretch/>
        </p:blipFill>
        <p:spPr>
          <a:xfrm>
            <a:off x="4500720" y="3429000"/>
            <a:ext cx="424800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عنصر نائب للمحتوى 3" descr="asp.png"/>
          <p:cNvPicPr/>
          <p:nvPr/>
        </p:nvPicPr>
        <p:blipFill>
          <a:blip r:embed="rId1"/>
          <a:stretch/>
        </p:blipFill>
        <p:spPr>
          <a:xfrm>
            <a:off x="468360" y="476280"/>
            <a:ext cx="4367160" cy="2881440"/>
          </a:xfrm>
          <a:prstGeom prst="rect">
            <a:avLst/>
          </a:prstGeom>
          <a:ln w="0">
            <a:noFill/>
          </a:ln>
        </p:spPr>
      </p:pic>
      <p:sp>
        <p:nvSpPr>
          <p:cNvPr id="138" name="مستطيل 4"/>
          <p:cNvSpPr/>
          <p:nvPr/>
        </p:nvSpPr>
        <p:spPr>
          <a:xfrm>
            <a:off x="5435640" y="1773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spergill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صورة 5" descr="pin.png"/>
          <p:cNvPicPr/>
          <p:nvPr/>
        </p:nvPicPr>
        <p:blipFill>
          <a:blip r:embed="rId2"/>
          <a:stretch/>
        </p:blipFill>
        <p:spPr>
          <a:xfrm>
            <a:off x="395280" y="3429000"/>
            <a:ext cx="4324320" cy="3168720"/>
          </a:xfrm>
          <a:prstGeom prst="rect">
            <a:avLst/>
          </a:prstGeom>
          <a:ln w="0">
            <a:noFill/>
          </a:ln>
        </p:spPr>
      </p:pic>
      <p:sp>
        <p:nvSpPr>
          <p:cNvPr id="140" name="مستطيل 6"/>
          <p:cNvSpPr/>
          <p:nvPr/>
        </p:nvSpPr>
        <p:spPr>
          <a:xfrm>
            <a:off x="5735520" y="5013360"/>
            <a:ext cx="17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enicilliu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3464280" y="619920"/>
            <a:ext cx="22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vation of Colony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elevat"/>
          <p:cNvPicPr/>
          <p:nvPr/>
        </p:nvPicPr>
        <p:blipFill>
          <a:blip r:embed="rId1"/>
          <a:stretch/>
        </p:blipFill>
        <p:spPr>
          <a:xfrm>
            <a:off x="1476360" y="907920"/>
            <a:ext cx="590220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3822840" y="61992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gin of Colony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margin"/>
          <p:cNvPicPr/>
          <p:nvPr/>
        </p:nvPicPr>
        <p:blipFill>
          <a:blip r:embed="rId1"/>
          <a:stretch/>
        </p:blipFill>
        <p:spPr>
          <a:xfrm>
            <a:off x="1979640" y="1285920"/>
            <a:ext cx="54817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492360" y="47556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face of Colony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surface"/>
          <p:cNvPicPr/>
          <p:nvPr/>
        </p:nvPicPr>
        <p:blipFill>
          <a:blip r:embed="rId1"/>
          <a:stretch/>
        </p:blipFill>
        <p:spPr>
          <a:xfrm>
            <a:off x="1692360" y="981000"/>
            <a:ext cx="5865840" cy="55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1793880" y="-1440"/>
            <a:ext cx="51915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There are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e common shapes of bacteria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2987640" y="1196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ccu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687960" y="2275920"/>
            <a:ext cx="294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iplococcus: a pair of cocci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526680" y="1627920"/>
            <a:ext cx="44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ving one of the following arrangement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510840" y="2923560"/>
            <a:ext cx="33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reptococcus: a chain of cocci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2" descr="u1coccus"/>
          <p:cNvPicPr/>
          <p:nvPr/>
        </p:nvPicPr>
        <p:blipFill>
          <a:blip r:embed="rId1"/>
          <a:stretch/>
        </p:blipFill>
        <p:spPr>
          <a:xfrm>
            <a:off x="5148360" y="1557360"/>
            <a:ext cx="2923920" cy="2933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3"/>
          <p:cNvSpPr/>
          <p:nvPr/>
        </p:nvSpPr>
        <p:spPr>
          <a:xfrm>
            <a:off x="758160" y="357336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etrad: a square of 4 coc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829800" y="4221000"/>
            <a:ext cx="27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arcina: a cube of 8 coc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5"/>
          <p:cNvSpPr/>
          <p:nvPr/>
        </p:nvSpPr>
        <p:spPr>
          <a:xfrm>
            <a:off x="474480" y="4797360"/>
            <a:ext cx="611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aphylococcus: cocci in irregular, often grape-like cluster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3133080" y="90720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acillus (rod)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1592280" y="1843920"/>
            <a:ext cx="27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acillus: a single bacillu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1232640" y="2564640"/>
            <a:ext cx="33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reptobacillus: bacilli in chain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369000" y="3357000"/>
            <a:ext cx="45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ccobacillus: oval and similar to a coccus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3" descr="u1rod"/>
          <p:cNvPicPr/>
          <p:nvPr/>
        </p:nvPicPr>
        <p:blipFill>
          <a:blip r:embed="rId1"/>
          <a:stretch/>
        </p:blipFill>
        <p:spPr>
          <a:xfrm>
            <a:off x="4932360" y="1628640"/>
            <a:ext cx="363852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3754080" y="965880"/>
            <a:ext cx="11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piral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1306440" y="2059920"/>
            <a:ext cx="488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ibrio: an incomplete spiral or comma-shaped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1304280" y="292356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pirillum: a thick, rigid spiral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1449000" y="3788640"/>
            <a:ext cx="34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pirochete: a thin, flexible spiral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u1spiral"/>
          <p:cNvPicPr/>
          <p:nvPr/>
        </p:nvPicPr>
        <p:blipFill>
          <a:blip r:embed="rId1"/>
          <a:stretch/>
        </p:blipFill>
        <p:spPr>
          <a:xfrm>
            <a:off x="5796000" y="2492280"/>
            <a:ext cx="20574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 Stai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-541440" y="2997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Simple Staining and Bacterial Cell Morpholog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0T18:07:15Z</dcterms:created>
  <dc:creator>User</dc:creator>
  <dc:description/>
  <dc:language>en-US</dc:language>
  <cp:lastModifiedBy>najla</cp:lastModifiedBy>
  <dcterms:modified xsi:type="dcterms:W3CDTF">2014-11-11T17:58:34Z</dcterms:modified>
  <cp:revision>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