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34A-5F19-49A3-9AD0-56536B5F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ED3-8858-42FF-85A2-968A094B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D41-5FDC-47C1-B3A3-30FD6005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778-D89D-485C-A46A-8B9FBC9E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F9F-C0F2-4EBD-A8D7-FDF29C69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8D1-7EA9-4E95-8E16-0092FFA8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395-2F2D-443B-A0BD-F5D2BDD4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F04-EAAE-43DE-869B-296CB64D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FE5-A440-4211-B93B-C8C7BF71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1E6-F95D-486C-BD21-476DFC5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82D-7FE2-4B68-8C4B-71E3AC5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710-566C-48C5-A1CB-7571C821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4CE3-9F78-4F1E-8089-2EE0B13B44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رتبة السحالي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Image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515772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romastyx bent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Image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720" y="515772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romastyx bent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440000"/>
            <a:ext cx="844848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09080" cy="5067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47640" y="5084640"/>
            <a:ext cx="244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anus yemenesis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47880" y="714240"/>
            <a:ext cx="7248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71438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6320" y="843120"/>
            <a:ext cx="71913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61920" y="733320"/>
            <a:ext cx="72201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09800" y="790560"/>
            <a:ext cx="7124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Image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Image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59280" y="1557360"/>
            <a:ext cx="30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rynocephalus macul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Image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2920" y="5157720"/>
            <a:ext cx="2737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seudotrapelus sinaitus</a:t>
            </a:r>
            <a:r>
              <a:rPr b="0" i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Image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42920" y="5157720"/>
            <a:ext cx="2449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esalina adramitan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Image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5157720"/>
            <a:ext cx="2737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canthodactylus smidt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Image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51640" y="5300640"/>
            <a:ext cx="2160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lcides ocellatus</a:t>
            </a:r>
            <a:r>
              <a:rPr b="0" i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128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9080" y="723960"/>
            <a:ext cx="7305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6624720" cy="538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08720" y="5157720"/>
            <a:ext cx="2087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romastyx philby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06:36:39Z</dcterms:created>
  <dc:creator>خالد</dc:creator>
  <dc:description/>
  <dc:language>en-US</dc:language>
  <cp:lastModifiedBy>خالد</cp:lastModifiedBy>
  <dcterms:modified xsi:type="dcterms:W3CDTF">2014-04-07T06:51:17Z</dcterms:modified>
  <cp:revision>2</cp:revision>
  <dc:subject/>
  <dc:title>رتبة السحالي:</dc:title>
</cp:coreProperties>
</file>