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A088-0355-4ABD-8E4A-7FCE84AF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CB1-4895-4CF1-A966-F5D877A6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3A09-36A7-4015-97F3-E8254931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8E5-CA96-4834-86FA-97D73561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5AE-BC94-4554-9A6A-988B0BA0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A39-A584-43D0-940F-037B4982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264-168C-4E77-90B6-85ECBF96A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41F-46F0-476D-892F-F9A79F67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DA10-A0C7-4642-9E0E-59D3B13D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826-F65E-487F-9D1A-17B66D7B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F320-D4CC-4B84-A761-88B09051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3DD-8603-44C2-ABA9-32A72D57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2032-17C0-483D-8DC1-05533059B2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رتبة السحالي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5840" y="571680"/>
            <a:ext cx="85723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42920" y="515772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romastyx bent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5157720"/>
            <a:ext cx="19447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romastyx bent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4000" y="1440000"/>
            <a:ext cx="844848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209080" cy="5067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547640" y="5084640"/>
            <a:ext cx="2448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aranus yemenesis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47880" y="714240"/>
            <a:ext cx="724824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000080" y="500040"/>
            <a:ext cx="714384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76320" y="843120"/>
            <a:ext cx="71913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61920" y="733320"/>
            <a:ext cx="722016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09800" y="790560"/>
            <a:ext cx="71244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59280" y="1557360"/>
            <a:ext cx="3025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rynocephalus macul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042920" y="5157720"/>
            <a:ext cx="273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seudotrapelus sinaitus</a:t>
            </a:r>
            <a:r>
              <a:rPr b="0" i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Image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042920" y="5157720"/>
            <a:ext cx="2449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esalina adramitana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42920" y="5157720"/>
            <a:ext cx="2737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canthodactylus smidt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Image"/>
          <p:cNvPicPr/>
          <p:nvPr/>
        </p:nvPicPr>
        <p:blipFill>
          <a:blip r:embed="rId1"/>
          <a:stretch/>
        </p:blipFill>
        <p:spPr>
          <a:xfrm>
            <a:off x="762120" y="890640"/>
            <a:ext cx="7619760" cy="507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651640" y="5300640"/>
            <a:ext cx="2160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halcides ocellatus</a:t>
            </a:r>
            <a:r>
              <a:rPr b="0" i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4360" y="144360"/>
            <a:ext cx="8128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3500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9080" y="723960"/>
            <a:ext cx="7305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861840"/>
            <a:ext cx="6858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6624720" cy="538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508720" y="5157720"/>
            <a:ext cx="2087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romastyx philbyi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7T06:36:39Z</dcterms:created>
  <dc:creator>خالد</dc:creator>
  <dc:description/>
  <dc:language>en-US</dc:language>
  <cp:lastModifiedBy>خالد</cp:lastModifiedBy>
  <dcterms:modified xsi:type="dcterms:W3CDTF">2014-04-07T06:51:17Z</dcterms:modified>
  <cp:revision>2</cp:revision>
  <dc:subject/>
  <dc:title>رتبة السحالي:</dc:title>
</cp:coreProperties>
</file>