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0AA8-1475-4B22-BAC5-BC58A2A222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91C5-0B33-4EE5-828F-16BB0E9460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video cases and one instructional video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D947-1625-436A-9329-AA096F9C0C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6207-2BE1-46F3-B413-A9D6D04CB3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6C59-2DC5-4083-9614-D22802DF22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firms today do not build their own systems in-house, but purchase solutions from providers like SAP, IBM, Oracle, and many others, nevertheless the firms’ IT staff needs to establish the user information requirements, and work closely with employees and managers to assure the requirements are met. Systems analysis and design is still at the heart of system building efforts in business firms. </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F397-9F4D-4689-BA54-52BE4AF4A7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E978-012E-4E54-A673-7E790BF254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6439-FE4B-4669-A5D9-393ED90696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ing is an explicitly iterative process. The term </a:t>
            </a:r>
            <a:r>
              <a:rPr b="0" i="1" lang="en-US" sz="1200" spc="-1" strike="noStrike">
                <a:solidFill>
                  <a:srgbClr val="000000"/>
                </a:solidFill>
                <a:latin typeface="Times New Roman"/>
              </a:rPr>
              <a:t>iterative</a:t>
            </a:r>
            <a:r>
              <a:rPr b="0" lang="en-US" sz="1200" spc="-1" strike="noStrike">
                <a:solidFill>
                  <a:srgbClr val="000000"/>
                </a:solidFill>
                <a:latin typeface="Times New Roman"/>
              </a:rPr>
              <a:t>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3E59-742B-417D-9C13-9C898662E4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ADDC-0F9E-4119-8DF6-80703A7BB1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 Someone has to manage end-user development in order to develop company-wide standards and defin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614F-C8A8-4381-974A-7DE741C0A0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97BA-C311-4932-BAE9-78414FB891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ctivities involved in systems development and the various methodologies used to build information systems. Ask students to give their first impressions of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B800-90E6-499B-A2A1-F3B695DF32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a:t>
            </a:r>
            <a:r>
              <a:rPr b="0" lang="ja-JP" sz="1200" spc="-1" strike="noStrike">
                <a:solidFill>
                  <a:srgbClr val="000000"/>
                </a:solidFill>
                <a:latin typeface="Times New Roman"/>
              </a:rPr>
              <a:t>’</a:t>
            </a:r>
            <a:r>
              <a:rPr b="0" lang="en-US" sz="1200" spc="-1" strike="noStrike">
                <a:solidFill>
                  <a:srgbClr val="000000"/>
                </a:solidFill>
                <a:latin typeface="Times New Roman"/>
              </a:rPr>
              <a:t>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3B62-B1DA-4F88-AAE6-90410872BE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5941-61DE-4412-A479-A57D3E7C03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D687-56C5-4F08-84A0-67F53101ED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environments where software workers can collaborate on large projects is difficult. In most system or software projects there are multiple interest groups (analysts, designers, programmers, end users, and management), multiple assets (documents, and chunks of code developed by various programming groups), and different programming techniques being used by different groups of programmers. These attributes of software development efforts can lead to slow development times, confusion, frustration, and endless meetings trying to iron things out. TeamForge, like many other offerings, seeks to centralize the management of groups, assets, and techniques by providing a collaborative online environment.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D6B6-56AE-4333-AFD3-11439EA01F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D40D-0531-4A96-80D1-A6785A7812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a:t>
            </a:r>
            <a:r>
              <a:rPr b="0" lang="ja-JP" sz="1200" spc="-1" strike="noStrike">
                <a:solidFill>
                  <a:srgbClr val="000000"/>
                </a:solidFill>
                <a:latin typeface="Times New Roman"/>
              </a:rPr>
              <a:t>’</a:t>
            </a:r>
            <a:r>
              <a:rPr b="0" lang="en-US" sz="1200" spc="-1" strike="noStrike">
                <a:solidFill>
                  <a:srgbClr val="000000"/>
                </a:solidFill>
                <a:latin typeface="Times New Roman"/>
              </a:rPr>
              <a: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CD05-4C23-4E6F-B911-2896DFD266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7681-0D56-4485-8B3E-4F058C76B0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E71F-F219-4B74-A6EF-C537BFE4A1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a:t>
            </a:r>
            <a:r>
              <a:rPr b="0" lang="ja-JP" sz="1200" spc="-1" strike="noStrike">
                <a:solidFill>
                  <a:srgbClr val="000000"/>
                </a:solidFill>
                <a:latin typeface="Times New Roman"/>
              </a:rPr>
              <a:t>’</a:t>
            </a:r>
            <a:r>
              <a:rPr b="0" lang="en-US" sz="1200" spc="-1" strike="noStrike">
                <a:solidFill>
                  <a:srgbClr val="000000"/>
                </a:solidFill>
                <a:latin typeface="Times New Roman"/>
              </a:rPr>
              <a:t>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3B78-6C21-44AE-A87C-8FA37ECA96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D7BC-6A19-41AD-A0F3-4A19248EB1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small, nonprofit corporations can find solutions for business process challenges. Increasingly, firms and nonprofits do not build their systems, but instead purchase solutions either off-the-shelf, or find online service providers who can deliver the functionality required. </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CD38-6750-4BEA-ABAB-49481E432A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8ADA-44DE-4DBF-BE42-D6FE209D95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are often developed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2E2C-487A-4D7A-A97A-90376EAA9A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E051-D2AB-4A04-ACB6-25D6819D9B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C82C-6268-4066-A949-74BE742060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F519-8108-4CF1-8264-BBEE32F5AF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B13D-DB62-446B-A2A5-55833D3A73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E8CA-2D43-42CE-A0DB-54D208F1DB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DD49-033E-448F-90E2-409DF369B0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a:t>
            </a:r>
            <a:r>
              <a:rPr b="0" lang="ja-JP" sz="1200" spc="-1" strike="noStrike">
                <a:solidFill>
                  <a:srgbClr val="000000"/>
                </a:solidFill>
                <a:latin typeface="Times New Roman"/>
              </a:rPr>
              <a:t>’</a:t>
            </a:r>
            <a:r>
              <a:rPr b="0" lang="en-US" sz="1200" spc="-1" strike="noStrike">
                <a:solidFill>
                  <a:srgbClr val="000000"/>
                </a:solidFill>
                <a:latin typeface="Times New Roman"/>
              </a:rPr>
              <a:t>s judgment even when he or she is wrong. </a:t>
            </a: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390B-0D2C-4A72-919D-B437EFF99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7CE3-757A-45E8-987D-24AC60A1F2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0B54-7B28-4963-B434-A0FF9F2242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a:t>
            </a:r>
            <a:r>
              <a:rPr b="0" lang="ja-JP" sz="1200" spc="-1" strike="noStrike">
                <a:solidFill>
                  <a:srgbClr val="000000"/>
                </a:solidFill>
                <a:latin typeface="Times New Roman"/>
              </a:rPr>
              <a:t>’</a:t>
            </a:r>
            <a:r>
              <a:rPr b="0" lang="en-US" sz="1200" spc="-1" strike="noStrike">
                <a:solidFill>
                  <a:srgbClr val="000000"/>
                </a:solidFill>
                <a:latin typeface="Times New Roman"/>
              </a:rPr>
              <a:t>s sake, it is a solution to a problem or set of problems the organization perceives it is facing—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9F5F-2939-4D16-A94C-B278C0A3DB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the orange boxes (systems analysis) and the blue box (implementation): why doesn</a:t>
            </a:r>
            <a:r>
              <a:rPr b="0" lang="ja-JP" sz="1200" spc="-1" strike="noStrike">
                <a:solidFill>
                  <a:srgbClr val="000000"/>
                </a:solidFill>
                <a:latin typeface="Times New Roman"/>
              </a:rPr>
              <a:t>’</a:t>
            </a:r>
            <a:r>
              <a:rPr b="0" lang="en-US" sz="1200" spc="-1" strike="noStrike">
                <a:solidFill>
                  <a:srgbClr val="000000"/>
                </a:solidFill>
                <a:latin typeface="Times New Roman"/>
              </a:rPr>
              <a:t>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CBEA-F7DF-4A37-88F7-E1DB715B52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879D-8DAF-46C7-8488-CEE7427891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1D49-F602-4358-8C6C-7E0C32BE32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0F4E6960-CDDB-4AFE-B50D-A389D7120E32}"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048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63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5:09Z</dcterms:modified>
  <cp:revision>837</cp:revision>
  <dc:subject/>
  <dc:title>PowerPoint Presentation</dc:title>
</cp:coreProperties>
</file>