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D771-F838-4B05-83E4-2642C7AE5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05C1-CFEB-46F2-ACF8-613A627C05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8BBF-3887-4908-A4C2-426EEE7980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FA53-AF56-4D7C-83EC-82301CBF0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76AE-3652-4CBD-844B-2BF90C48AE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75B3-A1FE-4FF4-83EC-32D56D26F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728D-604C-4C63-8BBF-8B28F1B489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43F3-014B-40D3-A5EC-8D53FBF75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5271-D412-48B6-8620-984DECD1A3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0F6F-5C5F-4E4C-A1C0-C5A6975760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36C3-DC5E-4B25-9A62-B1B7AC7C7A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D123-1768-4F59-A0CB-876AC4F57A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EF52-A47A-4AE2-A846-5F862AE523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B43B-68D7-46D8-9BD6-67EBEF9109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F23D-455E-4405-B87E-D7571B8639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951F-0816-42CD-9B3A-E48F24DCA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18E5-2390-470B-BA50-009E40F5C8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AAA6-B494-4061-952C-F56EE112B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CCB3-C2A0-41FA-95FB-C3F254B96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DCE4-3918-4D53-8195-F80D806C6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C37D-7569-4C04-B61F-9027C893F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93B9-ED89-454E-AE41-5846DF926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EEB0-3ED9-42C1-ABDF-C9E1C28AA1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B760-F1C5-4138-B9DF-703DB28E3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16B3-D7D3-42E7-9845-D4514C960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D397-D0B7-4283-8EB0-22D8E0B030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1725-0345-4D7D-822F-50E4C3ACCE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4515-B3CD-4779-99D9-5C30D0124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F1FC-E76A-467B-A5F4-67408AFE3B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A3DD-B6C5-43EA-BAA9-E40B20B726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C791-998A-499C-B3B2-C6E74F58D0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B675-37AF-441B-957E-099881F55A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09AE-E1C5-4CB2-9AAF-A81D3862F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F2DA-6C13-4D22-99D2-50A3FC2B3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3E37-F79C-489C-BF93-F5BA4E62FB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DA30-0738-4872-9525-109E6571CA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ED11-D91C-4E2F-A7B3-02CA6145A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8897-1C57-4203-9DED-B9AA814F5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6213-9A97-4922-B031-3CA9C1FEA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1EF9-A29F-47D8-B89D-663065658B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5736-7730-457B-BCEB-15750B370E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B13F-EF33-4436-A938-BD6777AAAC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CA70-D695-4D45-A0DD-9271F8C51A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C736-2EA0-4F0B-91BB-2AB39658BF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3A60-ED1C-448E-BCB4-27F05ACC82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C9F-47E2-4ABA-BDC0-E1641D814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3C05-6A72-48B4-BE2A-03DEDD27E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7F16-F1A4-494F-A419-8D3364BE6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AA83-71FC-420A-ACB6-040295ACF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F4970B50-C574-44F3-9536-B418A3C2C7D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2:00Z</dcterms:modified>
  <cp:revision>362</cp:revision>
  <dc:subject/>
  <dc:title>PowerPoint Presentation</dc:title>
</cp:coreProperties>
</file>