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D791-9EBF-4995-B47B-A914F19C88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9A09-FD46-457D-8AC5-2EE987201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EB37-9927-4CA8-BB9A-FD8CA7F1FD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4A99-A209-43B5-9909-64814D46F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22F3-D130-4ADB-98BF-93274FAFB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601C-0A76-4C3F-B99C-6CF37F27E4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3CCB-EB2F-41E4-BDD2-2B931E58F1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947E-ECC5-40BB-9619-2C7F459E0C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business objectives, businesses develop and use information systems.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B050-B7BF-4EA4-84BD-C5F7D3DE6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1FA3-1983-43E3-B44D-C21A9DDB69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0856-62C5-4C17-9A38-8330C3A13F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E281-8BBD-4E5D-99D7-C074108BD5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1B5E-95B8-4784-B7C3-E421FC0DD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1AA7-E2D4-483D-87B7-DB2C25D3F5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D6E7-F2E5-4CF9-A403-B61E831DFB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DE88-43AA-4906-B18A-2FD8A615F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92B8-051C-4E8B-AD4A-D7C6BF366F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58E7-9932-460B-BC96-EA8AFEC1B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9DFA-D0C3-4D73-B0C4-BC12EB57B7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9506-316E-4821-95C6-C3CDFBA512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hat digital dashboards are more effective than, say, spreadsheets with rows and columns of the same data? One answer is just the cognitive cost of looking for “information”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09AE-FB11-4B88-80F8-9F16588A72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E825-9E07-4539-9733-940425E264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9808-0326-414E-B7D7-3D2C8C46BC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C621-C62B-4B7F-B9A5-05838709B0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370F-43B7-46D0-A648-C727DDEA4E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83CD-F20A-414E-957D-6275E73DF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organizational system (IOS) is one which allows the flow of information to be automated between organizations in order to reach a desired supply-chain management system</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D8CC-30FD-4F6C-B6B5-8F471FA699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00DA-8F11-429E-B49C-F8A695DB46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B4BF-D5FD-4037-8C4D-5FEDD0B848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58DF-9A25-47CC-9F80-A1A31BBE2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CF6E-C49F-4A5C-BC00-D782AC3B8F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4B9B-3C59-4446-AC11-4F5E4BF99B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88CA-64EC-47AE-9B15-00CED7C24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DB8E-B54E-4D37-9BEF-7FD03C6092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1DE3-F25D-4790-B4BE-5AC470A27B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79FD-0B81-4863-9EAE-C6B447E712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7B9C-2805-4F02-9717-0443A1CCBC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7F1A-7C6C-47E6-8AE3-9C0F4AAD8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74D1-8347-4F0C-B340-C450D58D1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9090-0BA0-4FA3-847A-D99878BDF4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5BDE-0136-4595-8156-20CD4D7A4F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7569-27A8-4A46-BD93-D16535825D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2979-8FCE-4512-A2C5-84AF811377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3A3A-3986-4317-859F-A8300949FE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0C5B-AD3B-4BEA-805C-5BB2F75883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CA0B-1BA5-49E9-947D-82AE9C0CFC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2BD94A3D-3704-4C8D-909E-8DA0CE38A7D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 good knowledge management system would allow employees to search a corporate database</a:t>
            </a:r>
            <a:endParaRPr b="0" lang="en-US" sz="1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database </a:t>
            </a:r>
            <a:r>
              <a:rPr b="0" lang="en-US" sz="1800" spc="-1" strike="noStrike">
                <a:solidFill>
                  <a:srgbClr val="000000"/>
                </a:solidFill>
                <a:latin typeface="Arial"/>
              </a:rPr>
              <a:t>- A company may have a database of feedback from customers and employees and shares this feedback with their design and research and develop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project files - </a:t>
            </a:r>
            <a:r>
              <a:rPr b="0" lang="en-US" sz="1600" spc="-1" strike="noStrike">
                <a:solidFill>
                  <a:srgbClr val="000000"/>
                </a:solidFill>
                <a:latin typeface="Arial"/>
              </a:rPr>
              <a:t>An employee team can work collaboratively on a project. They have a system of shared files and information that allows everyone on the team to upload and comment on work performed by others.</a:t>
            </a:r>
            <a:endParaRPr b="0" lang="en-US" sz="16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03"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7"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factors are leading to a growing emphasis on collaboration in the firm</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nature of work</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rowth of professional work that </a:t>
            </a:r>
            <a:r>
              <a:rPr b="1" lang="en-US" sz="2000" spc="-1" strike="noStrike">
                <a:solidFill>
                  <a:srgbClr val="000000"/>
                </a:solidFill>
                <a:latin typeface="Arial"/>
                <a:ea typeface="Arial"/>
              </a:rPr>
              <a:t>requires more consultation among experts </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organization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scope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phasis on innovation</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culture of work and business</a:t>
            </a:r>
            <a:endParaRPr b="0" lang="en-US" sz="20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9" name="Picture 6" descr=""/>
          <p:cNvPicPr/>
          <p:nvPr/>
        </p:nvPicPr>
        <p:blipFill>
          <a:blip r:embed="rId1"/>
          <a:stretch/>
        </p:blipFill>
        <p:spPr>
          <a:xfrm>
            <a:off x="838080" y="1600200"/>
            <a:ext cx="6248520" cy="4311720"/>
          </a:xfrm>
          <a:prstGeom prst="rect">
            <a:avLst/>
          </a:prstGeom>
          <a:ln w="0">
            <a:noFill/>
          </a:ln>
        </p:spPr>
      </p:pic>
      <p:sp>
        <p:nvSpPr>
          <p:cNvPr id="220"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2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4"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nd instant messaging (I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world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virtual world is a computer-based online community environment that is designed and shared by individuals so that they can interact in a custom-built, simulated world. ex: </a:t>
            </a:r>
            <a:r>
              <a:rPr b="0" lang="en-US" sz="1600" spc="-1" strike="noStrike">
                <a:solidFill>
                  <a:srgbClr val="000000"/>
                </a:solidFill>
                <a:latin typeface="Arial"/>
                <a:ea typeface="ＭＳ Ｐゴシック"/>
              </a:rPr>
              <a:t>attending educational session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9"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31" name="Picture 6" descr=""/>
          <p:cNvPicPr/>
          <p:nvPr/>
        </p:nvPicPr>
        <p:blipFill>
          <a:blip r:embed="rId1"/>
          <a:stretch/>
        </p:blipFill>
        <p:spPr>
          <a:xfrm>
            <a:off x="2962440" y="1943280"/>
            <a:ext cx="5952960" cy="4305240"/>
          </a:xfrm>
          <a:prstGeom prst="rect">
            <a:avLst/>
          </a:prstGeom>
          <a:ln w="0">
            <a:noFill/>
          </a:ln>
        </p:spPr>
      </p:pic>
      <p:sp>
        <p:nvSpPr>
          <p:cNvPr id="232"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33"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6"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4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4"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6:00:24Z</dcterms:modified>
  <cp:revision>5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5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