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2884-82F4-4CA0-AB09-2337C7D56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B985-F9F8-4210-B13B-4685A3A24F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4327-512F-4019-BF61-C81272B304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BCC7-1C2F-4DA1-B6EE-9DBBFCA841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7528-A20C-4613-BE1F-3083E8317D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5980-E855-4884-BD8B-6E63988851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4D99-6E5B-4001-86A0-8B384166B0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5E17-602E-4ED1-8352-64B017DA0E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accomplish business objectives, businesses develop and use information systems.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2F71-30EF-42BF-9BC4-5850061F3F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23F5-AED7-49DD-8EE7-428583DE46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915B-39FA-4D4A-AAF5-F3AEFB8F5C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783C-8B96-4292-A922-5C18A99F5D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6357-6610-474E-A077-9E1E50204E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BF58-B471-4CBC-838C-B2D6A2C633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A486-24E0-4F58-9562-3314E39885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1B0D-F8BF-4359-866C-B62A996522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480D-D737-4B00-BD92-10B634F2BF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514D-0CC8-48D3-B6EC-F8D253F8AB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8A98-689E-46E8-A188-19CE166A68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FCE5-45D6-4293-9075-243781A457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y is it that digital dashboards are more effective than, say, spreadsheets with rows and columns of the same data? One answer is just the cognitive cost of looking for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information</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A81F-2214-4F81-B0B2-149B50BDC3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9484-C654-4B2D-B8FF-0BADD187BF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9F31-097B-42DF-8650-2ADD887DC7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41CE-0245-4866-82B3-85D0B76B0C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DD6E-CE8D-4E24-B14B-0EA74404C5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D693-43DC-408F-8BF4-61C4D75047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interorganizational system (IOS) is one which allows the flow of information to be automated between organizations in order to reach a desired supply-chain management system</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67AF-CA0A-4E58-9012-EDBFE2B5F7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89A1-9959-4B1D-A7AF-9A41A7714D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68AA-90DD-40B6-A829-D429A029D5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AFA4-476E-4968-BDA9-8C671937A6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11F1-EA4A-4B2E-A071-4B0158A1A2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1D77-9CE4-4DEE-A758-499D34F6F3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03AC-9CC2-441F-ACAE-F1C992DC5A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B99D-E5C6-489B-9FCD-FC7765B50B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96DD-4F96-4FA3-9C3E-7EECBB67B5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F2CD-49A6-4C24-8863-B44C8EA4FC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8ECB-FE21-48C4-A8BF-E357DAAD88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1D30-485D-4740-91EF-589AAD9BEC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764A-26A2-486E-B6CD-281CA74104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35A4-3650-4F8A-B07E-27C95B254A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84AA-A149-4ECE-90E5-991F7E8692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AA70-CC2C-4DDC-92A9-A944F06BFD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2E5F-01E1-460D-8201-B36BECF376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1090-5D17-4942-9C12-E3A6CACFCC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B565-FC3C-4816-9A74-1D6B2275BD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CD91-AFEC-43F6-A7CF-1D789D25F5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32E3636C-D11A-4E90-BAC3-A989D5B841D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MS PGothic"/>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MS PGothic"/>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driven DS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A good knowledge management system would allow employees to search a corporate database</a:t>
            </a:r>
            <a:endParaRPr b="0" lang="en-US" sz="1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database </a:t>
            </a:r>
            <a:r>
              <a:rPr b="0" lang="en-US" sz="1800" spc="-1" strike="noStrike">
                <a:solidFill>
                  <a:srgbClr val="000000"/>
                </a:solidFill>
                <a:latin typeface="Arial"/>
              </a:rPr>
              <a:t>- A company may have a database of feedback from customers and employees and shares this feedback with their design and research and develop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project files - </a:t>
            </a:r>
            <a:r>
              <a:rPr b="0" lang="en-US" sz="1600" spc="-1" strike="noStrike">
                <a:solidFill>
                  <a:srgbClr val="000000"/>
                </a:solidFill>
                <a:latin typeface="Arial"/>
              </a:rPr>
              <a:t>An employee team can work collaboratively on a project. They have a system of shared files and information that allows everyone on the team to upload and comment on work performed by others.</a:t>
            </a:r>
            <a:endParaRPr b="0" lang="en-US" sz="16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03"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ften are private access area in company</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Facilitate collaboration</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7"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ing Internet technology to deliver information and services to citizens, employees, and businesses</a:t>
            </a:r>
            <a:endParaRPr b="0" lang="en-US" sz="2000" spc="-1" strike="noStrike">
              <a:solidFill>
                <a:srgbClr val="000000"/>
              </a:solidFill>
              <a:latin typeface="Arial"/>
            </a:endParaRPr>
          </a:p>
        </p:txBody>
      </p:sp>
      <p:sp>
        <p:nvSpPr>
          <p:cNvPr id="2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factors are leading to a growing emphasis on collaboration in the firm</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nature of work</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rowth of professional work that </a:t>
            </a:r>
            <a:r>
              <a:rPr b="1" lang="en-US" sz="2000" spc="-1" strike="noStrike">
                <a:solidFill>
                  <a:srgbClr val="000000"/>
                </a:solidFill>
                <a:latin typeface="Arial"/>
                <a:ea typeface="Arial"/>
              </a:rPr>
              <a:t>requires more consultation among experts </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organization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scope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mphasis on innovation</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culture of work and business</a:t>
            </a:r>
            <a:endParaRPr b="0" lang="en-US" sz="20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9" name="Picture 6" descr=""/>
          <p:cNvPicPr/>
          <p:nvPr/>
        </p:nvPicPr>
        <p:blipFill>
          <a:blip r:embed="rId1"/>
          <a:stretch/>
        </p:blipFill>
        <p:spPr>
          <a:xfrm>
            <a:off x="838080" y="1600200"/>
            <a:ext cx="6248520" cy="4311720"/>
          </a:xfrm>
          <a:prstGeom prst="rect">
            <a:avLst/>
          </a:prstGeom>
          <a:ln w="0">
            <a:noFill/>
          </a:ln>
        </p:spPr>
      </p:pic>
      <p:sp>
        <p:nvSpPr>
          <p:cNvPr id="220"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2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4"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virtual world is a computer-based online community environment that is designed and shared by individuals so that they can interact in a custom-built, simulated world. ex: </a:t>
            </a:r>
            <a:r>
              <a:rPr b="0" lang="en-US" sz="1600" spc="-1" strike="noStrike">
                <a:solidFill>
                  <a:srgbClr val="000000"/>
                </a:solidFill>
                <a:latin typeface="Arial"/>
                <a:ea typeface="MS PGothic"/>
              </a:rPr>
              <a:t>attending educational session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9"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31" name="Picture 6" descr=""/>
          <p:cNvPicPr/>
          <p:nvPr/>
        </p:nvPicPr>
        <p:blipFill>
          <a:blip r:embed="rId1"/>
          <a:stretch/>
        </p:blipFill>
        <p:spPr>
          <a:xfrm>
            <a:off x="2962440" y="1943280"/>
            <a:ext cx="5952960" cy="4305240"/>
          </a:xfrm>
          <a:prstGeom prst="rect">
            <a:avLst/>
          </a:prstGeom>
          <a:ln w="0">
            <a:noFill/>
          </a:ln>
        </p:spPr>
      </p:pic>
      <p:sp>
        <p:nvSpPr>
          <p:cNvPr id="232"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33"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6"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4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4"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research and development services</a:t>
            </a:r>
            <a:endParaRPr b="0" lang="en-US" sz="2400" spc="-1" strike="noStrike">
              <a:solidFill>
                <a:srgbClr val="000000"/>
              </a:solidFill>
              <a:latin typeface="Arial"/>
            </a:endParaRPr>
          </a:p>
        </p:txBody>
      </p:sp>
      <p:sp>
        <p:nvSpPr>
          <p:cNvPr id="2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48:43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5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