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3622-2525-41E1-BC30-CCDB5E3C4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4274-9760-4643-B38D-606F97235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E2CE-F585-4ADE-BBC0-24BCF008B4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C044-42B6-4C94-9026-D596046F4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4CA3-DAFD-4850-B728-B0A0208D42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B62C-2A03-42DF-93AB-A0FEE5B30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552F-8813-49BE-B4CA-718E24EA4F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CB18-708A-4458-97E5-97E1B7BFAD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CCE7-7420-4CF9-9980-5A608E867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9A1B-8F79-4267-AAFF-A8BEA9318E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A066-EF9A-4BA7-8DA6-7D038C95F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7175-6857-4476-A7F7-119BA9B733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DB56-847A-48DF-AD63-F8015AA32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C3F-C147-46E1-812B-D6C74543EB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98E5-10D8-4C6F-B631-57F2DF4301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E835-321B-496A-B58A-DFE491D137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B015-1E8B-4A9C-B66C-A1893C5467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C533-92B1-41B2-8D3C-6E8B8FCE09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55C9-FC18-4398-98E2-D7F2FF911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3CD7-FA2D-4FC5-B9F6-EEC2403F9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2CD2-5745-4FA6-A87D-7C4A9E735C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C638-F11E-40BE-9910-7EF5E9FE32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4926-5E7E-4444-AB72-77C965DE80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FCFF-419A-4DA3-AC84-CE1EF5520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BE5D-B1D9-44F4-9B85-27BADFCDF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AA14-47E2-4161-9DDD-F3465B5F1B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216A-4AE0-4160-B08A-386FF63FC6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E201-2A95-41EE-B19A-2119401C7E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EE04-D42A-483F-9481-50EEFB01E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499D-DA64-46B1-8A1E-6D48D65AE0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1E10-BD53-4B73-97D0-CBF5A055A5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4240-93BB-4068-A013-F8845E89AA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6B1B-6750-4BF8-BED7-7B4FFE7508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F02D-08AD-41D4-8D40-A9A6D70733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12E7-148B-4AA2-9B33-61F5021B09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0A77-5E28-4960-8944-8A26EF0B93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769A-9E21-4786-B1B7-F5F21F03DC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BA7C-A9EB-411C-99BF-9AB7C2A3B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2A75-2F8C-48DB-9025-383722B80D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61C1-82F9-474B-9C4B-6AC6BB08F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599F-DD42-4F17-A08C-39E36B9096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77BC-EFDC-442A-B91D-F8A21E7BA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0C7C-5C6D-4E75-B5FE-B1794D48ED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8A61-E83B-40A0-92AF-BDEBA5EE50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A1B4-60B9-4C8D-B966-43AADE06F6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DF893824-F43D-4B1A-85F7-32CF65E01C9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3:21Z</dcterms:modified>
  <cp:revision>503</cp:revision>
  <dc:subject/>
  <dc:title>PowerPoint Presentation</dc:title>
</cp:coreProperties>
</file>