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AE28-4502-479C-9EBD-5E502C82B8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83AB-6AC9-4205-B0A5-12379BEB49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DF60-EDBA-4FDA-A8F1-7BDCE9A72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BFBD-A7EA-4F74-8CCC-9709445106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FEB7-392A-4507-B201-243CC6529B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26EE-CD04-42FE-8EBE-FB772CDC0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D377-BABF-4808-A994-B4E50277D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1766-61BF-4703-B304-1A4A811A0B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ECA9-AFB7-428A-AFD5-078881A4D7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A0FB-C9BB-4B6D-8FD8-C0F4076C7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FC19-53EB-48EA-8F82-4CE3C0D1C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1D41-6EC2-4AC8-890B-39A8594124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7988-F7FA-4444-9B06-5F893CD9BC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5999-6F7F-4263-80C1-2286E0C6E0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A1B1-4AB1-491A-952C-4D3CC5B6E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F713-0433-47C1-8ACB-6425889C3B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EBD6-2655-4D7A-B092-A126759693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38C9-0488-43A1-B95D-4E35892260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FD9B-DCC2-4E0D-B81E-C9BBDB2208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5C6F-2C0B-46EA-A57C-5191CB11E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1B34-BDC6-41DC-8C04-333DF2F842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DB5E-069C-4F9D-AF78-549193FA6D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E074-E7C4-4617-A94E-57134D0A7F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4795-0688-4E5A-BD95-5A84F33902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012B-B99C-4937-BCAD-159A87A1D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215E-00B7-4B1A-A6BC-A1B61EABF7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9A6D-FB2B-4282-B5D9-E0597CEFA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1EE6-0299-447A-B675-475046ED96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08A0-19DB-40A6-83CA-ECA0E33E5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D670-0130-4377-A4E2-DBAE98586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DB7E-4D97-46CD-8D4C-85748941EB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687A-6909-4775-B6B2-DDBA84194E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24BF-784D-4FFD-8ED2-6933B99B09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2516-25E0-4E56-BD8F-DE0699C13C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6F1C-E8C0-4803-8892-B489181605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6E4A-1458-4B7F-94C0-0BD0EB1D82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E028-1894-4CFA-A5E8-055D82B893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97EE-98DB-472C-AC57-D704B05015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0BE1-9AC6-43C2-90CB-C91BE412C3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5E91-2D3C-4679-827E-2A9A0F346B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CF75-CA9B-4112-AABA-F14CDC1CDD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998C-C8EE-4358-9158-0CFED090DF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2BB5-C01E-4055-92B2-D91203CEE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BE02-C109-40F3-A1CA-5D6F1C6B8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8236-EBCA-45C5-A5C5-992E1C579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AD8CCCA1-0DD6-4C32-BBA2-DDE3D0827AA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0:11Z</dcterms:modified>
  <cp:revision>503</cp:revision>
  <dc:subject/>
  <dc:title>PowerPoint Presentation</dc:title>
</cp:coreProperties>
</file>