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BBA3-956B-45DE-9687-3DD7A4B76D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9B8D-B670-46D9-BD9E-583A208F2C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8CC3-8C27-4999-B4DA-490E41609D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ea typeface="Arial"/>
                <a:hlinkClick r:id="rId1"/>
              </a:rPr>
              <a:t>http://setiathome.berkeley.edu</a:t>
            </a:r>
            <a:r>
              <a:rPr b="0" lang="en-US" sz="1200" spc="-1" strike="noStrike">
                <a:solidFill>
                  <a:srgbClr val="000000"/>
                </a:solidFill>
                <a:latin typeface="Times New Roman"/>
                <a:ea typeface="Arial"/>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1690-39BB-4904-B78D-7365B712AC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30B3-9506-49E1-8FC3-70D89F003C8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EAF6-5D87-4564-B663-11FF75B154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30E2-3F0D-4734-9CC8-4318E14914D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9E4F-C3CE-410B-BDE9-2B3EC708E8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DD69-28BD-4718-9658-F22ECBBBC3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C031-5C6D-4088-8323-6F3DDDE532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9608-86C9-43F7-9A60-F7EC8FD349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udents may be unfamiliar with batch processing. It</a:t>
            </a:r>
            <a:r>
              <a:rPr b="0" lang="en-US" sz="1200" spc="-1" strike="noStrike">
                <a:solidFill>
                  <a:srgbClr val="000000"/>
                </a:solidFill>
                <a:latin typeface="Times New Roman"/>
              </a:rPr>
              <a: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50C3-5081-4F17-95D6-873DC753EF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4B08-3E73-4CCB-9114-C41CFFBA79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14EE-81DD-430F-AF5B-C2889184199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2F73-FEDD-4AD4-98DC-D96A49B7F0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B00F-93C0-46C7-804C-C9A18A386E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A5AA-1BDB-42EA-8D21-BDA99AD3AB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9AE6-7361-49A9-B93D-11F764219B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73D9-75A1-4AD3-90C3-399A7BE656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57A4-C478-4D0F-B297-68D9C08B63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74F0-A96D-4CA5-9102-E6DBCDDBD2B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1BCF1-D0D2-493D-B516-1E51789617D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1DEF-FBD1-4486-AFFA-148476B991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AF5D9-5E8D-446D-9DC2-B7AB58130C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ECF7-946E-4FAC-BDB0-6AFD7D1F57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8036F-A709-4962-8BE7-BAF320037C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ACDB-DFC9-4431-A803-84474B2D34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EADC-1E3F-48C3-AD47-BBA3FE865D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374C-FBC2-4134-8FE1-FEC62B34A7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DC966-FC73-4CDE-BF8A-A7BA27CDAEB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1CE8-F879-41DD-A006-0115143D2F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4B48-33C4-4AD0-A016-2F825D3726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56FA-0676-45AD-8177-72CFD0E565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3EDA-868B-4F61-BD47-3144AA65EE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y students will find the idea of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aging computer systems</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a little odd. How can a computer get </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old</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You can explain that hardware and software technology have limited lifespans. It</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C0E9-DA9D-4EA5-81E5-0F4363CE04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think of the </a:t>
            </a:r>
            <a:r>
              <a:rPr b="0" lang="en-US" sz="1200" spc="-1" strike="noStrike">
                <a:solidFill>
                  <a:srgbClr val="000000"/>
                </a:solidFill>
                <a:latin typeface="Times New Roman"/>
              </a:rPr>
              <a:t>“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CF99-A506-4531-A15E-4AA08EB96AF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4936-C5F5-4F5D-A320-4E2F38144D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C750-BC9D-4559-A9A2-9331FA149E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A1DD-3224-4400-9ADF-23FEC9C6CE6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74D99-4636-4F89-BE9D-9763112C22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BD81-9865-42A6-A8E9-140847A056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B716-405C-4AF5-BD67-70ADEB9822D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49E9-3356-40E7-85F9-A11E0CB65C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83D1-9CDE-453B-9330-4436F1B135D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CB57-C4A2-4BAB-BA39-E80531BFEB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BC6DAFA9-3E34-4147-8D2C-D54A7C3F436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barcode-impresora.blogspot.com/2010/08/comparison-between-impact-printer-and.html"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ower of geographically remote computers connected into single network to act as </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virtual supercomputer</a:t>
            </a:r>
            <a:r>
              <a:rPr b="0" lang="ja-JP" sz="2000" spc="-1" strike="noStrike">
                <a:solidFill>
                  <a:srgbClr val="000000"/>
                </a:solidFill>
                <a:latin typeface="Arial"/>
                <a:ea typeface="MS PGothic"/>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lients: </a:t>
            </a:r>
            <a:r>
              <a:rPr b="0" lang="en-US" sz="2000" spc="-1" strike="noStrike">
                <a:solidFill>
                  <a:srgbClr val="000000"/>
                </a:solidFill>
                <a:latin typeface="Arial"/>
                <a:ea typeface="MS PGothic"/>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ervers: </a:t>
            </a:r>
            <a:r>
              <a:rPr b="0" lang="en-US" sz="2000" spc="-1" strike="noStrike">
                <a:solidFill>
                  <a:srgbClr val="000000"/>
                </a:solidFill>
                <a:latin typeface="Arial"/>
                <a:ea typeface="MS PGothic"/>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ather data and convert them into electronic form</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Keyboard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mputer mous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uch scree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ptical character recognition</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agnetic ink character recognition (used mainly by the banking industry )</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en-based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Digital scanner</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udio inpu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ensors (Ex: home security lights, automatic doors )</a:t>
            </a:r>
            <a:endParaRPr b="0" lang="en-US" sz="18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device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splay data after they have been processed</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onito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lat-panel, CR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rinter</a:t>
            </a:r>
            <a:endParaRPr b="0" lang="en-US" sz="22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act (dot-matrix printer), nonimpact (Inkjet printer, laser printer and thermal printer)</a:t>
            </a:r>
            <a:endParaRPr b="0" lang="en-US" sz="2000" spc="-1" strike="noStrike">
              <a:solidFill>
                <a:srgbClr val="000000"/>
              </a:solidFill>
              <a:latin typeface="Arial"/>
            </a:endParaRPr>
          </a:p>
          <a:p>
            <a:pPr lvl="3" marL="1714680" indent="-34308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ea typeface="MS PGothic"/>
                <a:hlinkClick r:id="rId1"/>
              </a:rPr>
              <a:t>http://barcode-impresora.blogspot.com/2010/08/comparison-between-impact-printer-and.html</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udio output</a:t>
            </a:r>
            <a:endParaRPr b="0" lang="en-US" sz="22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rver virtualization: </a:t>
            </a:r>
            <a:r>
              <a:rPr b="0" lang="en-US" sz="2400" spc="-1" strike="noStrike">
                <a:solidFill>
                  <a:srgbClr val="000000"/>
                </a:solidFill>
                <a:latin typeface="Arial"/>
                <a:ea typeface="MS PGothic"/>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T in U.S. provides 2% of U.S. power demand and 2% of world</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llection of services used to build an organization</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MS PGothic"/>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ing</a:t>
            </a:r>
            <a:r>
              <a:rPr b="1" lang="en-US" sz="2000" spc="-1" strike="noStrike">
                <a:solidFill>
                  <a:srgbClr val="000000"/>
                </a:solidFill>
                <a:latin typeface="Arial"/>
                <a:ea typeface="MS PGothic"/>
              </a:rPr>
              <a:t> </a:t>
            </a:r>
            <a:r>
              <a:rPr b="0" lang="en-US" sz="2000" spc="-1" strike="noStrike">
                <a:solidFill>
                  <a:srgbClr val="000000"/>
                </a:solidFill>
                <a:latin typeface="Arial"/>
                <a:ea typeface="MS PGothic"/>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evelop software (</a:t>
            </a:r>
            <a:r>
              <a:rPr b="1" lang="en-US" sz="2000" spc="-1" strike="noStrike">
                <a:solidFill>
                  <a:srgbClr val="000000"/>
                </a:solidFill>
                <a:latin typeface="Arial"/>
                <a:ea typeface="MS PGothic"/>
              </a:rPr>
              <a:t>offshore software outsourcing</a:t>
            </a:r>
            <a:r>
              <a:rPr b="0" lang="en-US" sz="2000" spc="-1" strike="noStrike">
                <a:solidFill>
                  <a:srgbClr val="000000"/>
                </a:solidFill>
                <a:latin typeface="Arial"/>
                <a:ea typeface="MS PGothic"/>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quires</a:t>
            </a:r>
            <a:r>
              <a:rPr b="1" lang="en-US" sz="2000" spc="-1" strike="noStrike">
                <a:solidFill>
                  <a:srgbClr val="000000"/>
                </a:solidFill>
                <a:latin typeface="Arial"/>
                <a:ea typeface="MS PGothic"/>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mall businesses </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rent</a:t>
            </a:r>
            <a:r>
              <a:rPr b="1" lang="ja-JP" sz="2000" spc="-1" strike="noStrike">
                <a:solidFill>
                  <a:srgbClr val="000000"/>
                </a:solidFill>
                <a:latin typeface="Arial"/>
                <a:ea typeface="MS PGothic"/>
              </a:rPr>
              <a:t>”</a:t>
            </a:r>
            <a:r>
              <a:rPr b="1" lang="en-US" sz="2000" spc="-1" strike="noStrike">
                <a:solidFill>
                  <a:srgbClr val="000000"/>
                </a:solidFill>
                <a:latin typeface="Arial"/>
                <a:ea typeface="MS PGothic"/>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49:57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7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