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2912-49BF-44DB-9FA1-D5862EBCC2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BA60-6740-4B60-9B7F-2DE4197D81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806F-BD58-45CB-A543-22EC843B01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43F2-4A29-48F7-86BF-3B8D39FA57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38E2-06B1-43BE-B883-9274F83507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D3C2-CDBD-456A-8258-DFF8D323F2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5CED-621C-4769-99B0-CF44B5C430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152B-DBA1-4F56-84F9-D7CCE133FA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6A81-7E54-4CB5-BE1F-9C3364B359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www.mysql.com/customers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0389-4C44-4BD4-821A-24A9C0E7E7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C35E-5AB0-4D08-A531-297F7385E2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AEDA-C13D-4889-B131-16BE52D935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B1E4-6C0F-4CC4-8C57-C476858E7C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24A2-B4D3-40C7-9DE1-55AF64F83E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7CA3-85B7-42C1-87A3-2579B1AF0A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EF63-12D7-486A-B4A1-FA1A55D98D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20 (Figure 5-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4992-7755-4D6E-93D0-C18163D125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AFEC-8A23-4F16-B3F1-6416636EE1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C591-1F48-49AE-869B-17279ECEF1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9552-C638-415C-8124-B47E23102E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3922-B262-4372-98C3-6A07B42532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A32C-1D73-47E7-A888-3C5FE791D3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www.harrahs.com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CF67-F694-48EE-97EE-5DC08B12D4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059B-CDF3-43F4-A175-3F7D5FBA18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line analytical processing</a:t>
            </a:r>
            <a:r>
              <a:rPr b="0" lang="en-US" sz="1200" spc="-1" strike="noStrike">
                <a:solidFill>
                  <a:srgbClr val="000000"/>
                </a:solidFill>
                <a:latin typeface="Times New Roman"/>
              </a:rPr>
              <a:t>, or </a:t>
            </a:r>
            <a:r>
              <a:rPr b="1" lang="en-US" sz="1200" spc="-1" strike="noStrike">
                <a:solidFill>
                  <a:srgbClr val="000000"/>
                </a:solidFill>
                <a:latin typeface="Times New Roman"/>
              </a:rPr>
              <a:t>OLAP</a:t>
            </a:r>
            <a:r>
              <a:rPr b="0" lang="en-US" sz="1200" spc="-1" strike="noStrike">
                <a:solidFill>
                  <a:srgbClr val="000000"/>
                </a:solidFill>
                <a:latin typeface="Times New Roman"/>
              </a:rPr>
              <a:t> /ˈoʊlæp/, is an approach to answering multi-dimensional analytical </a:t>
            </a:r>
            <a:r>
              <a:rPr b="0" i="1" lang="en-US" sz="1200" spc="-1" strike="noStrike">
                <a:solidFill>
                  <a:srgbClr val="000000"/>
                </a:solidFill>
                <a:latin typeface="Times New Roman"/>
              </a:rPr>
              <a:t>Ad hoc</a:t>
            </a:r>
            <a:r>
              <a:rPr b="0" lang="en-US" sz="1200" spc="-1" strike="noStrike">
                <a:solidFill>
                  <a:srgbClr val="000000"/>
                </a:solidFill>
                <a:latin typeface="Times New Roman"/>
              </a:rPr>
              <a:t> is a word that originally comes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 hoc</a:t>
            </a:r>
            <a:r>
              <a:rPr b="0" lang="en-US" sz="1200" spc="-1" strike="noStrike">
                <a:solidFill>
                  <a:srgbClr val="000000"/>
                </a:solidFill>
                <a:latin typeface="Times New Roman"/>
              </a:rPr>
              <a:t> is latin for "for this purpose". You might call it an "on the fly" query, or a "just so" query. It's the kind of SQL query you just loosely type out where you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 newSqlQuery = "SELECT * FROM table WHERE id = " + myId;...which is an entirely different query each time that line of code is executed, depending on the value of myId. The opposite of an ad hoc query is a predefined query such as a Stored Procedure, where you have created a single query for the entire generalized purpose of selecting from that table (say), and pass the ID as a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96B2-5778-4BA6-9BBA-F495440CC3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BD5E-E38E-4713-B580-32FB94AEC4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you are given some new data, you have to set new label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company wants to classify their prospect customers. When a new customer comes, they have to determine if this is a customer who is going to buy their product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stering: you're given a set of history transactions which recorded who bought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clustering techniques, you can tell the segmentation of you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D95B-1335-487A-B7A0-219230D6A2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today are collecting thousands of gigabytes of data simply by tracking all the consumers who visit their Web sites. Users provide a treasure of personal information in the course of browsing Web sites. By analyzing their Web traffic, firms can obtain a much better and in-depth understanding of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0FF9-7DDE-433A-861F-2BD5B060C5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14D5-AC0A-4F68-87E4-9C55E2CE06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5A6E-1772-4814-A9CB-5C49CDA8C3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5D64-25C4-47C9-8406-84DD93A71C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6DC1-09F8-471F-9D0B-BC5CA3E0A1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3FA6-AB74-49CE-A854-1233362F60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D6CF-2D8A-4123-8C6B-C5A5FED725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Even if firms grow organically without acquisitions it is common for separate departments and divisions to have their own systems and databases. Firms in this case suffer the same result: the firm becomes a collection of systems that cannot share information. This creates a demand for powerful, enterprise-wide or firm-wide databases that can bring order to the chaos. </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8661-859A-4E80-AB02-1633F29AB5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7DF5-FD5B-4B7B-B577-26E52EEC5B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create a list of the pros and cons of the CPSC database on defective products. Is this something the government should be doing, or would nonprofit organizations like Consumer Reports be a better public source for product safety information. Who would pay Consumer Reports to perform this function? </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2752-9DAF-47C1-9275-3E146FFB23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E81E-17A6-4112-836B-1BC50552E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1192-F330-4484-B6D4-F8DC007F12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DFFD-AC91-4A31-A235-6FBBACA51C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70BB-9262-4855-B752-C93496EBE8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slide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275E-C0C0-4451-A621-B0B2D7A50C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9C185FDD-4AC4-4B6C-8722-F1B3846D052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1905120"/>
            <a:ext cx="77724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s hidden patterns and relationships in large databases and infers rules from them to predict future behavior</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information obtainable from data mining</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ssociations: </a:t>
            </a:r>
            <a:r>
              <a:rPr b="0" lang="en-US" sz="1600" spc="-1" strike="noStrike">
                <a:solidFill>
                  <a:srgbClr val="000000"/>
                </a:solidFill>
                <a:latin typeface="Arial"/>
                <a:ea typeface="ＭＳ Ｐゴシック"/>
              </a:rPr>
              <a:t>occurrences linked to single event</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equences: </a:t>
            </a:r>
            <a:r>
              <a:rPr b="0" lang="en-US" sz="1600" spc="-1" strike="noStrike">
                <a:solidFill>
                  <a:srgbClr val="000000"/>
                </a:solidFill>
                <a:latin typeface="Arial"/>
                <a:ea typeface="ＭＳ Ｐゴシック"/>
              </a:rPr>
              <a:t>events linked over time</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lassifications: </a:t>
            </a:r>
            <a:r>
              <a:rPr b="0" lang="en-US" sz="1600" spc="-1" strike="noStrike">
                <a:solidFill>
                  <a:srgbClr val="000000"/>
                </a:solidFill>
                <a:latin typeface="Arial"/>
                <a:ea typeface="ＭＳ Ｐゴシック"/>
              </a:rPr>
              <a:t>patterns describing a group an item belongs to (you are given some new data, you have to set new label for them)</a:t>
            </a:r>
            <a:endParaRPr b="0" lang="en-US" sz="1600" spc="-1" strike="noStrike">
              <a:solidFill>
                <a:srgbClr val="000000"/>
              </a:solidFill>
              <a:latin typeface="Arial"/>
            </a:endParaRPr>
          </a:p>
          <a:p>
            <a:pPr lvl="2" marL="1200240" indent="-28584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x: a company wants to classify their prospect customers. When a new customer comes, they have to determine if this is a customer who is going to buy their products or not.</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lustering: </a:t>
            </a:r>
            <a:r>
              <a:rPr b="0" lang="en-US" sz="1600" spc="-1" strike="noStrike">
                <a:solidFill>
                  <a:srgbClr val="000000"/>
                </a:solidFill>
                <a:latin typeface="Arial"/>
                <a:ea typeface="ＭＳ Ｐゴシック"/>
              </a:rPr>
              <a:t>discovering as yet unclassified groupings (</a:t>
            </a:r>
            <a:r>
              <a:rPr b="0" lang="en-US" sz="1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you're given a set of history transactions which recorded who bought what.) </a:t>
            </a:r>
            <a:r>
              <a:rPr b="0" lang="en-US" sz="1400" spc="-1" strike="noStrike">
                <a:solidFill>
                  <a:srgbClr val="000000"/>
                </a:solidFill>
                <a:latin typeface="Arial"/>
                <a:ea typeface="ＭＳ Ｐゴシック"/>
              </a:rPr>
              <a:t>By using clustering techniques, you can tell the segmentation of your customers)</a:t>
            </a:r>
            <a:endParaRPr b="0" lang="en-US" sz="1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orecasting: </a:t>
            </a:r>
            <a:r>
              <a:rPr b="0" lang="en-US" sz="1600" spc="-1" strike="noStrike">
                <a:solidFill>
                  <a:srgbClr val="000000"/>
                </a:solidFill>
                <a:latin typeface="Arial"/>
                <a:ea typeface="ＭＳ Ｐゴシック"/>
              </a:rPr>
              <a:t>uses series of values to forecast future values</a:t>
            </a:r>
            <a:endParaRPr b="0" lang="en-US" sz="1600" spc="-1" strike="noStrike">
              <a:solidFill>
                <a:srgbClr val="000000"/>
              </a:solidFill>
              <a:latin typeface="Arial"/>
            </a:endParaRPr>
          </a:p>
        </p:txBody>
      </p:sp>
      <p:sp>
        <p:nvSpPr>
          <p:cNvPr id="192" name="Rectangle 6"/>
          <p:cNvSpPr/>
          <p:nvPr/>
        </p:nvSpPr>
        <p:spPr>
          <a:xfrm>
            <a:off x="762120" y="152388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6765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xt Mining</a:t>
            </a:r>
            <a:endParaRPr b="0" lang="en-US" sz="22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xt mining is the analysis of data contained in natural language text</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nstructured data (mostly text files) accounts for 80% of an organization’s useful information</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Mining</a:t>
            </a:r>
            <a:endParaRPr b="0" lang="en-US" sz="22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very and analysis of useful patterns and information from the Web</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ent mining, structure mining, usage mining</a:t>
            </a:r>
            <a:endParaRPr b="0" lang="en-US" sz="20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1676520"/>
            <a:ext cx="8001000" cy="4419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eb content mining </a:t>
            </a:r>
            <a:r>
              <a:rPr b="0" lang="en-US" sz="2000" spc="-1" strike="noStrike">
                <a:solidFill>
                  <a:srgbClr val="000000"/>
                </a:solidFill>
                <a:latin typeface="Arial"/>
                <a:ea typeface="ＭＳ Ｐゴシック"/>
              </a:rPr>
              <a:t>is the mining, extraction and integration of useful data, information and knowledge from Web page content</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eb structure mining </a:t>
            </a:r>
            <a:r>
              <a:rPr b="0" lang="en-US" sz="2000" spc="-1" strike="noStrike">
                <a:solidFill>
                  <a:srgbClr val="000000"/>
                </a:solidFill>
                <a:latin typeface="Arial"/>
                <a:ea typeface="ＭＳ Ｐゴシック"/>
              </a:rPr>
              <a:t>is the process of using graph theory to analyze the node and connection structure of a web sit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 Extracting patterns from hyperlinks in the web</a:t>
            </a:r>
            <a:endParaRPr b="0" lang="en-US" sz="18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eb usage mining </a:t>
            </a:r>
            <a:r>
              <a:rPr b="0" lang="en-US" sz="2000" spc="-1" strike="noStrike">
                <a:solidFill>
                  <a:srgbClr val="000000"/>
                </a:solidFill>
                <a:latin typeface="Arial"/>
                <a:ea typeface="ＭＳ Ｐゴシック"/>
              </a:rPr>
              <a:t>is the process of extracting useful information from server logs e.g. use Web usage mining is the process of finding out what users are looking for on the Interne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0"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1"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4"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5"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7" name="Picture 2" descr=""/>
          <p:cNvPicPr/>
          <p:nvPr/>
        </p:nvPicPr>
        <p:blipFill>
          <a:blip r:embed="rId1"/>
          <a:stretch/>
        </p:blipFill>
        <p:spPr>
          <a:xfrm>
            <a:off x="152280" y="2619360"/>
            <a:ext cx="8839440" cy="1952640"/>
          </a:xfrm>
          <a:prstGeom prst="rect">
            <a:avLst/>
          </a:prstGeom>
          <a:ln w="0">
            <a:noFill/>
          </a:ln>
        </p:spPr>
      </p:pic>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1"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4"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5"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8"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9"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Lhajr</cp:lastModifiedBy>
  <dcterms:modified xsi:type="dcterms:W3CDTF">2016-01-19T06:01:14Z</dcterms:modified>
  <cp:revision>5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800.00000000000</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lpwstr/>
  </property>
</Properties>
</file>