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0906-9D25-483C-972D-0D9434AE41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ysql.com/customers"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harrahs.com/"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0E63-A622-45B9-8A14-D75B1C88CE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CAD6-EB91-4EFA-99E9-A0B5507FAF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535E-008D-4BD7-97FB-A7001B37B1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633A-A331-4757-8757-2AD5794A2B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7096-42E4-4C1D-ABA1-DBBE63CF6A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E518-D182-4491-976D-A10255BC7C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ACB0-549A-4809-8AD5-B202D5A2BB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B395-8F60-4C78-8734-7B62FCD2FE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a:t>
            </a:r>
            <a:r>
              <a:rPr b="0" lang="en-US" sz="1200" spc="-1" strike="noStrike" u="sng">
                <a:solidFill>
                  <a:srgbClr val="ccccff"/>
                </a:solidFill>
                <a:uFillTx/>
                <a:latin typeface="Times New Roman"/>
                <a:hlinkClick r:id="rId1"/>
              </a:rPr>
              <a:t>www.mysql.com/customers</a:t>
            </a:r>
            <a:r>
              <a:rPr b="0" lang="en-US" sz="1200" spc="-1" strike="noStrike">
                <a:solidFill>
                  <a:srgbClr val="000000"/>
                </a:solidFill>
                <a:latin typeface="Times New Roman"/>
              </a:rPr>
              <a:t>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AAD9-DBAF-4FEC-93A7-B7B2B93A9E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7671-ACA5-4ABF-BC49-CB8CDAE673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776E-5933-49ED-BF6E-BD7ACCA29D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E1F3-5AC8-43EC-BA41-3E7A319CA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F3CB-36C9-4538-8E8E-D0B9F9B9D3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03A1-605E-46B8-BBD5-3F3895F6BF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4175-D3D3-4FD2-A6D5-08B1F94188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9ADF-894A-441C-A61F-159FF44FC7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DD57-7B3C-4B33-84A9-CF83F7C0AD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485B-15A4-485B-9014-10CA14C98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F410-004B-4AC0-A3D1-55BFAFFB99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3E03-0641-4D28-B0EC-DFF929D154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13C8-13D8-4206-8D7A-5882004AA1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a:t>
            </a:r>
            <a:r>
              <a:rPr b="0" lang="en-US" sz="1200" spc="-1" strike="noStrike" u="sng">
                <a:solidFill>
                  <a:srgbClr val="ccccff"/>
                </a:solidFill>
                <a:uFillTx/>
                <a:latin typeface="Times New Roman"/>
                <a:hlinkClick r:id="rId1"/>
              </a:rPr>
              <a:t>www.harrahs.com</a:t>
            </a:r>
            <a:r>
              <a:rPr b="0" lang="en-US" sz="1200" spc="-1" strike="noStrike">
                <a:solidFill>
                  <a:srgbClr val="000000"/>
                </a:solidFill>
                <a:latin typeface="Times New Roman"/>
              </a:rPr>
              <a:t>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418B-5168-4523-9891-577C80F6FE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F35E-156D-445C-AD43-A46B5952D7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94AA-0C70-4685-9F7F-BD60135157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1632-E0C0-4E51-8B45-9684383A2C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9CA8-D044-4CDF-A450-BAAE54FED1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653E-1824-4BB6-8ADA-8210FCE9D6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B6BA-FD6C-4F90-BC27-1E5AFABB21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037A-BCDB-4922-9623-A6E9BF20E7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5F65-2B27-431D-8BC4-9B7B5475F8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5796-2D86-4479-A915-59EDF7A8B7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ABEC-7CB5-4F00-84A4-B3F4D8F7BB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E58D-A9AD-4B6A-B09A-305A192A9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6733-D271-41FB-B3E7-AB82993918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2F28-63DB-4802-BD80-234010E817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300A-48CC-4AC9-811A-59C68DDBBA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7362-9050-42F0-ABC8-D151B81B12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20C1-D168-4D64-ACC7-44B0E5AC7A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C9EE-36F0-4BEC-9528-7F49EA3A62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587E-9D95-41A7-B0A4-A748B8EB94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A5C83B02-680B-47C4-93E6-6D6C32DC70C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3:42Z</dcterms:modified>
  <cp:revision>536</cp:revision>
  <dc:subject/>
  <dc:title>PowerPoint Presentation</dc:title>
</cp:coreProperties>
</file>