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CC0A-BE82-46ED-9E68-E4EF7F1DF7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ysql.com/customers"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harrahs.com/"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B47A-A908-490D-9494-E2E773D74B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E2A4-0680-4232-93C8-BA298E47A6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EF1D-2FB6-408E-9BC2-E35D76330F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AD9B-D674-48C3-848D-3BEA7EE353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8B7C-173A-4DF0-B84E-1033DA4CD9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F7D4-0E00-40F8-B54B-45C72B3345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B5A4-4522-4840-96B8-1D5C5C0E85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CC0B-D697-4BF9-B389-E741798516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a:t>
            </a:r>
            <a:r>
              <a:rPr b="0" lang="en-US" sz="1200" spc="-1" strike="noStrike" u="sng">
                <a:solidFill>
                  <a:srgbClr val="ccccff"/>
                </a:solidFill>
                <a:uFillTx/>
                <a:latin typeface="Times New Roman"/>
                <a:hlinkClick r:id="rId1"/>
              </a:rPr>
              <a:t>www.mysql.com/customers</a:t>
            </a:r>
            <a:r>
              <a:rPr b="0" lang="en-US" sz="1200" spc="-1" strike="noStrike">
                <a:solidFill>
                  <a:srgbClr val="000000"/>
                </a:solidFill>
                <a:latin typeface="Times New Roman"/>
              </a:rPr>
              <a:t>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FFB9-0477-4698-88DB-6C46A5C3B0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8FEE-2504-48EC-B11F-D90B853EDD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5582-2310-410C-ACFF-AE16D1B315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C713-EB36-4389-A3EB-32FD404D4B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A2E8-4649-4EA3-8422-A85C2C4FB5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5D5A-F1DB-4C67-964A-E635E5DF3B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0735-B250-48D4-9E22-6C4E6F39E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20 (Figure 5-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1DDE-7AE4-48F9-B9E2-6A8158C11D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0EC2-43B2-4A9F-B25B-DCD4798553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E34D-8FD9-4D8A-9AEA-CE6EC4C060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232F-964A-44A4-A673-F12F994029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C8BF-7B63-45E0-A066-1A2C934433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F292-E7C3-429A-8494-F11C7950B5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a:t>
            </a:r>
            <a:r>
              <a:rPr b="0" lang="en-US" sz="1200" spc="-1" strike="noStrike" u="sng">
                <a:solidFill>
                  <a:srgbClr val="ccccff"/>
                </a:solidFill>
                <a:uFillTx/>
                <a:latin typeface="Times New Roman"/>
                <a:hlinkClick r:id="rId1"/>
              </a:rPr>
              <a:t>www.harrahs.com</a:t>
            </a:r>
            <a:r>
              <a:rPr b="0" lang="en-US" sz="1200" spc="-1" strike="noStrike">
                <a:solidFill>
                  <a:srgbClr val="000000"/>
                </a:solidFill>
                <a:latin typeface="Times New Roman"/>
              </a:rPr>
              <a:t>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2968-29E8-4CDD-B11F-0CCBFC952A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090F-7214-49A9-91AF-08D5FADDF5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3C8E-E420-45AA-80A7-FC8CCFBE8A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E492-CF4B-48AC-965B-B3A9120918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4714-E656-4C0F-AFE9-77724F085F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today are collecting thousands of gigabytes of data simply by tracking all the consumers who visit their Web sites. Users provide a treasure of personal information in the course of browsing Web sites. By analyzing their Web traffic, firms can obtain a much better and in-depth understanding of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2444-DE2F-4673-9627-8C859E3D18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B4ED-A894-40BA-AAC4-18D955C487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72E07-074B-4DC0-AC81-C1828C2D41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7359-0297-48D3-A655-1A266F2C34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5FFE-643C-461C-93BF-DF299FE17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905A-ABA9-4B23-94AA-41CAB77465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BEA3-8657-4299-B6F9-2D945AA5A8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Even if firms grow organically without acquisitions it is common for separate departments and divisions to have their own systems and databases. Firms in this case suffer the same result: the firm becomes a collection of systems that cannot share information. This creates a demand for powerful, enterprise-wide or firm-wide databases that can bring order to the chaos. </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C53A-14BD-4861-BF49-741C2932FF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create a list of the pros and cons of the CPSC database on defective products. Is this something the government should be doing, or would nonprofit organizations like Consumer Reports be a better public source for product safety information. Who would pay Consumer Reports to perform this function? </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03DF-8D29-44E6-9870-BD581E012D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3C0A-0134-4C0E-A781-54039935EB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D9DF-57E7-4118-943F-58201D1BFC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FDE9-6EBD-4A8E-A7B8-1B01E36FF3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5BF4-4EF3-4EE2-B253-E9734C276D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slide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7995-41FF-4C98-AD82-DB2F305ADF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021136DD-CA72-44FE-9A18-7A299CBF5FD8}"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1:26Z</dcterms:modified>
  <cp:revision>536</cp:revision>
  <dc:subject/>
  <dc:title>PowerPoint Presentation</dc:title>
</cp:coreProperties>
</file>