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3356-333E-42D8-A10D-C31784066E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DFEF-1D19-4AEA-9263-E0EBA2F451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backend systems.</a:t>
            </a:r>
            <a:r>
              <a:rPr b="0" lang="ja-JP" sz="1200" spc="-1" strike="noStrike">
                <a:solidFill>
                  <a:srgbClr val="000000"/>
                </a:solidFill>
                <a:latin typeface="Times New Roman"/>
              </a:rPr>
              <a:t>”</a:t>
            </a:r>
            <a:r>
              <a:rPr b="0" lang="en-US" sz="1200" spc="-1" strike="noStrike">
                <a:solidFill>
                  <a:srgbClr val="000000"/>
                </a:solidFill>
                <a:latin typeface="Times New Roman"/>
              </a:rPr>
              <a:t>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E7BD-6B5D-40F8-B251-3D9EE8C6F9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a:t>
            </a:r>
            <a:r>
              <a:rPr b="0" lang="ja-JP" sz="1200" spc="-1" strike="noStrike">
                <a:solidFill>
                  <a:srgbClr val="000000"/>
                </a:solidFill>
                <a:latin typeface="Times New Roman"/>
              </a:rPr>
              <a:t>’</a:t>
            </a:r>
            <a:r>
              <a:rPr b="0" lang="en-US" sz="1200" spc="-1" strike="noStrike">
                <a:solidFill>
                  <a:srgbClr val="000000"/>
                </a:solidFill>
                <a:latin typeface="Times New Roman"/>
              </a:rPr>
              <a:t>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major competitors of telephone company Internet providers—have recently developed a mobile option. Optimum Cable (Comcast) has installed neighborhood Wi-Fi hot spots, allowing cable subscribers wireless access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E0E6-ADB0-412F-B4DF-9B6CA03F4F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C720-1CBB-45F1-9334-7BAF773794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bullet—packet switching. Note that circuit-switched networks were expensive and wasted available communications capacity—the circuit had to be maintained whether data was being sent or not. It is also important to note that packet switching enables packets to follow many different paths. What is the advantage of this capability? If one path is blocked due to an accident or power failure, the data will automatically be shifted by routers to open paths. However, in truly massive outages like the September 11, 2011 attack on the World Trade Center, nearby metropolitan servers were knocked out, and for a period of several days, Internet access was limited in the New York Metropolitan area. The notion that packet switching networks would survive a nuclear attack is highly unlikely. </a:t>
            </a: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D861-1C4A-4B21-AEA4-08E0790BEE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B34F-D78F-4EE5-8250-6ED74306FA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9254-DA2B-4B8A-93A5-2871561CEE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CE7D-28B2-49C3-9E4A-EAA4D1B2D4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0CB6-BD56-4DB5-A6E6-21F0BFE248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425E-90F5-4E1E-9263-821B399CEB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that travel in both directions along a single transmission segment. All of the signals are broadcast in both directions to the entire network. All machines on the network receive the same signals, and software installed on the client</a:t>
            </a:r>
            <a:r>
              <a:rPr b="0" lang="ja-JP" sz="1200" spc="-1" strike="noStrike">
                <a:solidFill>
                  <a:srgbClr val="000000"/>
                </a:solidFill>
                <a:latin typeface="Times New Roman"/>
              </a:rPr>
              <a:t>’</a:t>
            </a:r>
            <a:r>
              <a:rPr b="0" lang="en-US" sz="1200" spc="-1" strike="noStrike">
                <a:solidFill>
                  <a:srgbClr val="000000"/>
                </a:solidFill>
                <a:latin typeface="Times New Roman"/>
              </a:rPr>
              <a: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91E9-7764-4016-8AAF-9CA7B4EB53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EFC5-15A3-472B-89BF-89E427B4F7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 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11D2-B7D8-4A30-99A1-E04B157157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9666-7797-4BAF-957C-2091DA72D8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sk students to describe it and what they use it for. The text refers to the Internet as the most extensive public communication system and the world</a:t>
            </a:r>
            <a:r>
              <a:rPr b="0" lang="ja-JP" sz="1200" spc="-1" strike="noStrike">
                <a:solidFill>
                  <a:srgbClr val="000000"/>
                </a:solidFill>
                <a:latin typeface="Times New Roman"/>
              </a:rPr>
              <a:t>’</a:t>
            </a:r>
            <a:r>
              <a:rPr b="0" lang="en-US" sz="1200" spc="-1" strike="noStrike">
                <a:solidFill>
                  <a:srgbClr val="000000"/>
                </a:solidFill>
                <a:latin typeface="Times New Roman"/>
              </a:rPr>
              <a:t>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a:t>
            </a:r>
            <a:r>
              <a:rPr b="0" lang="ja-JP" sz="1200" spc="-1" strike="noStrike">
                <a:solidFill>
                  <a:srgbClr val="000000"/>
                </a:solidFill>
                <a:latin typeface="Times New Roman"/>
              </a:rPr>
              <a:t>“</a:t>
            </a:r>
            <a:r>
              <a:rPr b="0" lang="en-US" sz="1200" spc="-1" strike="noStrike">
                <a:solidFill>
                  <a:srgbClr val="000000"/>
                </a:solidFill>
                <a:latin typeface="Times New Roman"/>
              </a:rPr>
              <a:t>best effort.</a:t>
            </a:r>
            <a:r>
              <a:rPr b="0" lang="ja-JP"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B326-7414-4ECE-B333-B297F26357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252B-04B7-4833-B299-15C3462DCA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a:t>
            </a:r>
            <a:r>
              <a:rPr b="0" lang="ja-JP" sz="1200" spc="-1" strike="noStrike">
                <a:solidFill>
                  <a:srgbClr val="000000"/>
                </a:solidFill>
                <a:latin typeface="Times New Roman"/>
              </a:rPr>
              <a:t>“</a:t>
            </a:r>
            <a:r>
              <a:rPr b="0" lang="en-US" sz="1200" spc="-1" strike="noStrike">
                <a:solidFill>
                  <a:srgbClr val="000000"/>
                </a:solidFill>
                <a:latin typeface="Times New Roman"/>
              </a:rPr>
              <a:t>root</a:t>
            </a:r>
            <a:r>
              <a:rPr b="0" lang="ja-JP" sz="1200" spc="-1" strike="noStrike">
                <a:solidFill>
                  <a:srgbClr val="000000"/>
                </a:solidFill>
                <a:latin typeface="Times New Roman"/>
              </a:rPr>
              <a:t>”</a:t>
            </a:r>
            <a:r>
              <a:rPr b="0" lang="en-US" sz="1200" spc="-1" strike="noStrike">
                <a:solidFill>
                  <a:srgbClr val="000000"/>
                </a:solidFill>
                <a:latin typeface="Times New Roman"/>
              </a:rPr>
              <a: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1637-3256-4F26-9D90-BBA31F1C47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A191-CA9C-417B-BE73-9B09FBE7FD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Or is this debate all about financial advantage? Principles or profits?  Ask students to find analogies, such as toll highways versus freeways, or peak time pricing for electricity. Should trucks be charged a higher fee for the use of highways than autos because they cause greater wear and tear on roads given their weight? In many states, if not all, trucks pay much larger fees due to their destructive effect on highways. </a:t>
            </a: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F7BF-623B-4003-AAFE-A746D4DFF1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looking at the services or applications that the Internet supports. Notice that the Internet comprises many more services than just e-mail and the Web. Ask students which of these services, beyond e-mail and the World Wide Web they have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y think is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D3A9-8BD9-419F-A6AF-08C5C90C45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D172-721B-42B5-A5AB-65D18BC115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EC10-44FE-47FB-AAF7-382EA92A53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or 4G network? What</a:t>
            </a:r>
            <a:r>
              <a:rPr b="0" lang="ja-JP" sz="1200" spc="-1" strike="noStrike">
                <a:solidFill>
                  <a:srgbClr val="000000"/>
                </a:solidFill>
                <a:latin typeface="Times New Roman"/>
              </a:rPr>
              <a:t>’</a:t>
            </a:r>
            <a:r>
              <a:rPr b="0" lang="en-US" sz="1200" spc="-1" strike="noStrike">
                <a:solidFill>
                  <a:srgbClr val="000000"/>
                </a:solidFill>
                <a:latin typeface="Times New Roman"/>
              </a:rPr>
              <a:t>s the difference between a 4G network and Wi-Fi? How many students have seen an RFID tag?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3128-02F2-4206-BABC-03CB75A0B4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 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D9EF-0FE4-47CA-91C7-CA843B34DF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 There’s an old saying which says “People want to be honest, especially when they are watched.” Can employees argue that their behavior while on the job is “private.” Do employees have an expectation of privacy while on the job?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FBD2-CBC1-4D18-B6C6-CE51BB3577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a:t>
            </a:r>
            <a:r>
              <a:rPr b="0" lang="ja-JP" sz="1200" spc="-1" strike="noStrike">
                <a:solidFill>
                  <a:srgbClr val="000000"/>
                </a:solidFill>
                <a:latin typeface="Times New Roman"/>
              </a:rPr>
              <a:t>’</a:t>
            </a:r>
            <a:r>
              <a:rPr b="0" lang="en-US" sz="1200" spc="-1" strike="noStrike">
                <a:solidFill>
                  <a:srgbClr val="000000"/>
                </a:solidFill>
                <a:latin typeface="Times New Roman"/>
              </a:rPr>
              <a:t>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0D47-661F-4828-B948-3FF93716F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and indexed the content of over an estimated 50 billion Web pages in 2011, but this does not include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Other estimates point to “one trillion” Web pages, but many of these are duplicates. Ask students what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is. Web pages are available only to subscribers for a fee (</a:t>
            </a:r>
            <a:r>
              <a:rPr b="0" lang="ja-JP" sz="1200" spc="-1" strike="noStrike">
                <a:solidFill>
                  <a:srgbClr val="000000"/>
                </a:solidFill>
                <a:latin typeface="Times New Roman"/>
              </a:rPr>
              <a:t>“</a:t>
            </a:r>
            <a:r>
              <a:rPr b="0" lang="en-US" sz="1200" spc="-1" strike="noStrike">
                <a:solidFill>
                  <a:srgbClr val="000000"/>
                </a:solidFill>
                <a:latin typeface="Times New Roman"/>
              </a:rPr>
              <a:t>premium content</a:t>
            </a:r>
            <a:r>
              <a:rPr b="0" lang="ja-JP" sz="1200" spc="-1" strike="noStrike">
                <a:solidFill>
                  <a:srgbClr val="000000"/>
                </a:solidFill>
                <a:latin typeface="Times New Roman"/>
              </a:rPr>
              <a:t>”</a:t>
            </a:r>
            <a:r>
              <a:rPr b="0" lang="en-US" sz="1200" spc="-1" strike="noStrike">
                <a:solidFill>
                  <a:srgbClr val="000000"/>
                </a:solidFill>
                <a:latin typeface="Times New Roman"/>
              </a:rPr>
              <a: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32AA-3466-4908-A08A-DAB88B8B63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results or does it involve other factors such as their clean interface, or their reach, which makes their ad platform more valuable to advertisers. Poll your class about the search engines they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CABA-0165-491B-80D4-5ED2CEEF4F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a very high level diagram how Google works. At the foundation of Google</a:t>
            </a:r>
            <a:r>
              <a:rPr b="0" lang="ja-JP" sz="1200" spc="-1" strike="noStrike">
                <a:solidFill>
                  <a:srgbClr val="000000"/>
                </a:solidFill>
                <a:latin typeface="Times New Roman"/>
              </a:rPr>
              <a:t>’</a:t>
            </a:r>
            <a:r>
              <a:rPr b="0" lang="en-US" sz="1200" spc="-1" strike="noStrike">
                <a:solidFill>
                  <a:srgbClr val="000000"/>
                </a:solidFill>
                <a:latin typeface="Times New Roman"/>
              </a:rPr>
              <a:t>s search engine are two concepts—page ranking and the indexing of combinations of words. Ask students if they have a favorite search engine, and if so, why that search is their favorite. The reality of how Google actually works is the subject of many volumes, and is beyond the scope of this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33BC-1BA9-4358-9291-AE220134B2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1E52-8FCF-4643-BAC6-A73EFA172C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BC9C-EA41-4641-96F9-9F495D7EED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t>
            </a:r>
            <a:r>
              <a:rPr b="0" lang="ja-JP" sz="1200" spc="-1" strike="noStrike">
                <a:solidFill>
                  <a:srgbClr val="000000"/>
                </a:solidFill>
                <a:latin typeface="Times New Roman"/>
              </a:rPr>
              <a:t>“</a:t>
            </a:r>
            <a:r>
              <a:rPr b="0" lang="en-US" sz="1200" spc="-1" strike="noStrike">
                <a:solidFill>
                  <a:srgbClr val="000000"/>
                </a:solidFill>
                <a:latin typeface="Times New Roman"/>
              </a:rPr>
              <a:t>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a:t>
            </a:r>
            <a:r>
              <a:rPr b="0" lang="ja-JP" sz="1200" spc="-1" strike="noStrike">
                <a:solidFill>
                  <a:srgbClr val="000000"/>
                </a:solidFill>
                <a:latin typeface="Times New Roman"/>
              </a:rPr>
              <a:t>”</a:t>
            </a:r>
            <a:r>
              <a:rPr b="0" lang="en-US" sz="1200" spc="-1" strike="noStrike">
                <a:solidFill>
                  <a:srgbClr val="000000"/>
                </a:solidFill>
                <a:latin typeface="Times New Roman"/>
              </a:rPr>
              <a:t> How many students are using 3G phones? Apple</a:t>
            </a:r>
            <a:r>
              <a:rPr b="0" lang="ja-JP" sz="1200" spc="-1" strike="noStrike">
                <a:solidFill>
                  <a:srgbClr val="000000"/>
                </a:solidFill>
                <a:latin typeface="Times New Roman"/>
              </a:rPr>
              <a:t>’</a:t>
            </a:r>
            <a:r>
              <a:rPr b="0" lang="en-US" sz="1200" spc="-1" strike="noStrike">
                <a:solidFill>
                  <a:srgbClr val="000000"/>
                </a:solidFill>
                <a:latin typeface="Times New Roman"/>
              </a:rPr>
              <a:t>s newest iPhone uses a 3G network. Do users notic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1624-FBDC-41F2-8CA0-59BDCDD89A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such as keyboards, earphones, or other.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17BA-D053-40D5-9485-503F07D4E5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AE68-62CD-412D-8C93-8842C70B06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944F-B767-41AB-9C57-B48F216DA2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3BAF-3AD1-41D4-888B-EB382B6371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7DE3-8582-4D88-B004-855196F895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65C5-1484-4924-8E15-83A86593DC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6DDF-79A6-4C77-9BD7-4D30B173AB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EF9B-5524-40B3-882F-F765C21CD5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432C-22AD-4DBB-B023-D623DA2B95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6448-BC6C-499A-AF3A-A0A7FACCD4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s are among the largest industrial structures to build, with hundreds of thousands of parts and sub-assemblies. Coordinating the flow of all these parts and assemblies is a massive task that in the past was slow and prone to error. Using the high-speed digital networks throughout its facility, coupled with a wide variety of software and media devices, Hyundai Heavy Industries has achieved a new level of efficiency in ship production. </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D67B-0620-4849-8301-D7B639EBC3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BE07-B250-42CA-8035-BAB002F666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How many of your students have broadband? Note that in 2000, typical Internet access speeds were 56 kbps over a telephone line, costing 25 cents per kilobit, whereas today broadband speeds are 1 to 5 mbps, costing 1 cent per kilobit (or 10 cents per gigabit).  Are students aware of how fast their Internet connections are at home, school, or work? Ask students if they know the speed of their cell phone</a:t>
            </a:r>
            <a:r>
              <a:rPr b="0" lang="ja-JP" sz="1200" spc="-1" strike="noStrike">
                <a:solidFill>
                  <a:srgbClr val="000000"/>
                </a:solidFill>
                <a:latin typeface="Times New Roman"/>
              </a:rPr>
              <a:t>’</a:t>
            </a:r>
            <a:r>
              <a:rPr b="0" lang="en-US" sz="1200" spc="-1" strike="noStrike">
                <a:solidFill>
                  <a:srgbClr val="000000"/>
                </a:solidFill>
                <a:latin typeface="Times New Roman"/>
              </a:rPr>
              <a:t>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3109-B133-45EE-A2E9-9EF03FEF01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FA04-7224-4C0B-8A61-1917C9C5BA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these are called peer-to-peer network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3BC9-01DC-4939-AB38-B715B7CDBC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3E96FD66-8169-43FB-AF37-F601DC65736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2"/>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2:27Z</dcterms:modified>
  <cp:revision>607</cp:revision>
  <dc:subject/>
  <dc:title>PowerPoint Presentation</dc:title>
</cp:coreProperties>
</file>