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4827F4-97F8-4D4E-8D33-BCC332EA99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FFE828-EFD9-4E69-A0EB-1589E8469D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wo video case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987E90-6617-4431-A597-761C1BE689D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03D289-BAAF-49AD-8A63-9255D26D23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09B8E4-D250-4D98-B6AA-FA08CF9B086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the unique features of the Internet and e-commerce. Ask students what the effects are of the four features listed on this and following slid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teractivity: consumers engaged in dialog that dynamically adjusts experience to the individual. Consumer becomes co-participant in process of delivering goods to marke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ormation density: greater price transparency. Greater cost transparency. Enables merchants to engage in price discrimination.</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ization/Customization: personalized messages can be sent to individuals as well as groups. Products and services can be customized to individual preferenc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cial technology: 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10EC83-070A-4099-879E-20867C6186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2DBE36-5C31-4DD1-A1F0-2BBFEA3203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5E5E73-6203-4F70-9A16-7D95CDBB26A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6F1446-3FC6-46B0-84E3-522AE24479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enu costs: merchants</a:t>
            </a:r>
            <a:r>
              <a:rPr b="0" lang="ja-JP" sz="1200" spc="-1" strike="noStrike">
                <a:solidFill>
                  <a:srgbClr val="000000"/>
                </a:solidFill>
                <a:latin typeface="Times New Roman"/>
              </a:rPr>
              <a:t>’</a:t>
            </a:r>
            <a:r>
              <a:rPr b="0" lang="en-US" sz="1200" spc="-1" strike="noStrike">
                <a:solidFill>
                  <a:srgbClr val="000000"/>
                </a:solidFill>
                <a:latin typeface="Times New Roman"/>
              </a:rPr>
              <a:t>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xample of delayed gra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instance, say that a tween is supposed to be working on a final project for social studies class. Her parents have told her that if she earns all Bs and As in her classes, they'll take her out to dinner at her favorite restaurant. But tonight her favorite TV show is on and she wants to watch it. She knows that if she watches the TV show, her project will suffer. Does she take the immediate reward (watching the show) or does she choose to instead work on the project tonight so that she can get the dinner she wants in the future? This is a question of her ability to handle delay of gra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953FBB-CF85-4F43-8F7A-103276054A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how disintermediation reduces prices to consumers. It also allows manufacturers to earn more profit for the product by eliminating the middle man. Are middle men really necessary? You should ask students who they think is a </a:t>
            </a:r>
            <a:r>
              <a:rPr b="0" lang="ja-JP" sz="1200" spc="-1" strike="noStrike">
                <a:solidFill>
                  <a:srgbClr val="000000"/>
                </a:solidFill>
                <a:latin typeface="Times New Roman"/>
              </a:rPr>
              <a:t>“</a:t>
            </a:r>
            <a:r>
              <a:rPr b="0" lang="en-US" sz="1200" spc="-1" strike="noStrike">
                <a:solidFill>
                  <a:srgbClr val="000000"/>
                </a:solidFill>
                <a:latin typeface="Times New Roman"/>
              </a:rPr>
              <a:t>middle man.</a:t>
            </a:r>
            <a:r>
              <a:rPr b="0" lang="ja-JP" sz="1200" spc="-1" strike="noStrike">
                <a:solidFill>
                  <a:srgbClr val="000000"/>
                </a:solidFill>
                <a:latin typeface="Times New Roman"/>
              </a:rPr>
              <a:t>”</a:t>
            </a:r>
            <a:r>
              <a:rPr b="0" lang="en-US" sz="1200" spc="-1" strike="noStrike">
                <a:solidFill>
                  <a:srgbClr val="000000"/>
                </a:solidFill>
                <a:latin typeface="Times New Roman"/>
              </a:rPr>
              <a:t> Walmart is, for instance, a distributor and retailer. Do they provide an important function? Why can</a:t>
            </a:r>
            <a:r>
              <a:rPr b="0" lang="ja-JP" sz="1200" spc="-1" strike="noStrike">
                <a:solidFill>
                  <a:srgbClr val="000000"/>
                </a:solidFill>
                <a:latin typeface="Times New Roman"/>
              </a:rPr>
              <a:t>’</a:t>
            </a:r>
            <a:r>
              <a:rPr b="0" lang="en-US" sz="1200" spc="-1" strike="noStrike">
                <a:solidFill>
                  <a:srgbClr val="000000"/>
                </a:solidFill>
                <a:latin typeface="Times New Roman"/>
              </a:rPr>
              <a:t>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C41D97-B4B5-4B23-9479-BA451C6EA10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1BD239-2B48-4F13-AD3B-441D0E15AFD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4DF844-47C3-4897-884A-F64F5A7809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3046B7-7DE2-417A-A8F3-C9C9FA2C0E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new Internet business models. Ask students to give examples of these business models. For each model, ask students about their experience, or ask for examples for each model. Ask how these business models create revenue. For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tent provider—r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rtal—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rvice provider—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munity provider (could be Facebook)—revenue: sales of virtual goods, display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3675AD-F07D-47F7-9E70-63C8DB654D1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ach of these companies has extraordinary strengths, and some weaknesses. Walmart</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annual revenues in 2011 are over $400 billion—more than all of consumer e-commerce of all types combined! It also owns over 100 million square feet of retail space in the United States. Amazon has no retail outlets but is the largest Internet retailer and has a very strong online brand. ebay also has a strong brand, but a somewhat confused business model as it moves from an auction site to an online fixed price sell site. </a:t>
            </a: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6B0D72-3FEE-481D-90A0-46CB59B7578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me of the new model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capabilities, such as the social networking sites. Ask students what other site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A8C03F-B664-4A7F-85EB-CC01B841322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3CF42D-5283-4EB6-82C1-2F59A55E260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arch engine marketing (SEM) is a form of Internet marketing that involves the promotion of websites by increasing their visibility in search engine results pages (SERPs) through optimization and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ich Media ad contains images or video and involves some kind of user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Display advertising</a:t>
            </a:r>
            <a:r>
              <a:rPr b="0" lang="en-US" sz="1200" spc="-1" strike="noStrike">
                <a:solidFill>
                  <a:srgbClr val="000000"/>
                </a:solidFill>
                <a:latin typeface="Times New Roman"/>
                <a:ea typeface="Arial"/>
              </a:rPr>
              <a:t> is a type of advertising that typically contains text (i.e., copy), logos, photographs or other images, location maps, and similar items</a:t>
            </a: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90EB39-AD33-4038-BC8C-5FABB2DE78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A53303-4C65-4B3C-9C14-C5ACBA7934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 students think (or do they think) about how advertising networks follow them around the Internet? It</a:t>
            </a:r>
            <a:r>
              <a:rPr b="0" lang="ja-JP" sz="1200" spc="-1" strike="noStrike">
                <a:solidFill>
                  <a:srgbClr val="000000"/>
                </a:solidFill>
                <a:latin typeface="Times New Roman"/>
              </a:rPr>
              <a:t>’</a:t>
            </a:r>
            <a:r>
              <a:rPr b="0" lang="en-US" sz="1200" spc="-1" strike="noStrike">
                <a:solidFill>
                  <a:srgbClr val="000000"/>
                </a:solidFill>
                <a:latin typeface="Times New Roman"/>
              </a:rPr>
              <a: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ubleclick.net is a tracking cookie utilized by Google ads. When you visit a website that has Adsense ads, the Doubleclick cookie is downloaded onto your browser. It then tracks your search preferences and displays ads relevant to your search history</a:t>
            </a:r>
            <a:br>
              <a:rPr sz="1200"/>
            </a:br>
            <a:br>
              <a:rPr sz="1200"/>
            </a:br>
            <a:r>
              <a:rPr b="0" lang="en-US" sz="1200" spc="-1" strike="noStrike">
                <a:solidFill>
                  <a:srgbClr val="000000"/>
                </a:solidFill>
                <a:latin typeface="Times New Roman"/>
                <a:ea typeface="Arial"/>
              </a:rPr>
              <a:t>Read more: http://www.ehow.com/how_10034607_remove-doubleclicknet.html#ixzz2yt1ZieT5</a:t>
            </a: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9D4648-8875-4F4A-BAA5-1341D3CBFB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a:t>
            </a:r>
            <a:r>
              <a:rPr b="0" lang="ja-JP" sz="1200" spc="-1" strike="noStrike">
                <a:solidFill>
                  <a:srgbClr val="000000"/>
                </a:solidFill>
                <a:latin typeface="Times New Roman"/>
              </a:rPr>
              <a:t>’</a:t>
            </a:r>
            <a:r>
              <a:rPr b="0" lang="en-US" sz="1200" spc="-1" strike="noStrike">
                <a:solidFill>
                  <a:srgbClr val="000000"/>
                </a:solidFill>
                <a:latin typeface="Times New Roman"/>
              </a:rPr>
              <a:t>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8118C3-D9EE-4929-80F0-09BFBED621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your class who has a Facebook page. A forest of hands will rise. How many have purchased something while on their Facebook page or clicks routinely on ads? Generally, people do not go to Facebook to buy things and are not clicking on display ads (less than 2% of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Social login</a:t>
            </a:r>
            <a:r>
              <a:rPr b="0" lang="en-US" sz="1200" spc="-1" strike="noStrike">
                <a:solidFill>
                  <a:srgbClr val="000000"/>
                </a:solidFill>
                <a:latin typeface="Times New Roman"/>
                <a:ea typeface="Arial"/>
              </a:rPr>
              <a:t>, also known as </a:t>
            </a:r>
            <a:r>
              <a:rPr b="1" lang="en-US" sz="1200" spc="-1" strike="noStrike">
                <a:solidFill>
                  <a:srgbClr val="000000"/>
                </a:solidFill>
                <a:latin typeface="Times New Roman"/>
                <a:ea typeface="Arial"/>
              </a:rPr>
              <a:t>social sign-in</a:t>
            </a:r>
            <a:r>
              <a:rPr b="0" lang="en-US" sz="1200" spc="-1" strike="noStrike">
                <a:solidFill>
                  <a:srgbClr val="000000"/>
                </a:solidFill>
                <a:latin typeface="Times New Roman"/>
                <a:ea typeface="Arial"/>
              </a:rPr>
              <a:t>, is a form of single sign-on using existing login information from a social networking service such as Facebook, Twitter or Google+ to sign into a third party website in lieu of creating a new login account specifically for that website. It is designed to simplify logins for end users as well as provide more and more reliable demographic information to web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FDD3FA-36C9-40C8-B0DD-C5DC25CB970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F57578-6695-416E-9691-04457A1824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acebook and Google</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1 social network are rapidly growing. Facebook reaches 800 million worldwide, with 200 million in the United States. In the space of its first six months, Google</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1 has attracted an estimated 500,000 subscribers in the United States and possibly 1 million worldw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9CA974-3A51-46E9-9682-E9BAA2589B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cial commerce refers to the use of online digital social networks to promote products and services, even sell products and services. For marketers interested in engaging their customers there probably is no better environment. But companies are finding that old-school methods like e-mail, display ads, and search engines, are still the most cost effective tools for selling goods and services. Click through rates on search ads are five times higher than ads on Face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8F48CB-548A-48A7-9AC8-55FB8B6718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2B e-commerce in 2011 is estimated to be $3 trillion (out of a total B2B trade of $16 trillion). Trade between businesses is very large when compared to B2C commerce. Traditionally, this trade was handled by manual systems, telephone, paper forms, and fax. An early B2B digital technology called EDI automates the flow of information among individual firms using industry standard codes. EDI remains a leading B2B technology, but increasingly firms use more open Internet-based technologies to share information and documents. </a:t>
            </a: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F00865-DED6-4E14-92D3-CB4572ADAC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2DA7A8-4EA2-4DDE-BA00-61B73A9032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ways the Internet and Web technologies have changed B2B e-commerce. One way is in using an extranet to link to the firm</a:t>
            </a:r>
            <a:r>
              <a:rPr b="0" lang="ja-JP" sz="1200" spc="-1" strike="noStrike">
                <a:solidFill>
                  <a:srgbClr val="000000"/>
                </a:solidFill>
                <a:latin typeface="Times New Roman"/>
              </a:rPr>
              <a:t>’</a:t>
            </a:r>
            <a:r>
              <a:rPr b="0" lang="en-US" sz="1200" spc="-1" strike="noStrike">
                <a:solidFill>
                  <a:srgbClr val="000000"/>
                </a:solidFill>
                <a:latin typeface="Times New Roman"/>
              </a:rPr>
              <a:t>s suppliers. The text provides the example of VW Group Supply, which links the Volkswagen Group and its suppliers. VW Group Supply handles 90%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C888D5-8FE1-455E-991B-58BD73A5B5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a private industrial network, and how it can link to both suppliers and distributors. Private industrial networks are owned by the company that uses and creates them. They are </a:t>
            </a:r>
            <a:r>
              <a:rPr b="0" lang="ja-JP" sz="1200" spc="-1" strike="noStrike">
                <a:solidFill>
                  <a:srgbClr val="000000"/>
                </a:solidFill>
                <a:latin typeface="Times New Roman"/>
              </a:rPr>
              <a:t>“</a:t>
            </a:r>
            <a:r>
              <a:rPr b="0" lang="en-US" sz="1200" spc="-1" strike="noStrike">
                <a:solidFill>
                  <a:srgbClr val="000000"/>
                </a:solidFill>
                <a:latin typeface="Times New Roman"/>
              </a:rPr>
              <a:t>private</a:t>
            </a:r>
            <a:r>
              <a:rPr b="0" lang="ja-JP" sz="1200" spc="-1" strike="noStrike">
                <a:solidFill>
                  <a:srgbClr val="000000"/>
                </a:solidFill>
                <a:latin typeface="Times New Roman"/>
              </a:rPr>
              <a:t>”</a:t>
            </a:r>
            <a:r>
              <a:rPr b="0" lang="en-US" sz="1200" spc="-1" strike="noStrike">
                <a:solidFill>
                  <a:srgbClr val="000000"/>
                </a:solidFill>
                <a:latin typeface="Times New Roman"/>
              </a:rPr>
              <a:t>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B8F503-B93D-4A7C-B854-055217E37AD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D43E14-1768-4335-BFA9-F201F951525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a:t>
            </a:r>
            <a:r>
              <a:rPr b="0" lang="ja-JP" sz="1200" spc="-1" strike="noStrike">
                <a:solidFill>
                  <a:srgbClr val="000000"/>
                </a:solidFill>
                <a:latin typeface="Times New Roman"/>
              </a:rPr>
              <a:t>’</a:t>
            </a:r>
            <a:r>
              <a:rPr b="0" lang="en-US" sz="1200" spc="-1" strike="noStrike">
                <a:solidFill>
                  <a:srgbClr val="000000"/>
                </a:solidFill>
                <a:latin typeface="Times New Roman"/>
              </a:rPr>
              <a:t>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300D9A-A1D7-4183-9B8E-809B4288022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ways the Internet and Web technologies have changed B2B e-commerce, in this case by the ability to create exchanges. The text provides the example of GoToPaper which creates a spot market for paper products in 75 countries. </a:t>
            </a: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9E37F3-279E-4E53-AC44-52B79A3524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introduces m-commerce, the use of wireless mobile devices for purchasing goods and services. M-commerce is especially well-suited for location-based applications and services. Ask students what applications and services they use with their cell 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3E9E4C-3162-44B2-8678-46F567C2A84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Groupon is the largest social shopping site on the Internet directed at local shoppers and merchants. Its closest competitor is LivingSocial.com. Groupon has an estimate 25 million subscribers and sends out an e-mail to everyone nearly every day. So far Groupon has not reported a profit. Groupon went public in November 2011 at $26 a share. In early 2012 it is selling at $22 a share. </a:t>
            </a: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BB3EDD-9864-453C-B4B0-DF37D13D9C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 illustrates the surging growth of m-commerce sales from today to 2016.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How many have used a smartphone app to compare prices while shopping a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A7319E-B24D-4339-A41E-DB093C58E9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a:t>
            </a:r>
            <a:r>
              <a:rPr b="0" lang="ja-JP" sz="1200" spc="-1" strike="noStrike">
                <a:solidFill>
                  <a:srgbClr val="000000"/>
                </a:solidFill>
                <a:latin typeface="Times New Roman"/>
              </a:rPr>
              <a:t>’</a:t>
            </a:r>
            <a:r>
              <a:rPr b="0" lang="en-US" sz="1200" spc="-1" strike="noStrike">
                <a:solidFill>
                  <a:srgbClr val="000000"/>
                </a:solidFill>
                <a:latin typeface="Times New Roman"/>
              </a:rPr>
              <a:t>s that? If you don</a:t>
            </a:r>
            <a:r>
              <a:rPr b="0" lang="ja-JP" sz="1200" spc="-1" strike="noStrike">
                <a:solidFill>
                  <a:srgbClr val="000000"/>
                </a:solidFill>
                <a:latin typeface="Times New Roman"/>
              </a:rPr>
              <a:t>’</a:t>
            </a:r>
            <a:r>
              <a:rPr b="0" lang="en-US" sz="1200" spc="-1" strike="noStrike">
                <a:solidFill>
                  <a:srgbClr val="000000"/>
                </a:solidFill>
                <a:latin typeface="Times New Roman"/>
              </a:rPr>
              <a:t>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FC45AC-15FC-479B-BF66-8C2AA2F3E9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5159B7-AD8F-4F0E-BE82-F66384ACD2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s best for a single individual with little technical experience?</a:t>
            </a:r>
            <a:br>
              <a:rPr sz="1200"/>
            </a:br>
            <a:r>
              <a:rPr b="0" lang="en-US" sz="1200" spc="-1" strike="noStrike">
                <a:solidFill>
                  <a:srgbClr val="000000"/>
                </a:solidFill>
                <a:latin typeface="Times New Roman"/>
                <a:ea typeface="Arial"/>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A855DC-B701-4C8F-8EF6-385CD06FF89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15959A-3631-4D5F-AAFF-515E5CB1F5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366462-1C54-4641-8271-2DBF020946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unclear if Groupon</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business model is sustainable for local merchants. </a:t>
            </a: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17298-5C15-4C84-8426-56C0F785C2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DC1A45-B258-4A11-94F6-6C1FCD415EC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discusses what e-commerce is, and what the state of e-commerce is today. The text states that e-commerce history mirrors those of other technology innovations. What other innovations is e-commerce similar to? Students probably will not know about the early days of radio and TV, but perhaps they will remember cassette music, VHS video tapes, and even CDs and DVDs which, though still with us, are definitely declining in sales. The book discusses new trends in e-commerce. Ask the students to work with you to list some of these new trends in e-comme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70D40C-4EB7-49E4-A295-BEF125D870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continuing growth of e-commerce. The Growth of E-Commerce Retail e-commerce revenues grew 15–25% a year until the recession of 2008–2009, when they slowed measurably to a small positive number around 3% in 2009. This was much better than traditional retail commerce which actually shrank in this recession. In 2011-2012, e-commerce revenues are growing again at an estimated 10% annual clip. Growth in traditional retail commerce stores is very slow, at or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F37DD0-D996-4830-A4D4-F617B7C861A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a:t>
            </a:r>
            <a:r>
              <a:rPr b="0" lang="ja-JP" sz="1200" spc="-1" strike="noStrike">
                <a:solidFill>
                  <a:srgbClr val="000000"/>
                </a:solidFill>
                <a:latin typeface="Times New Roman"/>
              </a:rPr>
              <a:t>“</a:t>
            </a:r>
            <a:r>
              <a:rPr b="0" lang="en-US" sz="1200" spc="-1" strike="noStrike">
                <a:solidFill>
                  <a:srgbClr val="000000"/>
                </a:solidFill>
                <a:latin typeface="Times New Roman"/>
              </a:rPr>
              <a:t>marketspace.</a:t>
            </a:r>
            <a:r>
              <a:rPr b="0" lang="ja-JP" sz="1200" spc="-1" strike="noStrike">
                <a:solidFill>
                  <a:srgbClr val="000000"/>
                </a:solidFill>
                <a:latin typeface="Times New Roman"/>
              </a:rPr>
              <a:t>”</a:t>
            </a:r>
            <a:r>
              <a:rPr b="0" lang="en-US" sz="1200" spc="-1" strike="noStrike">
                <a:solidFill>
                  <a:srgbClr val="000000"/>
                </a:solidFill>
                <a:latin typeface="Times New Roman"/>
              </a:rPr>
              <a:t> Enhanced customer convenience and reduced shopping cos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a:t>
            </a:r>
            <a:r>
              <a:rPr b="0" lang="ja-JP" sz="1200" spc="-1" strike="noStrike">
                <a:solidFill>
                  <a:srgbClr val="000000"/>
                </a:solidFill>
                <a:latin typeface="Times New Roman"/>
              </a:rPr>
              <a:t>’</a:t>
            </a:r>
            <a:r>
              <a:rPr b="0" lang="en-US" sz="1200" spc="-1" strike="noStrike">
                <a:solidFill>
                  <a:srgbClr val="000000"/>
                </a:solidFill>
                <a:latin typeface="Times New Roman"/>
              </a:rPr>
              <a:t> search costs—effort required to find suitable produc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87BE4E-357E-49F4-9D3B-6C756A5BC2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EF4ACFC8-1ADD-42D6-9F33-A6E5B3E5F2E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ower consumers</a:t>
            </a:r>
            <a:r>
              <a:rPr b="1" lang="ja-JP" sz="2400" spc="-1" strike="noStrike">
                <a:solidFill>
                  <a:srgbClr val="000000"/>
                </a:solidFill>
                <a:latin typeface="Arial"/>
                <a:ea typeface="MS PGothic"/>
              </a:rPr>
              <a:t>’</a:t>
            </a:r>
            <a:r>
              <a:rPr b="1" lang="en-US" sz="2400" spc="-1" strike="noStrike">
                <a:solidFill>
                  <a:srgbClr val="000000"/>
                </a:solidFill>
                <a:latin typeface="Arial"/>
                <a:ea typeface="MS PGothic"/>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ization/Customization</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echnology permits modification of messages, goods</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ffect:</a:t>
            </a:r>
            <a:endParaRPr b="0" lang="en-US" sz="2000" spc="-1" strike="noStrike">
              <a:solidFill>
                <a:srgbClr val="000000"/>
              </a:solidFill>
              <a:latin typeface="Arial"/>
            </a:endParaRPr>
          </a:p>
          <a:p>
            <a:pPr lvl="2" marL="1257480" indent="-34308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ersonalized messages can be sent to individuals as well as groups</a:t>
            </a:r>
            <a:endParaRPr b="0" lang="en-US" sz="2000" spc="-1" strike="noStrike">
              <a:solidFill>
                <a:srgbClr val="000000"/>
              </a:solidFill>
              <a:latin typeface="Arial"/>
            </a:endParaRPr>
          </a:p>
          <a:p>
            <a:pPr lvl="3" marL="1714680" indent="-343080">
              <a:lnSpc>
                <a:spcPct val="100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eb personalization</a:t>
            </a:r>
            <a:r>
              <a:rPr b="0" lang="en-US" sz="1400" spc="-1" strike="noStrike">
                <a:solidFill>
                  <a:srgbClr val="000000"/>
                </a:solidFill>
                <a:latin typeface="Arial"/>
                <a:ea typeface="MS PGothic"/>
              </a:rPr>
              <a:t> is delivering different and unique content to each individual customer based on the customer's interests. It's your own version of the web site, </a:t>
            </a:r>
            <a:r>
              <a:rPr b="1" lang="en-US" sz="1400" spc="-1" strike="noStrike">
                <a:solidFill>
                  <a:srgbClr val="000000"/>
                </a:solidFill>
                <a:latin typeface="Arial"/>
                <a:ea typeface="MS PGothic"/>
              </a:rPr>
              <a:t>a site just for you.</a:t>
            </a:r>
            <a:endParaRPr b="0" lang="en-US" sz="1400" spc="-1" strike="noStrike">
              <a:solidFill>
                <a:srgbClr val="000000"/>
              </a:solidFill>
              <a:latin typeface="Arial"/>
            </a:endParaRPr>
          </a:p>
          <a:p>
            <a:pPr lvl="3" marL="1714680" indent="-343080">
              <a:lnSpc>
                <a:spcPct val="100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Amazon.com </a:t>
            </a:r>
            <a:r>
              <a:rPr b="0" lang="en-US" sz="1400" spc="-1" strike="noStrike">
                <a:solidFill>
                  <a:srgbClr val="000000"/>
                </a:solidFill>
                <a:latin typeface="Arial"/>
                <a:ea typeface="MS PGothic"/>
              </a:rPr>
              <a:t>is an example of personalization where the latter learns your interests and adapts to your needs</a:t>
            </a:r>
            <a:endParaRPr b="0" lang="en-US" sz="1400" spc="-1" strike="noStrike">
              <a:solidFill>
                <a:srgbClr val="000000"/>
              </a:solidFill>
              <a:latin typeface="Arial"/>
            </a:endParaRPr>
          </a:p>
          <a:p>
            <a:pPr lvl="2" marL="1257480" indent="-34308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oducts and services can be customized to individual preferences</a:t>
            </a:r>
            <a:endParaRPr b="0" lang="en-US" sz="2000" spc="-1" strike="noStrike">
              <a:solidFill>
                <a:srgbClr val="000000"/>
              </a:solidFill>
              <a:latin typeface="Arial"/>
            </a:endParaRPr>
          </a:p>
          <a:p>
            <a:pPr lvl="3" marL="1714680" indent="-343080">
              <a:lnSpc>
                <a:spcPct val="100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y Yahoo</a:t>
            </a:r>
            <a:r>
              <a:rPr b="0" lang="en-US" sz="1400" spc="-1" strike="noStrike">
                <a:solidFill>
                  <a:srgbClr val="000000"/>
                </a:solidFill>
                <a:latin typeface="Arial"/>
                <a:ea typeface="MS PGothic"/>
              </a:rPr>
              <a:t> is an example of customization where you tell the site what you want</a:t>
            </a:r>
            <a:endParaRPr b="0" lang="en-US" sz="1400" spc="-1" strike="noStrike">
              <a:solidFill>
                <a:srgbClr val="000000"/>
              </a:solidFill>
              <a:latin typeface="Arial"/>
            </a:endParaRPr>
          </a:p>
          <a:p>
            <a:pPr lvl="3" marL="1714680" indent="-34308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New Internet social and business models enable user content creation and distribution, and support social networ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0574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market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Decreased</a:t>
            </a:r>
            <a:r>
              <a:rPr b="1" lang="en-US" sz="1400" spc="-1" strike="noStrike">
                <a:solidFill>
                  <a:srgbClr val="000000"/>
                </a:solidFill>
                <a:latin typeface="Arial"/>
                <a:ea typeface="MS PGothic"/>
              </a:rPr>
              <a:t> information asymmetry</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Reduced</a:t>
            </a:r>
            <a:r>
              <a:rPr b="1" lang="en-US" sz="1400" spc="-1" strike="noStrike">
                <a:solidFill>
                  <a:srgbClr val="000000"/>
                </a:solidFill>
                <a:latin typeface="Arial"/>
                <a:ea typeface="MS PGothic"/>
              </a:rPr>
              <a:t> search costs </a:t>
            </a:r>
            <a:r>
              <a:rPr b="0" lang="en-US" sz="1400" spc="-1" strike="noStrike">
                <a:solidFill>
                  <a:srgbClr val="000000"/>
                </a:solidFill>
                <a:latin typeface="Arial"/>
                <a:ea typeface="MS PGothic"/>
              </a:rPr>
              <a:t>and </a:t>
            </a:r>
            <a:r>
              <a:rPr b="1" lang="en-US" sz="1400" spc="-1" strike="noStrike">
                <a:solidFill>
                  <a:srgbClr val="000000"/>
                </a:solidFill>
                <a:latin typeface="Arial"/>
                <a:ea typeface="MS PGothic"/>
              </a:rPr>
              <a:t>transaction costs</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Delayed gratification: </a:t>
            </a:r>
            <a:r>
              <a:rPr b="0" lang="en-US" sz="1400" spc="-1" strike="noStrike">
                <a:solidFill>
                  <a:srgbClr val="000000"/>
                </a:solidFill>
                <a:latin typeface="Arial"/>
                <a:ea typeface="MS PGothic"/>
              </a:rPr>
              <a:t>effects</a:t>
            </a:r>
            <a:r>
              <a:rPr b="1" lang="en-US" sz="1400" spc="-1" strike="noStrike">
                <a:solidFill>
                  <a:srgbClr val="000000"/>
                </a:solidFill>
                <a:latin typeface="Arial"/>
                <a:ea typeface="MS PGothic"/>
              </a:rPr>
              <a:t> </a:t>
            </a:r>
            <a:r>
              <a:rPr b="0" lang="en-US" sz="1400" spc="-1" strike="noStrike">
                <a:solidFill>
                  <a:srgbClr val="000000"/>
                </a:solidFill>
                <a:latin typeface="Arial"/>
                <a:ea typeface="MS PGothic"/>
              </a:rPr>
              <a:t>dependent on product</a:t>
            </a:r>
            <a:endParaRPr b="0" lang="en-US" sz="1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fers to the ability to put off the receipt of a reward in order to gain a better reward later</a:t>
            </a:r>
            <a:endParaRPr b="0" lang="en-US" sz="1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Reduced</a:t>
            </a:r>
            <a:r>
              <a:rPr b="1" lang="en-US" sz="1400" spc="-1" strike="noStrike">
                <a:solidFill>
                  <a:srgbClr val="000000"/>
                </a:solidFill>
                <a:latin typeface="Arial"/>
                <a:ea typeface="MS PGothic"/>
              </a:rPr>
              <a:t> menu costs</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creased</a:t>
            </a:r>
            <a:r>
              <a:rPr b="1" lang="en-US" sz="1400" spc="-1" strike="noStrike">
                <a:solidFill>
                  <a:srgbClr val="000000"/>
                </a:solidFill>
                <a:latin typeface="Arial"/>
                <a:ea typeface="MS PGothic"/>
              </a:rPr>
              <a:t> dynamic pricing</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creased </a:t>
            </a:r>
            <a:r>
              <a:rPr b="1" lang="en-US" sz="1400" spc="-1" strike="noStrike">
                <a:solidFill>
                  <a:srgbClr val="000000"/>
                </a:solidFill>
                <a:latin typeface="Arial"/>
                <a:ea typeface="MS PGothic"/>
              </a:rPr>
              <a:t>price discrimination</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creased </a:t>
            </a:r>
            <a:r>
              <a:rPr b="1" lang="en-US" sz="1400" spc="-1" strike="noStrike">
                <a:solidFill>
                  <a:srgbClr val="000000"/>
                </a:solidFill>
                <a:latin typeface="Arial"/>
                <a:ea typeface="MS PGothic"/>
              </a:rPr>
              <a:t>market segmentation</a:t>
            </a:r>
            <a:endParaRPr b="0" lang="en-US" sz="1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viding target market into subsets of consumers who have common needs and priorities, and then designing and implementing strategies to target them</a:t>
            </a:r>
            <a:endParaRPr b="0" lang="en-US" sz="1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witching costs: </a:t>
            </a:r>
            <a:r>
              <a:rPr b="0" lang="en-US" sz="1400" spc="-1" strike="noStrike">
                <a:solidFill>
                  <a:srgbClr val="000000"/>
                </a:solidFill>
                <a:latin typeface="Arial"/>
                <a:ea typeface="MS PGothic"/>
              </a:rPr>
              <a:t>effects</a:t>
            </a:r>
            <a:r>
              <a:rPr b="1" lang="en-US" sz="1400" spc="-1" strike="noStrike">
                <a:solidFill>
                  <a:srgbClr val="000000"/>
                </a:solidFill>
                <a:latin typeface="Arial"/>
                <a:ea typeface="MS PGothic"/>
              </a:rPr>
              <a:t> </a:t>
            </a:r>
            <a:r>
              <a:rPr b="0" lang="en-US" sz="1400" spc="-1" strike="noStrike">
                <a:solidFill>
                  <a:srgbClr val="000000"/>
                </a:solidFill>
                <a:latin typeface="Arial"/>
                <a:ea typeface="MS PGothic"/>
              </a:rPr>
              <a:t>dependent on product</a:t>
            </a:r>
            <a:endParaRPr b="0" lang="en-US" sz="1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 many markets, consumers are forced to incur costs when switching from one supplier to another</a:t>
            </a:r>
            <a:endParaRPr b="0" lang="en-US" sz="1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tronger</a:t>
            </a:r>
            <a:r>
              <a:rPr b="1" lang="en-US" sz="1400" spc="-1" strike="noStrike">
                <a:solidFill>
                  <a:srgbClr val="000000"/>
                </a:solidFill>
                <a:latin typeface="Arial"/>
                <a:ea typeface="MS PGothic"/>
              </a:rPr>
              <a:t> network effects</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re</a:t>
            </a:r>
            <a:r>
              <a:rPr b="1" lang="en-US" sz="1400" spc="-1" strike="noStrike">
                <a:solidFill>
                  <a:srgbClr val="000000"/>
                </a:solidFill>
                <a:latin typeface="Arial"/>
                <a:ea typeface="MS PGothic"/>
              </a:rPr>
              <a:t> disintermediation</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1"/>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ndustries with digital goods are undergoing revolutionary changes</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1337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ail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a retailer selling goods via electronic transactions on the Internet</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provid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g. ITunes (provides content to customer Such as news ,videos –revenue : advertising</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brok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ho acts as the middle guy such as PayPal </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creator</a:t>
            </a:r>
            <a:endParaRPr b="0" lang="en-US" sz="16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provid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rovides services such as videos sharing such as YouTube ,goggle maps</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provid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rovides an online meeting place where people with similar interests can communicate and fined useful information such as LinkedIn </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ebsite that provide link to others websites such as Yahoo</a:t>
            </a:r>
            <a:endParaRPr b="0" lang="en-US" sz="1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bscription</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Freemium</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 fee </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filiate</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ay for a company to sell its products by signing up individuals or companies ("affiliates") who market the company's products for a commission </a:t>
            </a:r>
            <a:endParaRPr b="0" lang="en-US" sz="1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d, and e-mail</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1"/>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5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9" name="Picture 7" descr="Ess10_Fig-09-05.tif"/>
          <p:cNvPicPr/>
          <p:nvPr/>
        </p:nvPicPr>
        <p:blipFill>
          <a:blip r:embed="rId1"/>
          <a:stretch/>
        </p:blipFill>
        <p:spPr>
          <a:xfrm>
            <a:off x="2286000" y="2133720"/>
            <a:ext cx="6581880" cy="4241520"/>
          </a:xfrm>
          <a:prstGeom prst="rect">
            <a:avLst/>
          </a:prstGeom>
          <a:ln w="0">
            <a:noFill/>
          </a:ln>
        </p:spPr>
      </p:pic>
      <p:sp>
        <p:nvSpPr>
          <p:cNvPr id="160"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63"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6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6"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e-commerc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sed on digital social graph</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cial graph is a graph that depicts personal relations of internet users</a:t>
            </a:r>
            <a:endParaRPr b="0" lang="en-US" sz="18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pping of all significant online relationships</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features of social e-commerce driving its growth</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cial sign-on</a:t>
            </a:r>
            <a:endParaRPr b="0" lang="en-US" sz="16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login, also known as social sign-in, is a form of single sign-on using existing login information from a social networking service such as Facebook, Twitter or Google+. </a:t>
            </a:r>
            <a:r>
              <a:rPr b="0" lang="en-US" sz="1400" spc="-1" strike="noStrike">
                <a:solidFill>
                  <a:srgbClr val="000000"/>
                </a:solidFill>
                <a:latin typeface="Arial"/>
                <a:ea typeface="MS PGothic"/>
              </a:rPr>
              <a:t>It is designed to simplify logins for end users</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llaborative shopping: </a:t>
            </a:r>
            <a:r>
              <a:rPr b="0" lang="en-US" sz="1400" spc="-1" strike="noStrike">
                <a:solidFill>
                  <a:srgbClr val="000000"/>
                </a:solidFill>
                <a:latin typeface="Arial"/>
                <a:ea typeface="Times New Roman"/>
              </a:rPr>
              <a:t>shoppers' friends become involved in the shopping experience</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etwork notification</a:t>
            </a:r>
            <a:endParaRPr b="0" lang="en-US" sz="16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cial search (recommendations)</a:t>
            </a:r>
            <a:endParaRPr b="0" lang="en-US" sz="16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a:t>
            </a:r>
            <a:endParaRPr b="0" lang="en-US" sz="2400" spc="-1" strike="noStrike">
              <a:solidFill>
                <a:srgbClr val="000000"/>
              </a:solidFill>
              <a:latin typeface="Arial"/>
            </a:endParaRPr>
          </a:p>
          <a:p>
            <a:pPr lvl="2"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ocial media</a:t>
            </a:r>
            <a:r>
              <a:rPr b="0" lang="en-US" sz="1800" spc="-1" strike="noStrike">
                <a:solidFill>
                  <a:srgbClr val="000000"/>
                </a:solidFill>
                <a:latin typeface="Arial"/>
                <a:ea typeface="MS PGothic"/>
              </a:rPr>
              <a:t> is the interaction among people in which they create, share or exchange information and ideas in virtual communities and networks</a:t>
            </a:r>
            <a:endParaRPr b="0" lang="en-US" sz="1800" spc="-1" strike="noStrike">
              <a:solidFill>
                <a:srgbClr val="000000"/>
              </a:solidFill>
              <a:latin typeface="Arial"/>
            </a:endParaRPr>
          </a:p>
          <a:p>
            <a:pPr lvl="2"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Fastest growing media for branding and marketing</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Network Marketing: </a:t>
            </a:r>
            <a:endParaRPr b="0" lang="en-US" sz="20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eks to leverage individuals influence over others in social graph</a:t>
            </a:r>
            <a:endParaRPr b="0" lang="en-US" sz="18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rget is a social network of people sharing interests and advice</a:t>
            </a:r>
            <a:endParaRPr b="0" lang="en-US" sz="1800" spc="-1" strike="noStrike">
              <a:solidFill>
                <a:srgbClr val="000000"/>
              </a:solidFill>
              <a:latin typeface="Arial"/>
            </a:endParaRPr>
          </a:p>
          <a:p>
            <a:pPr lvl="3"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cebook’s “Like” button</a:t>
            </a:r>
            <a:endParaRPr b="0" lang="en-US" sz="18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cial networks have huge audiences</a:t>
            </a:r>
            <a:endParaRPr b="0" lang="en-US" sz="18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ebook: 162 million U.S. monthly visitors</a:t>
            </a:r>
            <a:endParaRPr b="0" lang="en-US" sz="18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1"/>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1"/>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ay focus on </a:t>
            </a:r>
            <a:r>
              <a:rPr b="1" lang="en-US" sz="2400" spc="-1" strike="noStrike">
                <a:solidFill>
                  <a:srgbClr val="000000"/>
                </a:solidFill>
                <a:latin typeface="Arial"/>
                <a:ea typeface="MS PGothic"/>
              </a:rPr>
              <a:t>direct</a:t>
            </a:r>
            <a:r>
              <a:rPr b="0" lang="en-US" sz="2400" spc="-1" strike="noStrike">
                <a:solidFill>
                  <a:srgbClr val="000000"/>
                </a:solidFill>
                <a:latin typeface="Arial"/>
                <a:ea typeface="MS PGothic"/>
              </a:rPr>
              <a:t> or </a:t>
            </a:r>
            <a:r>
              <a:rPr b="1" lang="en-US" sz="2400" spc="-1" strike="noStrike">
                <a:solidFill>
                  <a:srgbClr val="000000"/>
                </a:solidFill>
                <a:latin typeface="Arial"/>
                <a:ea typeface="MS PGothic"/>
              </a:rPr>
              <a:t>indirect</a:t>
            </a:r>
            <a:r>
              <a:rPr b="0" lang="en-US" sz="2400" spc="-1" strike="noStrike">
                <a:solidFill>
                  <a:srgbClr val="000000"/>
                </a:solidFill>
                <a:latin typeface="Arial"/>
                <a:ea typeface="MS PGothic"/>
              </a:rPr>
              <a:t> </a:t>
            </a:r>
            <a:r>
              <a:rPr b="1" lang="en-US" sz="2400" spc="-1" strike="noStrike">
                <a:solidFill>
                  <a:srgbClr val="000000"/>
                </a:solidFill>
                <a:latin typeface="Arial"/>
                <a:ea typeface="MS PGothic"/>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1"/>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1"/>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1"/>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1"/>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53:22Z</dcterms:modified>
  <cp:revision>7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