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026DC6-B7F3-4AAC-AB62-B2D0BC1525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947D5A-080F-4384-A5BE-0BDDFB59CF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01D0CD-41DE-40D5-9B5C-DF47650317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1C858D-B4C9-45E6-B53B-921D2B895C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71CC62-1E9B-4E19-B62E-EA297F09D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 Ask students what the effects are of the four features listed on this and following slid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ity: consumers engaged in dialog that dynamically adjusts experience to the individual. Consumer becomes co-participant in process of delivering goods to marke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density: greater price transparency. Greater cost transparency. Enables merchants to engage in price discrimination.</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Customization: personalized messages can be sent to individuals as well as groups. Products and services can be customized to individual preferenc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6133C0-241E-4A22-B5CB-A29F2A38F8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DA4923-39A9-4EC1-87B3-F180D6F148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A9AE80-54DC-4391-99AA-41B77EE319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5F4C85-D3F2-4E75-8A90-4F8563B5A8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a:t>
            </a:r>
            <a:r>
              <a:rPr b="0" lang="ja-JP" sz="1200" spc="-1" strike="noStrike">
                <a:solidFill>
                  <a:srgbClr val="000000"/>
                </a:solidFill>
                <a:latin typeface="Times New Roman"/>
              </a:rPr>
              <a:t>’</a:t>
            </a:r>
            <a:r>
              <a:rPr b="0" lang="en-US" sz="1200" spc="-1" strike="noStrike">
                <a:solidFill>
                  <a:srgbClr val="000000"/>
                </a:solidFill>
                <a:latin typeface="Times New Roman"/>
              </a:rPr>
              <a:t>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D4A64F-1CD6-491E-88C7-6883946BBA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a:t>
            </a:r>
            <a:r>
              <a:rPr b="0" lang="ja-JP" sz="1200" spc="-1" strike="noStrike">
                <a:solidFill>
                  <a:srgbClr val="000000"/>
                </a:solidFill>
                <a:latin typeface="Times New Roman"/>
              </a:rPr>
              <a:t>“</a:t>
            </a:r>
            <a:r>
              <a:rPr b="0" lang="en-US" sz="1200" spc="-1" strike="noStrike">
                <a:solidFill>
                  <a:srgbClr val="000000"/>
                </a:solidFill>
                <a:latin typeface="Times New Roman"/>
              </a:rPr>
              <a:t>middle man.</a:t>
            </a:r>
            <a:r>
              <a:rPr b="0" lang="ja-JP" sz="1200" spc="-1" strike="noStrike">
                <a:solidFill>
                  <a:srgbClr val="000000"/>
                </a:solidFill>
                <a:latin typeface="Times New Roman"/>
              </a:rPr>
              <a:t>”</a:t>
            </a:r>
            <a:r>
              <a:rPr b="0" lang="en-US" sz="1200" spc="-1" strike="noStrike">
                <a:solidFill>
                  <a:srgbClr val="000000"/>
                </a:solidFill>
                <a:latin typeface="Times New Roman"/>
              </a:rPr>
              <a:t> Walmart is, for instance, a distributor and retailer. Do they provide an important function? Why can</a:t>
            </a:r>
            <a:r>
              <a:rPr b="0" lang="ja-JP" sz="1200" spc="-1" strike="noStrike">
                <a:solidFill>
                  <a:srgbClr val="000000"/>
                </a:solidFill>
                <a:latin typeface="Times New Roman"/>
              </a:rPr>
              <a:t>’</a:t>
            </a:r>
            <a:r>
              <a:rPr b="0" lang="en-US" sz="1200" spc="-1" strike="noStrike">
                <a:solidFill>
                  <a:srgbClr val="000000"/>
                </a:solidFill>
                <a:latin typeface="Times New Roman"/>
              </a:rPr>
              <a:t>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017033-BEA2-4DD7-A097-6924ECCC3C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825650-635B-47C5-9804-4E98DAC44E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A12C40-A0DA-4773-B6F8-9DD3B6BE85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4B1D87-D3E7-4CDD-9817-4C7EBF2B1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r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provider (could be Facebook)—revenue: sales of virtual goods, display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68E9E9-F904-4B4B-8031-5CB5456C65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companies has extraordinary strengths, and some weaknesses. Walmart’s annual revenues in 2011 are over $400 billion—more than all of consumer e-commerce of all types combined! It also owns over 100 million square feet of retail space in the United States. Amazon has no retail outlets but is the largest Internet retailer and has a very strong online brand. ebay also has a strong brand, but a somewhat confused business model as it moves from an auction site to an online fixed price sell site. </a:t>
            </a: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EFC483-897E-4439-B0A8-8F04087615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capabilities, such as the social networking sites. Ask students what other site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B0BA5-4301-4920-A901-82157848DD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691681-B862-4899-B93D-4AEA74C330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DD039F-6568-4EFC-8B39-135C4A2DFF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150D7A-47D6-4D1A-A88D-C6E0464CAE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a:t>
            </a:r>
            <a:r>
              <a:rPr b="0" lang="ja-JP" sz="1200" spc="-1" strike="noStrike">
                <a:solidFill>
                  <a:srgbClr val="000000"/>
                </a:solidFill>
                <a:latin typeface="Times New Roman"/>
              </a:rPr>
              <a:t>’</a:t>
            </a:r>
            <a:r>
              <a:rPr b="0" lang="en-US" sz="1200" spc="-1" strike="noStrike">
                <a:solidFill>
                  <a:srgbClr val="000000"/>
                </a:solidFill>
                <a:latin typeface="Times New Roman"/>
              </a:rPr>
              <a:t>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1DAA61-7AC1-41B0-9463-FC354EC0A2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a:t>
            </a:r>
            <a:r>
              <a:rPr b="0" lang="ja-JP" sz="1200" spc="-1" strike="noStrike">
                <a:solidFill>
                  <a:srgbClr val="000000"/>
                </a:solidFill>
                <a:latin typeface="Times New Roman"/>
              </a:rPr>
              <a:t>’</a:t>
            </a:r>
            <a:r>
              <a:rPr b="0" lang="en-US" sz="1200" spc="-1" strike="noStrike">
                <a:solidFill>
                  <a:srgbClr val="000000"/>
                </a:solidFill>
                <a:latin typeface="Times New Roman"/>
              </a:rPr>
              <a: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752F00-85AC-4237-B183-A61B4C62FA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class who has a Facebook page. A forest of hands will rise. How many have purchased something while on their Facebook page or clicks routinely on ads? Generally, people do not go to Facebook to buy things and are not clicking on display ads (less than 2% of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A74B6E-FB90-4D2A-8154-7BEA89DBDB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B948DD-F48D-4695-8F0C-51106232DD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book and Google’s +1 social network are rapidly growing. Facebook reaches 800 million worldwide, with 200 million in the United States. In the space of its first six months, Google’s +1 has attracted an estimated 500,000 subscribers in the United States and possibly 1 million worldw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8E4D49-7D4D-48DB-B9DA-DC943A2DC1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commerce refers to the use of online digital social networks to promote products and services, even sell products and services. For marketers interested in engaging their customers there probably is no better environment. But companies are finding that old-school methods like e-mail, display ads, and search engines, are still the most cost effective tools for selling goods and services. Click through rates on search ads are five times higher than ads on Face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6B5505-FC07-4079-A717-AF3516F2EF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e-commerce in 2011 is estimated to be $3 trillion (out of a total B2B trade of $16 trillion). Trade between businesses is very large when compared to B2C commerce. Traditionally, this trade was handled by manual systems, telephone, paper forms, and fax. An early B2B digital technology called EDI automates the flow of information among individual firms using industry standard codes. EDI remains a leading B2B technology, but increasingly firms use more open Internet-based technologies to share information and documents. </a:t>
            </a: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28E452-F6EC-4FD9-BFCC-51358C38CA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2BCDFA-912B-4A56-97A6-174A6140B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a:t>
            </a:r>
            <a:r>
              <a:rPr b="0" lang="ja-JP" sz="1200" spc="-1" strike="noStrike">
                <a:solidFill>
                  <a:srgbClr val="000000"/>
                </a:solidFill>
                <a:latin typeface="Times New Roman"/>
              </a:rPr>
              <a:t>’</a:t>
            </a:r>
            <a:r>
              <a:rPr b="0" lang="en-US" sz="1200" spc="-1" strike="noStrike">
                <a:solidFill>
                  <a:srgbClr val="000000"/>
                </a:solidFill>
                <a:latin typeface="Times New Roman"/>
              </a:rPr>
              <a:t>s suppliers. The text provides the example of VW Group Supply, which links the Volkswagen Group and its suppliers. VW Group Supply handles 90%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ED56C0-3D32-44D6-8C72-718A427CD7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a:t>
            </a:r>
            <a:r>
              <a:rPr b="0" lang="ja-JP" sz="1200" spc="-1" strike="noStrike">
                <a:solidFill>
                  <a:srgbClr val="000000"/>
                </a:solidFill>
                <a:latin typeface="Times New Roman"/>
              </a:rPr>
              <a:t>“</a:t>
            </a:r>
            <a:r>
              <a:rPr b="0" lang="en-US" sz="1200" spc="-1" strike="noStrike">
                <a:solidFill>
                  <a:srgbClr val="000000"/>
                </a:solidFill>
                <a:latin typeface="Times New Roman"/>
              </a:rPr>
              <a:t>private</a:t>
            </a:r>
            <a:r>
              <a:rPr b="0" lang="ja-JP" sz="1200" spc="-1" strike="noStrike">
                <a:solidFill>
                  <a:srgbClr val="000000"/>
                </a:solidFill>
                <a:latin typeface="Times New Roman"/>
              </a:rPr>
              <a:t>”</a:t>
            </a:r>
            <a:r>
              <a:rPr b="0" lang="en-US" sz="1200" spc="-1" strike="noStrike">
                <a:solidFill>
                  <a:srgbClr val="000000"/>
                </a:solidFill>
                <a:latin typeface="Times New Roman"/>
              </a:rPr>
              <a:t>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A7F678-E63A-41CA-BB9E-5B12D4CEA3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6A6CD4-696E-4D29-9CE8-9CDAEFD3F8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a:t>
            </a:r>
            <a:r>
              <a:rPr b="0" lang="ja-JP" sz="1200" spc="-1" strike="noStrike">
                <a:solidFill>
                  <a:srgbClr val="000000"/>
                </a:solidFill>
                <a:latin typeface="Times New Roman"/>
              </a:rPr>
              <a:t>’</a:t>
            </a:r>
            <a:r>
              <a:rPr b="0" lang="en-US" sz="1200" spc="-1" strike="noStrike">
                <a:solidFill>
                  <a:srgbClr val="000000"/>
                </a:solidFill>
                <a:latin typeface="Times New Roman"/>
              </a:rPr>
              <a:t>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F9C5F3-89FC-47E8-922C-381360CD83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GoToPaper which creates a spot market for paper products in 75 countries. </a:t>
            </a: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4DD734-F382-4B36-803C-1772EE65B1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 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AB32B4-96BC-4FC8-AB6B-F7D4296C55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on is the largest social shopping site on the Internet directed at local shoppers and merchants. Its closest competitor is LivingSocial.com. Groupon has an estimate 25 million subscribers and sends out an e-mail to everyone nearly every day. So far Groupon has not reported a profit. Groupon went public in November 2011 at $26 a share. In early 2012 it is selling at $22 a share. </a:t>
            </a: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B2E477-D621-4C5C-A166-78E2E8D9FE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from today to 2016.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How many have used a smartphone app to compare prices while shopping a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C0CA94-94A1-47CF-BB83-B4E1911273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a:t>
            </a:r>
            <a:r>
              <a:rPr b="0" lang="ja-JP" sz="1200" spc="-1" strike="noStrike">
                <a:solidFill>
                  <a:srgbClr val="000000"/>
                </a:solidFill>
                <a:latin typeface="Times New Roman"/>
              </a:rPr>
              <a:t>’</a:t>
            </a:r>
            <a:r>
              <a:rPr b="0" lang="en-US" sz="1200" spc="-1" strike="noStrike">
                <a:solidFill>
                  <a:srgbClr val="000000"/>
                </a:solidFill>
                <a:latin typeface="Times New Roman"/>
              </a:rPr>
              <a:t>s that? If you don</a:t>
            </a:r>
            <a:r>
              <a:rPr b="0" lang="ja-JP" sz="1200" spc="-1" strike="noStrike">
                <a:solidFill>
                  <a:srgbClr val="000000"/>
                </a:solidFill>
                <a:latin typeface="Times New Roman"/>
              </a:rPr>
              <a:t>’</a:t>
            </a:r>
            <a:r>
              <a:rPr b="0" lang="en-US" sz="1200" spc="-1" strike="noStrike">
                <a:solidFill>
                  <a:srgbClr val="000000"/>
                </a:solidFill>
                <a:latin typeface="Times New Roman"/>
              </a:rPr>
              <a:t>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EF7AD6-779A-4591-8468-37BCCD9F2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33191-427E-41EE-AE3A-7C7BD0C99F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99C7DC-546D-4948-A20D-58F068821B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097F13-A27F-4C79-A721-34B3EC29B2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905F3F-12FE-42DC-8067-8CFE7A5AFB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clear if Groupon’s business model is sustainable for local merchants. </a:t>
            </a: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05907C-75F1-47F6-ACA3-4A3FEE71FB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881246-B7EC-44FD-81DF-F49D95AF90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irrors those of other technology innovations. What other innovations is e-commerce similar to? Students probably will not know about the early days of radio and TV, but perhaps they will remember cassette music, VHS video tapes, and even CDs and DVDs which, though still with us, are definitely declining in sales. The book discusses new trends in e-commerce. Ask the students to work with you to list some of these new trends in e-comme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19C5A5-EE19-4137-8C0F-3656207899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25% a year until the recession of 2008–2009, when they slowed measurably to a small positive number around 3% in 2009. This was much better than traditional retail commerce which actually shrank in this recession. In 2011-2012, e-commerce revenues are growing again at an estimated 10% annual clip. Growth in traditional retail commerce stores is very slow, at or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6C5863-3DF4-4E20-B708-7DC62AF3ED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a:t>
            </a:r>
            <a:r>
              <a:rPr b="0" lang="ja-JP" sz="1200" spc="-1" strike="noStrike">
                <a:solidFill>
                  <a:srgbClr val="000000"/>
                </a:solidFill>
                <a:latin typeface="Times New Roman"/>
              </a:rPr>
              <a:t>“</a:t>
            </a:r>
            <a:r>
              <a:rPr b="0" lang="en-US" sz="1200" spc="-1" strike="noStrike">
                <a:solidFill>
                  <a:srgbClr val="000000"/>
                </a:solidFill>
                <a:latin typeface="Times New Roman"/>
              </a:rPr>
              <a:t>marketspace.</a:t>
            </a:r>
            <a:r>
              <a:rPr b="0" lang="ja-JP" sz="1200" spc="-1" strike="noStrike">
                <a:solidFill>
                  <a:srgbClr val="000000"/>
                </a:solidFill>
                <a:latin typeface="Times New Roman"/>
              </a:rPr>
              <a:t>”</a:t>
            </a:r>
            <a:r>
              <a:rPr b="0" lang="en-US" sz="1200" spc="-1" strike="noStrike">
                <a:solidFill>
                  <a:srgbClr val="000000"/>
                </a:solidFill>
                <a:latin typeface="Times New Roman"/>
              </a:rPr>
              <a:t> Enhanced customer convenience and reduced shopping cos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a:t>
            </a:r>
            <a:r>
              <a:rPr b="0" lang="ja-JP" sz="1200" spc="-1" strike="noStrike">
                <a:solidFill>
                  <a:srgbClr val="000000"/>
                </a:solidFill>
                <a:latin typeface="Times New Roman"/>
              </a:rPr>
              <a:t>’</a:t>
            </a:r>
            <a:r>
              <a:rPr b="0" lang="en-US" sz="1200" spc="-1" strike="noStrike">
                <a:solidFill>
                  <a:srgbClr val="000000"/>
                </a:solidFill>
                <a:latin typeface="Times New Roman"/>
              </a:rPr>
              <a:t> search costs—effort required to find suitable produc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F97B5F-D6DB-415A-86F7-4B1A9D7DFA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CBFBBF30-0C75-476D-AEB3-CA94029D418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2"/>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2"/>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2"/>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2"/>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2"/>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2"/>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2"/>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2"/>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2"/>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7:09Z</dcterms:modified>
  <cp:revision>770</cp:revision>
  <dc:subject/>
  <dc:title>PowerPoint Presentation</dc:title>
</cp:coreProperties>
</file>