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4CB9-BF48-42C0-AC6D-F7FC934205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ECC7-01E6-4994-BA14-1EA5492AFD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B8D8-A47D-424A-857A-646FC1442A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692B-3EC6-4F05-B29D-0BB1873FD6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7ED5-DF10-4181-B172-EB83482E89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708B-D85B-4005-8FE6-9B0050645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72E6-9AF1-4340-9568-CD64238B8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FC7D-100C-4625-B874-7D2F018601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1A8F-3D2A-4B54-A68C-F1EC96EA8D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66A1-97B5-4FC5-B939-85D54BC6B3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A656-C5A6-4A30-BDF7-2214DCE8D4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BC94-222E-46EA-9825-6778744FA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7093-0395-4306-A739-51FE1EAB43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F0EE-7B43-4E9F-8FE2-FA9DB3C81A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7867-1B48-4943-B9DB-90E414C06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3F1E-9025-46F2-B194-C9A8234CA8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97CB-0866-4A89-9ACE-72BF9C897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511C-1104-478A-B914-3E27749897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43F9-1620-4E4B-9C29-614CB40FE3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1632-6F92-46F5-BEB7-16B909F78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10A8-3F3B-43BD-8D1E-B2444C5DC3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8E79-5772-4801-87F6-303F0D377F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FD58-4DC6-465D-A5AA-612F3A563D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C240-5529-446C-9848-7228D4B61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878D-03C8-4720-B234-EF88F29AA6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7827-78AD-4323-BDD5-DD374EBEF5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1C8E-5015-41F5-B977-561C54704E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7CDF-61B7-47DD-80D7-8646D7D600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2E30-2015-4D39-900B-EFD97E260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59EA-446A-4A61-BE06-4F86C4F8CA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1C11-6AC0-40F9-B524-AE1CE28E6E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3A6C-D644-4198-8609-091AFF90ED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59A7-5408-4AE8-A727-C170D9DD01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FAC8-161D-4F19-807A-819E4EDA7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284B-8697-4388-9947-3A6F82353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2B58-2A94-4252-B79A-0EC35137F6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C5F7-B385-40DD-BEE8-F28F390161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28DE-8B47-4B5D-83DF-693F87585A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2809-BEC6-4318-8B02-3EABED05FB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12391EE5-3286-4E9A-A6B6-29BC61BDA0B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32:00Z</dcterms:modified>
  <cp:revision>837</cp:revision>
  <dc:subject/>
  <dc:title>PowerPoint Presentation</dc:title>
</cp:coreProperties>
</file>