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2704-2D77-4DE1-A2F6-5BE6989AC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BF30-D70E-4692-8598-E3FAD09DC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4366-45B8-45FB-8F4C-704DFFA433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5901-2744-497E-8ABB-F98045A69B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3AD1-8738-4259-B83F-2C9471A79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8473-F3F1-4C02-AC37-06CCFB1C0C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BC73-C8E8-4D36-A1AA-AFFDDD3F99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EBAF-2D2F-4789-8E0A-1F376E581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6D93-EB1A-4F40-B561-6F2AE9A841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02142-B08F-4741-9596-F7AC61942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21B5-E662-402A-B661-4FE907D9C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FD79-855E-4D4F-8A1D-768DB1D89C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7715-567F-44C2-B86B-CDA69F6D5D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7563-2804-43F8-B015-85CD0DFE5D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544F9-933C-4437-8766-F318083AEF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AA8C-0790-4C21-BE0C-A10D3EA90B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40CE-96B0-4D09-800E-28D195672A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4BB6-83E8-4507-9E32-D7E0C6FA81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3A98-3D03-4145-9240-375F2B358C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ECA0-216C-4D8F-AA50-DBD14D6E10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3914-B6B1-400D-AE13-596260DD5B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2A1C-0D18-42CE-9E3B-224E5EB46D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704F-BC55-41D2-947E-C10D3D978F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614F-C5DD-440A-9F7D-9D0FC34D09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BB8F-B93F-436F-B112-6334158300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B4F7-9323-4624-B00C-7D990B0245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0128-9278-4960-BD45-4DC4801433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E0DB-E5C1-410B-849F-0D6707E64C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8ECE-1161-479F-87C2-55C86D1A1F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CF2A-96BB-44D7-AA4A-9C75814438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C025-AF52-405A-ADA2-419327195F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2033-EE48-4C25-8CD4-8D46507782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A462-5245-4173-BA93-2AB3E29F21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EC4B-D359-47BA-9A93-D9C17255A5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02BB-DE59-4DBA-814C-93168FA99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4582-6971-454B-BCE6-7188571A29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651A-6111-4EBF-B910-FB150A7DB2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1945-4D1A-4975-98D2-30B38F654C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75F6-9293-4343-8D0D-A7500B447E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E7C82AB6-5D3A-4C88-9AC4-1E8D7C7DC7CF}"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6:32:00Z</dcterms:modified>
  <cp:revision>837</cp:revision>
  <dc:subject/>
  <dc:title>PowerPoint Presentation</dc:title>
</cp:coreProperties>
</file>