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367D-4914-42A4-8265-3D155351ED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B7B6-D34B-4C63-9B68-964B09048C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DFF9-BE63-4059-A53B-49F915432B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9250-2B83-4667-8019-2D268D0465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9B98-6B86-4040-9320-BE38FD710F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E7EE-C7C6-4453-A411-E6EEDFDB10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708F-5B38-4387-BD59-CF11F7BCD5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E26F-EC7F-46F9-A61B-AE3B33CBB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1898-AABA-4908-BA37-EDE506F60C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3015-4C3A-4A6E-AF1A-17182DA717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8488-5C1A-4AE5-A178-7987BBE9C9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2BE9-B77D-46BD-9226-7248288537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377A-2AAE-4941-8C8C-452169D8D3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D6FD-D6EE-45D5-9445-BD617CCA9A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05D9-EB62-43B6-B3E2-B603788A77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A019-51E7-42BF-9C64-5DB71CD8BE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B6A6-1B7B-4320-8D57-C13C938611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3666-B873-44D3-9AF5-136EC0E2BA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101D-620F-4D90-8274-ECE952DC3C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2219-475A-418B-B982-B13B38DC49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7C9E-34FD-4CB4-8742-42E79D4858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5BC3-729C-4634-9222-2AA72AA24D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8612-D614-4FC1-BC32-D5A4B07296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3B5B-37A3-44B9-A1A3-B0F7BB98B7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9D6D-D1E0-4344-958E-FF222E0F7B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5393-6ABA-4643-8C3E-EAD50F2229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744B-40B7-4117-8143-053164A03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5EC0-E08A-4159-AD08-F27FA29210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9632-284D-4290-B2AB-E742E3CC61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A498-F75D-486E-94A9-B713F81AD3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1F42-7660-4238-A4A5-56F1B16F12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33EE-DCC1-49AB-B4AC-7FF8AA7347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4540-E6A1-48F6-9284-4D758200BA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30B0-532F-49A2-B1A5-0362FE5223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7658-84C2-476B-B8FC-24D6E71F1F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90CA-8B1A-45F3-9B14-1A4DB8B489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E466-F345-4532-BBF7-81C0C7ADE8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EAFC-C7A4-4656-9899-7D6EF34895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A99C-C524-4A92-8D85-3120E81CBE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92DAA63C-AC05-4905-A87D-55211018288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192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32:00Z</dcterms:modified>
  <cp:revision>837</cp:revision>
  <dc:subject/>
  <dc:title>PowerPoint Presentation</dc:title>
</cp:coreProperties>
</file>