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C21E-CD99-41E7-AE5B-2BF9A310A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631F-9ED0-4D4C-9BF9-70AAE5413B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B46C-845D-40B9-8134-82F6B938D0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67F4-1EF1-441C-B03A-28721F53F9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F0FA-1F3A-4466-9F3A-F55BFA9637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3613-EBFA-4BF5-91C8-F6018EE2C1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8D3A-E5C3-4F00-9BED-0F7BA530B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C4B6-8E6B-4664-BCAF-D8C66A6F11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CCC5-6B9F-4D9D-9B6C-2561C0B3F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E7F4-8409-4099-A543-0085E98C0A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334B-85BC-4B49-97C2-DAB115DD2A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207F-7B29-429B-A679-72D9BC3085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8DF8-1062-4072-BEFF-87C0FDCEA5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44CA-2C85-422F-8156-55754CD7F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28B8-7F87-4861-8301-3A701D3DEB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D35B-F79E-44F5-A9C7-6248352631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E775-7342-4778-B997-A66506953F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5CA6-3BFA-4064-80E0-F47845AEC6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E0EE-E35B-4A5D-8357-4CF1842994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0982-FA71-4E0A-8F9D-F539A871C2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2FA3-E20E-4788-9A1D-FAC111C731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4F0C-D904-4A98-8C6B-4945F5ED7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81DA-91F9-47CD-A2DB-19F3DB336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D134-691D-4137-B8B5-9AD110392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0D08-144F-4779-A4AE-F7C2BBE3B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1969-5231-4A25-8481-94782E6A0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C68D-63D8-4873-880D-40C5650FED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FCEF-733B-4AC2-90F3-CCA63E7104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7F47-64BF-48D3-9409-1F8C8F2749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7B7C-653B-4AE5-A23F-48BECDF4B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8B87-D379-40A8-9BA0-43C6886A1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5E1A-C98A-4CA7-B0B2-BABE2951D5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1A42-465D-4C66-86C9-3D26AA3F82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16F2-D42E-4056-8466-A38593B1E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20DF-CA74-4613-94FF-65305B5DA5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8836-64E7-46C9-91B2-C22DC2B2A6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9C4B-6BA5-4AF7-A636-598CF7BAF8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FFBE-F143-4375-B21F-E7C517D8E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8240-B846-4860-A02F-36E6641E03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B9B3-A0CA-4E70-90FC-B382F9B49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25EC-85EC-4248-96C9-243CD03772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27DF-DD1C-4315-9552-925BB4E76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FC64-8F5F-495F-8C91-7FD9154BA7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B853-5A43-4A2C-BC89-A7CD77CDA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6FD4-B0B5-45C3-A988-DF24E10F6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FCBF-95F1-4AA3-A244-53012B9180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E7B1-867B-49B0-8329-6F777A6EE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6EA4-205A-4492-BFE8-E36809EB33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A8FF-5AC2-49F7-B022-B939DA380B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6D549ECA-B0AA-4FF1-8FD0-46529E0F9CC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5:41Z</dcterms:modified>
  <cp:revision>364</cp:revision>
  <dc:subject/>
  <dc:title>PowerPoint Presentation</dc:title>
</cp:coreProperties>
</file>