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A5F0-ECF6-4183-9780-C07395B8A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F631-DD8B-463C-A0B8-C6C13155D5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6FAE-C231-4E02-AEC6-758B9ECE0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6A00-8B59-4461-BC2D-ADFC49D2D7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F007-D10D-4B7C-9DD1-899400E0F5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73D6-6292-4981-9ABA-501774CB7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63D4-5AC5-4D42-A432-4ED6FD7471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6748-F30E-499A-BBF3-95D4353F2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AB45-48B6-41E9-A99C-A69B7FA6BD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14CF-FA29-4B5F-809B-B313303D7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6C10-EF05-4899-AEF4-8F3552571C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720A-324D-431A-B2AA-4CAF84D647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2B5D-C9B5-4B7B-8A41-8101B188BA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C675-79ED-4CCE-9648-A515EED02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602F-9189-4B95-8BD8-A04EC7637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FDFA-5DEC-4A39-8C68-C66F8BA62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9200-F3C0-46B3-AFB7-F85B05DA96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EF71-86BF-45BA-AF1A-71CF5779E3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E406-2949-44CA-B22D-E25DF03A6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0B55-59F7-4E41-997F-8E7492E9E3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BE73-5889-4534-B47C-CE00E449E1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F29E-797E-4D51-9DEA-37E124509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C209-1CE3-43DF-911A-F5BB1539AD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BD88-1DCD-4B5F-85B1-39E201345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DA07-7C8D-49C2-8D2E-0041D7CD1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BE56-8B71-4754-BCD8-997833FB4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846D-0B8D-4F9D-BA83-255458290C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C4FA-D205-457C-B00B-82940EA611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532A-8387-4775-982F-6B756B754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634D-7F02-4FDC-8F95-40E988F143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5FF5-221D-44EC-A52E-778A22D8D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896B-C01A-462F-A2F3-7614C0F5C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9243-67F9-4EAE-A309-5A8A93AF45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5E43-5962-4E4A-B79F-5C8CE0823B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1FBC-57F7-413E-A02C-126C335AB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E97D-109C-4DCF-8A08-3CEA21F9D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6214-A833-4449-B534-1BB28AD2A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7013-AB9A-4622-83DF-8FAC50B89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2E13-12E7-445A-A446-E6CDB1E5A4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EC00-1778-405A-8278-AE07CAA37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76DC-03A5-4C08-AA1A-BFD056C086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25EE-45A7-42B3-9A46-984983E6F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7DF7-68ED-424C-BEFE-54228894F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118C-8373-425F-BEE3-A515B725DD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3E65-706A-4907-85A0-17C6D2F6F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986B-E227-4157-AE29-6E528B42B8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D97C-4CAD-42C0-9430-96DC8F7DB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E0DC-F63A-49D5-BDE5-85DD43710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4245-8210-4ADE-B74B-A846D3541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EACF0F07-71EF-4FF3-989A-A02FB266A88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5:41Z</dcterms:modified>
  <cp:revision>364</cp:revision>
  <dc:subject/>
  <dc:title>PowerPoint Presentation</dc:title>
</cp:coreProperties>
</file>