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CF41-200F-4F69-B9E8-E6CB43F8DB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3E47-5763-4A65-98BD-003600261F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D28E-5954-4BD7-85CB-2ADA1AE175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FF87-97FD-41EB-8AC5-35886B9943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B593-6E7E-4E08-889A-96F11BD49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0AD5-A2E3-4C6B-A141-9AF8BCC8F3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698F-AA42-48A2-9391-40701A9344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6C73-8E6C-45F6-ABF1-067982024D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253D-0C02-4B2D-BB13-F58F7ED804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326D-B875-43A0-BBB6-8FBD625A6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AD25-DC48-4D9F-9079-14CA2C6613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606E-045A-47BA-8500-2088D80FAE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2528-27C4-435C-8CC4-CB960E67AC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243F-2989-4181-92F6-F3421D73BC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FB48-B29D-4411-B4F8-BB1767085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E092-8BFB-4F66-BEAC-316DE9FDF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1894-4DF2-4E61-84EB-14FAE3A81A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65EF-ED87-4DC5-B929-394EC7F926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C513-F932-4F05-877A-BD530F1D86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3E66-E81A-43CF-AF39-9D354BF81B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6503-D2CB-40B7-BD94-DE981C28ED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E10E-E88B-47CE-9E38-4FCFE5F3D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669B-7D59-4593-AC8E-D78AB544B9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1389-D648-4648-9558-F577B8E824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AE9E-63D8-4334-8FE3-FC13085A5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E812-7F6F-4CEE-A130-73376DCE03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E3BF-9A77-402C-8B2D-4FEC9329E4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2A24-477A-4B38-BB87-9FF12870D9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E2F8-75EE-4199-8D1F-A7A2BB1810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5D34-DC2E-4994-B44F-D04A9F796D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6492-AA51-4AB7-BC5A-CB6142E817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66DE-B261-416A-97B4-A21F1465DF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EA50-E1A2-4BB1-BB04-F28E6D805B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35B8-66AD-4C25-A4F1-A8E57A326C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4D0C-0EC5-488F-8464-6B0CFC0B63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EB5D-995E-452B-985D-FF6D4752D7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4BE5-E3BA-4E1E-A867-90E0C1ECA5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A291-C0B7-4954-AB3F-F0A7D8D729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F221-11E4-48AB-A659-FFDDAD87B8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C058-1C04-4DAE-8BF0-05988D374C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7729-71C7-488F-8DE2-63F910A7B3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A62C-61CB-415B-BDA1-5728D43D28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41DD-BED8-451C-AF31-2220327D34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3B62-4519-44EE-99B3-5A3A2A5D37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A387-45FF-4449-B692-8FCAA43C59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F9F3-4748-4C69-AC93-A992393943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38C9-E67D-4CAF-822E-67692DD324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59DF-6B11-4FB6-8755-57AB52223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1845-E9FF-4A34-ACE3-D23D59067C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EEAF0A89-C66D-44C9-BC16-517AA425A1DF}"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BDULRAHMAN ALMUQBIL</cp:lastModifiedBy>
  <dcterms:modified xsi:type="dcterms:W3CDTF">2017-02-12T14:37:08Z</dcterms:modified>
  <cp:revision>366</cp:revision>
  <dc:subject/>
  <dc:title>PowerPoint Presentation</dc:title>
</cp:coreProperties>
</file>