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EDF4-D0F8-4317-8DC6-6B734DDE7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277D-11B0-4B45-BF7D-865ADBE5DD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43CCF-63E2-463F-853A-75C1937A1D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D3E2-874C-4E5E-8952-47070C2520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C7AE-2359-4B80-A419-74767EC8A0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C604-8124-46BE-857E-97E3DAE0D6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30C8-CD68-426C-B838-56DC5DB80D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A0BE-ABF0-44A8-8638-4BBB949896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CF1F-6920-4385-AB9C-17A383FB28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8A4A-25B3-4648-B973-E2E511C7AC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3150-D307-490D-A53E-E326D57286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EEAE-48E4-4D77-B7E2-11CEDC4804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6247A-6A0C-4ACA-A70F-6608D4A837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DC5F-62A9-418E-B617-3BB1D05B00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0654-1A21-4BA0-9377-4C0F0E3F81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9F04-DFBE-4DE8-9B03-2DB4D2C00B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7079-8963-43CC-9C35-2B67A94AC3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A49E-DE78-4674-844D-E2C8354980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C7AE-C9B4-4947-A0B2-1DFA51B2B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346D-5AEF-4A2C-9498-238DD47D40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B860-7E6F-4DB5-B42A-0E2042948F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C71D-966B-4BB4-B5BD-9809CCEBE6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B552-301D-4CD4-B721-B8BED5945B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404A-DFBF-425F-879F-D830DBC69B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108B-9C11-498F-A092-E4CEF9813C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88A1A-CE34-4191-BB22-B7B4AFC826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48EA-C043-4724-A8E7-B9B8862AD5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9739-06B0-495E-A804-7B86AC9C1A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FFEF-1AE9-42AB-9430-F0D690F562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DF20-BC63-4124-A5F7-1BA2A201AC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07B9A-1801-44A9-AFFB-8C6780BBB3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B742-83E4-46E3-9EC8-CFB25FC987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B5833-5FD0-435F-9EE3-B478610F49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8833-8B5A-4D6E-9160-45A92E9622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4D24-3CDE-4557-8B23-3D3612298B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ABB3-919F-4041-AC0E-923162DBCC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0DB21-4624-408B-A93E-0C120508BB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AEB1-965C-4DE6-9A7D-86651BEC98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36BF-720F-410C-9A3F-499010CBEB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B708F-C489-47F0-A4CA-4770330269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425F-557B-49F1-AA5A-1DD0AD3EF8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112B-2965-4BF2-8D25-3F7FA8D275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4B92-3E92-4693-9DE6-8B6EBB3169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B9A5-B3A9-45B5-BD7C-49464554B1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57B3-BDA4-47D7-9309-3E15F40EBF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43D3-6C33-41B9-929A-A0874D96CF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09E94-B8BC-43F4-9CC4-39D821AB25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0CC4E-FBC9-4405-8E04-DE82770062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E88C-CCA9-41B3-B40A-0AAC38AFB8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C721EC23-7E1C-4003-9E81-4615159A5396}"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BDULRAHMAN ALMUQBIL</cp:lastModifiedBy>
  <dcterms:modified xsi:type="dcterms:W3CDTF">2017-02-12T14:37:08Z</dcterms:modified>
  <cp:revision>366</cp:revision>
  <dc:subject/>
  <dc:title>PowerPoint Presentation</dc:title>
</cp:coreProperties>
</file>