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044C-4CC2-44E8-A9A6-DD7005D19E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921C-10A0-42F7-86EC-AD4F4C2E0F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D0E3-A824-4065-B9CD-665C05A1F8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6B7E-8F23-483E-94C7-31EA8105E5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3C9A-7183-49AF-A7CE-AB7C99A501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3CCB-A93F-4904-9D06-73ADF442C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D04B-E940-4B88-96C2-7363696B3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E567-44AB-4846-BECD-21D8B8D98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351D-8793-4EDA-B550-44870B7A5C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E4CF-174B-46CF-8AF4-ECD830693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077D-EDBE-44A6-99C1-DFB8DC9E60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7BD1-DC47-4743-B284-EBCA15C831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C801-CF43-49F5-86F5-1980C7FB34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E721-4C5B-4243-AA38-90EBF07774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5792-9F5B-4CD7-BF9A-2C1A7EED04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168C-03B5-4C54-B3B2-78D1373935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DA4B-C76A-4CA8-B425-B337A52634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0BC1-8A32-470F-A47C-FEAE47F010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3315-1896-4BF7-8F7D-C0FDD2064D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F099-4128-406F-95F3-7410B405AB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FEAD-992C-41E8-B8AD-FE55A91902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0354-E813-439D-A646-F12B0BBF4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8198-FD2A-4218-AE0B-594D844550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443B-67C4-4F54-97F5-129CD0930B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A21-4350-45A9-A978-75F26943B5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AE7A-01E2-472B-91E1-D092BEC1DA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6BF8-2DD7-4780-9430-1B1D9852DE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8083-C31D-4A73-B111-FA32E5B63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9C4A-74DE-4982-B7CD-91C91910B0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BB5E-59FE-4855-AA46-4833100E0D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0E9B-255C-4E07-AF39-20830B59EF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2320-A9C0-46FD-ABA1-49C208F05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EF35-9702-4200-A5B6-82A797211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5F73-D3D7-407F-8E80-767666590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A7B3-2C47-4557-806D-17C2F4586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D7BB-439C-4C53-BBF5-7918C58654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6F91-DACB-4EF4-B60E-7F5D8AAC6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C368-6325-43E9-8FE9-9600B2B476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5082-98B4-414E-A098-4219FE2B57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7705-F009-424F-A025-AF2928B78C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3730-F389-4E58-8597-E5E34B657E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B2DB-40F2-43E1-A031-ABFDA73389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A4F4-D735-4BC6-95A7-7FA685F631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4C5C-B5CF-473E-A77A-087EB7CA3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0327-1C4C-4A93-B121-54A059E0C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040A43F4-80BE-4DE2-BE11-A310AAA2D60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19:58Z</dcterms:modified>
  <cp:revision>545</cp:revision>
  <dc:subject/>
  <dc:title>PowerPoint Presentation</dc:title>
</cp:coreProperties>
</file>