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8B78-B77F-4BF2-87D3-BFDDEC486E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17F9-99B7-4ECA-98D6-CA9F0176FF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63DA-5AA4-4773-9C36-5FE5633508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457D-FDF3-40CB-810F-72E537E31B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5288-4815-448C-8571-08569AEC23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6275-748A-46DD-84D2-05458A24FA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F1E1-F0CB-4F24-8B5A-031431EB35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1668-989B-4E4C-B4A0-854D273DA3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5B52-15D4-4CAA-B7B5-8712EE54B1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2638-14AF-4D83-AFB0-652B757C22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CB86-E08B-45C6-AA28-A0596FCC49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997B-8932-4AA6-8DFC-CA370018F2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8E26-7257-48AC-A653-320E01696A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74D9-947A-4122-B4A3-76A10DAD88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5890-C8FD-4D62-915C-DE2708980F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BC2F-B289-4864-9994-1A508ABF65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CBBD-0BFF-49D8-8C9C-15215259D3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6599-379E-410E-97CC-D39F80FE30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CFE1-CF68-461E-A6BA-83E4721E2B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098F-08E6-4024-87C1-2A3081B2F5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2518-69EF-43B1-B3E3-579C178066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9007-F0B3-4832-A365-F192026E8A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1A2E-B67A-439E-A15A-7E1AC7E579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2434-3217-4A61-8351-6F7C5706C6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7BBD-8E15-44B6-8720-7D0651E39C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AD31-469A-4BC7-9713-3FC4992822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B914-4780-4916-AB29-4346EB84C7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3A69-7EFE-4FB3-BC42-370A535EC9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A2E7-C651-4191-AAFE-75B5BCFE93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4C45-9831-47EC-804D-590B2238F8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B392-0ABA-4800-ACC1-8A028DABE1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007F-939E-432B-B618-5825F0D564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6AA9-28DC-4408-845F-8EE4371264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E542-12FA-48E0-B4BD-B9FEB745D7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8380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B2A0-D4F3-461C-A72A-78B08F5109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9827-2C18-47D3-A42D-7202D5B4DF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CD93-7035-4F90-A412-0D90F203D1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04D4-DBD4-4E98-8D10-E6B3DC1F85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0C74-CADC-4958-AD40-EC6DCDF308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E225-E387-4780-B25D-A052C73C28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6C5D-ECEF-4E85-B280-FE09160F4C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B0CA-06C1-43E0-B42C-EC3C1BB65D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BFDA-F89F-4CB0-B67B-F9E6741FAC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D651-A8CA-4F56-A4C9-BC5E64B23A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3EC6-1FC0-41CC-974E-255604846A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653B3C68-3AB3-4D2B-8323-7324BE3C30C4}"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rawest</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marketing analysis s</a:t>
            </a:r>
            <a:r>
              <a:rPr b="0" lang="en-US" sz="2000" spc="-1" strike="noStrike">
                <a:solidFill>
                  <a:srgbClr val="000000"/>
                </a:solidFill>
                <a:latin typeface="Arial"/>
                <a:ea typeface="Arial"/>
              </a:rPr>
              <a:t>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endParaRPr b="0" lang="en-US" sz="2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199"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3"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07"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08"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mportance of collabor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nature of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owth of professional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organization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scope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hasis on innov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culture of work and business</a:t>
            </a:r>
            <a:endParaRPr b="0" lang="en-US" sz="24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5" name="Picture 6" descr=""/>
          <p:cNvPicPr/>
          <p:nvPr/>
        </p:nvPicPr>
        <p:blipFill>
          <a:blip r:embed="rId1"/>
          <a:stretch/>
        </p:blipFill>
        <p:spPr>
          <a:xfrm>
            <a:off x="838080" y="1600200"/>
            <a:ext cx="6248520" cy="4311720"/>
          </a:xfrm>
          <a:prstGeom prst="rect">
            <a:avLst/>
          </a:prstGeom>
          <a:ln w="0">
            <a:noFill/>
          </a:ln>
        </p:spPr>
      </p:pic>
      <p:sp>
        <p:nvSpPr>
          <p:cNvPr id="216"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1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and instant messaging (I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ing</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k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worl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5"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27" name="Picture 6" descr=""/>
          <p:cNvPicPr/>
          <p:nvPr/>
        </p:nvPicPr>
        <p:blipFill>
          <a:blip r:embed="rId1"/>
          <a:stretch/>
        </p:blipFill>
        <p:spPr>
          <a:xfrm>
            <a:off x="2962440" y="1943280"/>
            <a:ext cx="5952960" cy="4305240"/>
          </a:xfrm>
          <a:prstGeom prst="rect">
            <a:avLst/>
          </a:prstGeom>
          <a:ln w="0">
            <a:noFill/>
          </a:ln>
        </p:spPr>
      </p:pic>
      <p:sp>
        <p:nvSpPr>
          <p:cNvPr id="228"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29"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2"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3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19:58Z</dcterms:modified>
  <cp:revision>545</cp:revision>
  <dc:subject/>
  <dc:title>PowerPoint Presentation</dc:title>
</cp:coreProperties>
</file>