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FA51-A75F-4FBC-AFE3-D448CBAFF7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2C67-14A5-4378-A6B7-395F0C153F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D9FC-3F66-4830-9941-835A252059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3C13-7900-4B73-B985-07CBDAEF0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D38B-C0FF-4DC8-8F68-C17F324C80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8D0C-A589-4A3A-986A-CDBB414F0B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3733-0FFE-4F63-867F-08CA119100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3AA5-B9CC-41A7-B8B7-F932FC0F2D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2828-167F-4AA0-9336-7BA1655BDF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4892-D9EE-4BC7-BEC9-A06E0571A3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9BB1-FCFD-46FF-99D0-E0A9724102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AFBA-0BB6-4566-AD6F-0F145E6CFE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E7A7-76AC-4631-8C95-4F9E90A27A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EE0C-BB91-49EC-8F9E-3EEFF02881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54F9-ABF5-4E10-86A1-420D42356B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7C03-C74E-4A5A-8984-E30952DA00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9CAC-6D22-45EE-9077-8FE028944E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B2FF-74F8-477F-A5D8-15C2B57165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AE04-A8C1-4548-AB31-8469243416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06B-03E1-4637-AE15-42A55D774D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C74F-CEA4-4C38-9A28-CE2A5355F5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9143-708E-4AD8-87DA-05AEE6442D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71C1-4B50-4797-B33D-3158C1B4AC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F0E1-0AF0-40CF-AF7A-BF98EE6FF9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B36D-406B-44BB-A850-A80618AD0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1544-531E-484A-A3BF-CEC027976C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5B76-D694-4BB1-8927-C31C82DE7B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A7C2-1101-489D-831A-9414977A92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6252-AD32-4280-89FD-748A20279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0B69-3D28-42DF-B74A-C5DCCE5595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CCCD-13B2-4ECC-98D8-AA8FF00CD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BA61-505A-4089-9875-C1AC2EC3A1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6693-B8D4-417D-82FA-31888759BC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AE2A-2BC5-45AE-AE1C-03DA49391C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EA96-F752-4FF5-A6A3-B1A4004C5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269E-1AE0-43F0-969D-A4ACA4842D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2170-5842-447F-BA14-F9710D1D4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8FDF-B7A5-4C6B-B0EC-6D45D5B03C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7EC1-2E5B-420B-B5FC-197E324A8B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483A-081F-4EEA-BF01-F69952D1E4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A124-32F2-4E03-BB94-2C5522CAA9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D0B-2F0C-4B4A-96A6-628C30DC6C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9532-763E-48B8-820E-6C891C7876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64E6-8A85-4290-906A-658287FEE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C8D9-2E21-45D7-94BF-ED97241E98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419F856F-6A47-4042-8866-9360AB94F17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19:58Z</dcterms:modified>
  <cp:revision>545</cp:revision>
  <dc:subject/>
  <dc:title>PowerPoint Presentation</dc:title>
</cp:coreProperties>
</file>