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9583-C172-420D-8647-E45145248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4847-E9F9-4FFB-AF2C-C0D84683F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78D4-D539-4D0B-8087-FD55974592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2C46-3359-4BFB-A91E-DEBBCFBDC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2F51-69E3-4092-AB91-786A8BB8A2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C487-DA3E-4784-8B04-90C5A2C185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0603-74A9-469F-90FD-D8F5BDA5D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FD75-E625-458C-8469-28F83FEA64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8ADA-E1B5-4A67-8EBD-D0F15C7753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3826-40E9-4163-B91D-130092BAE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3023-BFA5-46FD-A636-98F57592FC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3158-CFA1-44ED-9646-C9EB638E7D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68C4-628C-42C8-9734-C64EB908D5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F6E3-7BEF-4AB4-A120-48207194E4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D808-BA9D-4BFD-B3B6-8A352AEEFE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CB39-8141-44CA-B190-B7C7D5D438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84E1-1053-4ABB-AB14-250352FE1A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5F3C-9823-45C2-AA0A-971EC0F39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0201-C7D8-4286-B520-36154D9B44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6A16-9AD8-4E2F-971F-BAC5745C9D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F2C2-9733-4B4A-8BEB-8BC59B810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A181-5658-4392-A433-170E8A8A1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C3FD-5A17-4CB6-B130-A3B767F4DC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28A0-93E1-4E6B-AB50-BE05C9B907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EAA0-33CB-412E-ADF1-C798FE4A58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539D-CC76-4DDD-9101-39AE8F7B6F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0B90-78D0-4755-BD40-42E117618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ECA7-EFDB-469C-8BC6-AF4822295E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EFB9-B784-4E8A-AFEB-5A305A389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9D25-C5D9-4EA4-B037-7D1CA47F44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2597-FBA9-4A55-A3F0-2FDA1A55E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34A0-9DDD-4D47-8256-440E260D07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F5FA-164B-49D9-BEC8-280A70A93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20BB-BC16-4451-8E02-AA5C55C74C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E887-1A6F-4D1F-B54F-D0FE4DC7ED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C8D8-C11D-4114-991D-1F7CFA0088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1D10-63C7-4CFE-B9C1-84699ECD8C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5C3B-BAB9-47F8-A085-40F69A94E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1BFB-6549-41C9-AEBD-8FAD2E9800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71CC-F2E3-4A55-B7A0-5E6837671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B848-1D5C-45C2-A5D5-BA1625BDE7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4BA9-86CC-4EA5-92E6-05D145EBF7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6ABB-1EDC-4F75-B22B-07BE702267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F150-F0F1-4967-9C68-1C55ABAEF4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C226-7895-4B76-BE4E-9007CE2BE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F6213C08-9FF1-4E23-9F01-A6589E8462FE}"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2"/>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3:22Z</dcterms:modified>
  <cp:revision>504</cp:revision>
  <dc:subject/>
  <dc:title>PowerPoint Presentation</dc:title>
</cp:coreProperties>
</file>