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A562-60AF-44E9-B222-405BB4CCA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5219-BB99-4232-B426-D1C96CEB4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F643-CEB6-4A92-85A2-71D7AA593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D075-EAC5-4C14-8E83-68A6043BB1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7CB3-1546-4420-A71C-F087E961C5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406D-BC59-4826-AC5A-871E51C53D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C924-2BE8-4A9E-82F5-9712A5CC44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DE9B-3FC4-49E8-BE0B-8165967D0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D07F-6F48-4DA8-9488-CEDEC452F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02EC-FF10-4F0F-BFA7-D1533AEC58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FAE4-3E72-46BA-8D71-87EFF4F2B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44CC-8359-4768-A543-66685A3D0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F36C-8906-49CB-8514-B82C54DC7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0AF1-23B9-47FD-9211-8CA677327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AB08-8313-44A9-9559-9D1FCF2B5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AB3D-4A29-4BAE-B0CB-90B36620F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1989-D1FD-463C-8E8E-F55F21172A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A6B7-BE6B-4CBD-9D82-0BA06FA61B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3C5C-7747-467B-A1BA-1D1EEEB6F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1712-7639-415D-A884-72D4F2C755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12B4-FF60-4EA2-B884-C753557217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E476-210F-4AB6-A9CF-A709811DB6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59F8-E271-4CCC-8D43-AA27A0A19A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E3C2-6156-4A9D-A7E1-5BFE8CBCC6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9790-5ACA-461F-B058-53B239A67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A7D2-B9C7-4662-A91D-82FF56CA3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EBDC-23A3-452D-8EA1-79249995E3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D841-B2FF-4E89-96CB-1FED4268E7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F5AD-A8E3-425C-9BC1-9FFEE747D1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DC31-7F0F-4063-826F-E45CE8BA61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146E-30B5-42FA-8B34-8959B3255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9794-4052-4407-9F2E-8E7B9533A4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01F6-8204-476D-BB84-AAAFF5A7DD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EC04-DA6B-4657-B893-A5858D1AD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8C33-5690-45AE-A730-5B273997A8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FCDC-E770-43A4-A014-6B185EF71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8744-D358-428B-983E-4CFF98C519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DD4C-6678-425E-ADDB-CBDD35522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B1F9-DED6-45AF-9423-A2EAD10F89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12A3-D9E4-4599-889E-2DACAE14AE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5498-6C4C-4DBE-B035-3B28CD1C1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D22D200C-0D4C-43CE-B639-5E931F17FA4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2"/>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2"/>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2"/>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2"/>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2"/>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2"/>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9:23Z</dcterms:modified>
  <cp:revision>537</cp:revision>
  <dc:subject/>
  <dc:title>PowerPoint Presentation</dc:title>
</cp:coreProperties>
</file>