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1C84-01E4-4300-B228-F168BC54DD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5E01-7633-40DF-9591-9AAA921E3D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E29C-5813-487E-9035-7A55E60704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CB3D-0E6B-403F-B563-1AB8733B7F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FAA1-D1DB-470B-AE71-E0A6F72F74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8F13-099D-426A-8E95-18532CC8AF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72F9-4C86-43E0-851D-0A29DC6D9F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BD51-B97E-47A2-96AF-F9124E6AF9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C906-BF7F-4F2F-970A-C67756B36B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2613-8D88-4BE5-945C-C357DDE63B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0627-984C-4D73-99FD-F15DFD7330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7E2C-1DEE-4F7B-8F18-797D9F8B70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7F79-5F69-4F7B-A2FC-F0C10FCCC4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D228-E4F0-4E96-967A-E6EF7791E3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AD7A-10F4-4DD0-A314-765F464931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C768-2FE0-4FBD-A628-798FCF48BD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4486-1899-4834-AFBD-4DE8C06BBD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67AB-D7B3-4541-BB78-B50617608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550F-97F8-49FA-85F2-61A04A6A40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C8B8-2BEB-4BA0-8FE7-FD14DF67B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
          <p:cNvSpPr/>
          <p:nvPr/>
        </p:nvSpPr>
        <p:spPr>
          <a:xfrm>
            <a:off x="1101600" y="410544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8B6E-0436-483B-9D05-D8C7817F28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8249-9D1E-423A-95E2-2E58C69377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8214-A7FD-4469-B926-1DAEADE97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0FCC-E83D-42D0-9D57-1B8FF6325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3858-54A5-48AB-8959-7206C0B584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CBCD-B724-4DB9-8E78-CBF1D0B2BA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5D21-8265-47AE-ADF4-C4ED7E2034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9507-1C16-49C6-A1B8-BD495D0183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47FE-B6EC-43B5-B675-9FED208D58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D2F1-7D51-4EA5-9A23-CDE94CF37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E126-F3C3-4AB0-A658-941CD3E084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F49A-4506-4C2D-87AC-2DE20F9672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449B-F297-4D97-A002-88AC2C3F3C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2F0A-2EAF-4FEA-AE04-056D883E0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F779-9915-41FB-AB75-24BFD728D0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A82E-D861-4337-9D80-1FBF127BA1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9FBD-71F0-44BE-8B55-DF9EAE85E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D394-F13D-4347-8656-884905724E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7D93-328A-4042-BDB1-AD0C41E0DA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AE5A-BA46-4975-9229-860DA9B44E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1DEB-C051-420E-A4C8-BDEFAE95CE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9464-6254-41CC-BFBA-E918212136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3AC0-D9AC-47B0-9BBA-2BECE4269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1EA0-088A-4E70-B9AE-C8A7CBC787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68D4-1199-428F-B60F-7D6FD8513F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70F8-C9FB-41DA-85ED-CF469E0766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B0BA-8020-4551-97CB-5BE91789D1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516B-5B0A-4A18-BBDE-620C2C53B3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4BDB4BDE-1A34-4438-9817-F21E47228C07}"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2"/>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44:45Z</dcterms:modified>
  <cp:revision>609</cp:revision>
  <dc:subject/>
  <dc:title>PowerPoint Presentation</dc:title>
</cp:coreProperties>
</file>