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3B8F-3D6B-40A2-AC3C-EC7262738B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7522-4706-471C-A063-C420039213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A0F2-0F8F-4BA0-9B0F-D895C2FF27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6D04-D95E-43B0-BF92-418299B277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387A-976B-4D67-8923-EFF2EE8909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C610-1947-4A09-AF34-CB00CA168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1346-AE9E-4C25-8D0B-1EF1C27D4E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B691-DEDD-40CE-AF9B-B75875A5FC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5728-F722-4B9F-996D-443B4D307A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B6FD-94C4-4AE3-8027-768F3F55E9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1E36-C7B8-4FF4-9400-78A62A6A68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FF34-A31B-4E61-831F-0962433489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4024-C977-4D98-A029-6BFB4D22F1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180A-B14B-473C-9031-5D87F52A0F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FDFF-3A10-41E9-901A-1F3088AF64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B70B-A486-48A5-9DF5-68E4C580E2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8EC6-C600-4B86-92F4-388A1B4775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9BC4-CA59-40A3-91A7-6814C74F39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EB15-1E8D-4C85-B416-AD3FEAF694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F4DF-DD5B-47B5-97ED-12D80FB7A9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
          <p:cNvSpPr/>
          <p:nvPr/>
        </p:nvSpPr>
        <p:spPr>
          <a:xfrm>
            <a:off x="1101600" y="410544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5621-7034-48C3-A888-1745FF0C5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276E-11DB-451B-A66D-86662161D4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9421-AFDD-491D-BEE9-47F7066508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20EE-2F15-4270-BF33-6A999259A7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8860-BE0A-46A1-93B3-0DD112465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2D5E-C449-4D3A-8A68-B1B44239CF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DF86-C1FA-45FB-8B2D-5E1E7F2DC3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E9BA-1E18-4BD2-AC72-333C8E2148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2CD9-4E33-4F06-AB3B-5D14C17821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8244-C827-41C5-B08C-0E1282599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E16D-EEAE-4D44-BF18-FBC59B6AAE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E56E-CC49-4861-BB10-53AB8665DA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83D0-CE85-483D-A5AB-2456BEF06A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D4C1-1778-4450-B327-82ACD60B43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14CC-A54A-4F2D-94EC-EF64268871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D885-6EEA-4FD6-B117-E440C804E9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70C6-4E6E-439D-8964-421800D508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8974-0859-4BC7-B92E-0C995B73E1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8C27-C72C-4E9B-8D7A-7F596D0BE1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6A68-9E6C-44B6-85F6-C960D6AF27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F480-92FC-4D43-ADA3-83A519AB0B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5008-44A7-4D2A-B9F3-3184CD1F29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20AC-6F1D-43F8-A294-0852A8E091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0CEF-245E-462E-BCE6-2A58855A52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7721-04A7-4663-A6A0-01CDF144DE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E6D0-76E9-497B-BCA0-AAC23F7BF9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EAE2-FC06-4553-8D16-673BCD7CC8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69B0-864D-4CAB-9877-D28D0A5427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8E4BCFFD-BD74-43F7-9826-1264C723E9F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2"/>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44:45Z</dcterms:modified>
  <cp:revision>609</cp:revision>
  <dc:subject/>
  <dc:title>PowerPoint Presentation</dc:title>
</cp:coreProperties>
</file>