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AFF6-7248-4EB5-B129-1E831CCF3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7354-CCFC-4E38-BA2E-B43DBBCE5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48B7-FBDF-4436-9334-5344C236E7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D9AC-5ABB-4D71-9A39-38394097E9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2EAD-5CBC-4375-AF51-00EAA9B71D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B8F8-0E39-4289-998E-63AA051C1B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819E-DD5B-498E-AD17-B204A915E5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04A2-0E9E-4D6F-B47B-1FA07EADDB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4DC2-EB41-48BD-BA32-B1E3AE9486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C5D5-AC28-4729-B1D1-0669C5D22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3F6E-4AD0-4299-8942-A687DDBF7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356D-AB7D-4707-A892-6BF2D1B86F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1D28-9F3C-4730-8A0A-7E80A8A96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1D5C-5F7E-4798-A1FF-22B3CC6F7D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E82B-2225-4A31-9B38-DABD5C07F1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5305-6076-43FB-AAD1-43FCA5A09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F32F-13B4-4351-8AE6-7525EF9AD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0A60-53BF-48DC-B3B6-DB5219313B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74C5-9426-4B36-8966-418D591715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1A3B-2990-42BC-B47F-9BCBEB9D4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BA44-B491-4F41-86BF-584F41825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5730-6AEA-4ED6-9498-D41915A69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5DD1-F2C7-4290-B5E9-8348434EE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F18A-A713-4005-B648-454063A1E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101B-5D2B-4649-BC65-11BCBA535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A178-0341-4E38-B344-373E4084A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B48B-12A1-4534-AA1F-711E013545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0A2A-271A-4B69-B0C5-7DA4D2CE62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42A8-1A34-4D0A-9F9A-10215D3E8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A5FC-2506-43CE-9386-82F1D54C69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B4C0-D7AA-487F-87F0-8BA2D59555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6D7A-13C8-48D8-8505-8E153894B8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1F0A-5920-43EA-9C09-CA4D11ED12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C26B-1C5A-479A-8405-BD8D07819B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76C5-45B5-4B4A-BF20-50CAEA50FD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48B4-2CAB-4ED8-870B-620744721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EA84-3E6C-4DBF-AAEC-295413BFB5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6536-6B74-4E9F-9272-41B805997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E0DA-173F-4D51-9C11-06B00E19F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A20D-E393-4E6A-A603-1EE6BAC146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3E40-151E-4404-AF0C-00CD0217FC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8F56-8A34-48E0-8E1A-661550BBCA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3775-8717-47D9-A523-A8202FB8D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6D2-D3B3-4CBD-ADE0-D96ED1DE90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F386-BA47-4599-BD33-208DC4075B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40DD-5E8C-4D2D-BD14-631FC14B5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BCEB-3BF1-4491-BDE2-A7573F778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F1B2-E9A5-4899-B798-68ED2E333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DE1C5BB3-A8B9-470F-AB12-5EB011B88E4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44:45Z</dcterms:modified>
  <cp:revision>609</cp:revision>
  <dc:subject/>
  <dc:title>PowerPoint Presentation</dc:title>
</cp:coreProperties>
</file>