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85E3-7357-4D57-9487-3F3A575FB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F1C5-C772-49E5-8263-2C814DE0F7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81CA-E173-4C22-95F9-CA937BAF19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5F21-9CFA-4004-B768-EFD932CDB0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9333-C98A-43B4-80E6-F299422ACC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6DEA-D34E-4876-B317-F102C32790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FF81-2BD1-4CB5-84C2-0969319E9C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8BDC2-2061-4093-A33E-50C151D374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2602-E7D7-4E2C-8F3F-6034D26FEB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0665-9956-40CE-9C2D-A4C7C0D399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7AA6-200E-4F08-8313-BB17DF9715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37C2-8C14-4824-8981-BFBA2DA2FE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BAC92-5DDF-4FC2-9BC6-1B2BB4AF7B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5DD4-C5CA-425A-BE0C-CD348B85EF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3744-2249-4A99-99F7-F5B9309656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752C-3527-447F-A2D3-CE61EA88F4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5473F-88E2-4BEE-AE35-38C8A57092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8800-3723-46B8-9059-DFC10F9CB2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12A4-6762-422D-8189-5BB8FEF50F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A443C-9005-4C8E-AD99-6425BCF748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
          <p:cNvSpPr/>
          <p:nvPr/>
        </p:nvSpPr>
        <p:spPr>
          <a:xfrm>
            <a:off x="1101600" y="410544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E8CA-F8A0-45E1-9870-CB381A5D18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D63BB-4402-413F-A260-B56E8A9D4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6278-1CC4-4606-A0E1-73491D7D6E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4749-73AF-42CD-8DFC-488F50AF4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DACC-3C70-416D-AB59-97F5E6558D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69D3A-ECCB-43DD-B54D-6A956A13D1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FBDE-72D1-40AE-82B7-E8DDB7DA72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5268-903D-4196-A2E4-90B4A6D7F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7CE5-565B-4127-B36B-BD20E4736A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FEC9-699A-4769-B2C7-AC45B77152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7DE2-C845-4FDE-92DD-987DED422D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E841-8502-4DEC-AC32-E916A760EF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0FF3-8B56-4C0E-BB5D-BB6233DE69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758A3-17ED-4E2A-9246-37DE4A4FA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DD59-486A-4898-98A0-FEF196D0C8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F114-2C27-4953-9F24-E65EF696B8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6415-41B0-47AA-8839-89ADC53B80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A70B-5546-4BB8-ADC8-25C6CC245E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6844-579A-44DB-A1D7-31444AF3E0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475B-9292-425B-834C-461FD6183A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1632-0433-4621-835B-B47C3474E4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16CA-1FE6-427D-9434-08D7121172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0112-B2F2-4536-9CED-9C9CEA1EDB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5579-5A97-4706-8786-C00DA5750A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C016-DD66-47E0-839A-993CB692CD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36C6-F4BC-40DB-8EB7-543A776AA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5F86-BBE3-4E94-A203-7CF77A6D22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D541-A249-4C05-8788-169147DC62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C573E4F3-4185-4945-A5C9-2FDD2B81E92E}"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2"/>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44:45Z</dcterms:modified>
  <cp:revision>609</cp:revision>
  <dc:subject/>
  <dc:title>PowerPoint Presentation</dc:title>
</cp:coreProperties>
</file>