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E470F-B7B3-4C1B-91C3-4C0F447E24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133FB5-8CE2-4EBB-8E14-49A9C146A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304FEA-2A0E-4573-B6B4-DE1CABC2C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887A2-0E9C-4676-B9DC-38D602F415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D6E3F2-4E55-4E63-9DAC-21C1EE950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F3E37-7C28-4A61-A3AC-4BAA9A421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9E59D4-04BC-4ABD-AC25-1942E4D2B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427C12-4F0E-4CB5-82EA-62932F3296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4B8031-5065-48BD-8B0A-8058DA29D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596CE-86B5-43A4-8546-52EFC8C0A9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DE5255-ABC6-4ABC-987C-800897BC4F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AB579E-1A8E-4109-85E1-BA41EEFA7B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DB0E9-9E39-4D72-B2F0-DB69322B3E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32DC2-67AD-47DE-92AA-CEE1FC4315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E0DEE2-4797-4804-B8DC-37F066B444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A2DFD2-14AD-4DF5-BB2B-55DCE4B21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3ED4D8-963A-40B7-897E-9694C64C75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388510-FCD3-4960-A133-756F184BEA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B2E77A-6AE6-451B-8632-A8F5D30A4A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E0F45E-3D58-47E8-BF45-8FE5D65CF3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23E4A0-CCA8-4B0D-A908-14DC5F34C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092869-DCDF-40DC-BED0-1B03D7B280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56756A-5D36-423D-95F6-710306EA34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F5A18B-F242-4F3E-ADB9-516BEC72E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55CB6F-7DEF-4223-8FB3-26E1F87B6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A31D42-14CC-4530-B8A4-EB14400C81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1845C-AFB3-4B7A-B2C3-B1E0D113CE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D1D606-01D5-464E-8431-19486DE01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BBA3FA-0069-4302-AC44-5D935DB899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168720-C39E-493C-B96B-8BAEDB522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DD339D-0986-46A3-A7F9-DE1FCEDD71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1014C1-B98F-45CE-83E5-931C36C764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E2838F-F066-4A85-8B20-CFE41E9E99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18D09A-90DE-44A9-BBAD-4E8CD44E7D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9E58B2-B157-4771-AB00-B4657F0CE7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CB864C-D2D6-4433-A1BB-13594E990B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E78215-4E3D-4478-ABC8-D4A1FC8113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C85D91-D023-42F0-9F8C-F27BC4338B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554B1F-5A39-497D-BCBF-18A8AF121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A65D8-49F2-4AC1-B87E-B312510ED7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9CB1CF-E0B4-48F2-8AA3-182350DE4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4E9C82-278D-49BD-9CEA-79792EDD32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452EA1-8B47-4CC0-92AE-3F86927BFC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5D1B9-F1B1-4DC0-8E00-E310D05329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7401BB-8C82-46BB-BA61-092A79449C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44FB7E-8FBB-4071-8B03-4BAEE01684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23EE77D2-A299-44B4-976C-8EF9C2A01AE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17:46Z</dcterms:modified>
  <cp:revision>772</cp:revision>
  <dc:subject/>
  <dc:title>PowerPoint Presentation</dc:title>
</cp:coreProperties>
</file>