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3957-5323-4545-9950-5EC280F817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0CE2-B1F2-4511-8409-93A65119CA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2021-3C1E-47E5-B4B2-C1A1E14CB1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3F91-D3CF-4880-9F62-2B228B216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C52E-F216-41B5-ACAB-85E6EA065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D0A8-E384-4B39-8751-0B53F8EC63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C707-9859-4D55-B1DF-F26D00652B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9C91-AEEA-445E-A1EB-3CD4FFEF93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379A-EA83-471E-9AA4-8059A05171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DB1B-8281-4449-BF93-9B75F6C4CE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6D09-D086-431B-8B3C-F3B5BF8B79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BBE1-8E9E-4008-BF88-7D1AE1E0B3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D5A3-F22D-4D6D-B66C-816FDED730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BE22-2C6B-4DA0-9762-388B0C3617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7569-F284-4036-A2BF-C77ECC63CA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51BE-4861-4357-A0DB-B84E79B21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CAF5-0EB3-49CC-8678-7783FB001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1DAC-3592-4A1F-96CE-A8D63C108D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5822-D8F7-4672-8E33-DFE2ABD34B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F517-4459-4940-93B8-D0EF116AB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6F51-CE14-40BA-9B7D-8B72F24EE8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B03D-19F7-418A-BA12-924CCC6B62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5505-E14A-4F11-B7F4-58B993AED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18B1-8E4E-4274-AD63-ED249FF37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05D1-5ECE-4654-BCD9-9A9D0D4738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3FD4-1B25-4FE9-81E9-3DBAC3B79D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D96E-CF00-4412-B607-782FE98B2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F14A-44DE-40B3-B24E-CAF044754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F9EF-7BA8-4547-84DA-0824F679D9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951A-2425-46BA-BA66-81CC922FA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EC69-9343-4A18-8790-8659E7882A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27F2-756E-4C7F-BCAD-AA5D796BC7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7DF7-D67F-4FCA-8B8D-C83497926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BB52-371B-4CD1-8AAF-EAC59DEE07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68B9-F957-498B-8FD1-1E41FF320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EEEE-0F0A-4A1F-A50D-F123461035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D7F0-502E-4868-BAD9-63B07A45BD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D8C1-8B9B-4595-95BF-9089C42D4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9595-AC90-4B2E-9B6B-A3A6415DF9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5D85-AB48-40A0-920D-4961A533ED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2804-647F-44E4-8B18-B6B062DE7C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9F20-E865-45DE-87D2-AFF95AB575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8087E681-798D-444F-B3DF-DA897899243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1"/>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1"/>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1"/>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1"/>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1"/>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1"/>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1"/>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1"/>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5"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1"/>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mashael</cp:lastModifiedBy>
  <dcterms:modified xsi:type="dcterms:W3CDTF">2012-09-28T22:49:06Z</dcterms:modified>
  <cp:revision>5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