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10B0-8D78-4393-8D3B-F971C8E3C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1EEF-9C4F-495E-BF4D-E113890719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A1FC-5FB4-4C07-A83C-EDB8BAA408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CCCB-03FE-408B-A8DF-595E4AC9F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5529-4C96-4873-BEF4-7D1A176C2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D6B9-3ABF-425E-B8AD-E824928AF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8018-DEC6-4AC2-8E73-9ABE00BDA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8DA6-60DB-4E66-BF11-BB259CF54E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A269-358E-4D35-A6C4-BCF97CBBF5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EFBE-8D7A-4E69-9B56-A6D9E9D53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F54C-F5C8-445B-BE18-3CC8D5E88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B37B-C747-4F3C-AF41-4EA184BF9F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2C2A-85AB-40B7-A450-7A264E3ECF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34EB-275D-4EB7-AB6E-55C8CCFBD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082E-085A-4E28-9320-A0706635A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F210-4C92-4D5A-9413-8C8DA8F7D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CAAC-02CB-44B8-AAB1-F7B6F37C04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4CBA-D27C-4629-ACCA-27D8063FE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2850-F5AC-484C-9713-E885841A1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EAEF-EC1A-43A5-B5C3-C0D9D879D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C4AE-2485-452B-8E1B-E3ADA67B90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7935-ED41-4453-82F5-ED820D8697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3A3B-92A6-4A91-936C-5E01098B5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1914-50D4-45E6-A609-6C6E7A448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8120-7BA8-4EAF-A352-FD998B9D03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D694-3E91-4454-9B42-422711071D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91F0-B52F-4B36-B3D1-28AD338153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32D1-ACE5-409F-B408-1E608CB63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D5E1-56CF-45CB-B780-72519EE365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9E77-3B73-45DE-8025-DBDC2D8E00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E19E-A4C9-490E-B373-B08B8B6E2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B9E-4D51-48FB-8C23-3DD8C974B3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E16F-A151-4CBE-9D2D-61F5DB077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36F8-1A41-4871-8C7A-CACCDC49A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7144-FFE1-466C-AA36-E0DB784768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C6CE-2A15-48F6-B2C8-BE76318E70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8995-9468-4C47-9EF1-1E10BFBB82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A8E5-2440-4934-9ED6-753E86170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EE2C-676A-4A0B-AE07-F07908C4C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F67A-F6C3-4D2E-89B6-4B32E9FCB3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770D-662D-4C90-8377-6779BC24A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68A0-0FD7-47DD-BFE0-3B1E5F408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51634B47-6F08-4395-BB3D-BFC6F341523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1"/>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1"/>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1"/>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1"/>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1"/>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1"/>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1"/>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1"/>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5"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1"/>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mashael</cp:lastModifiedBy>
  <dcterms:modified xsi:type="dcterms:W3CDTF">2012-09-28T22:49:06Z</dcterms:modified>
  <cp:revision>5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