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44CB-382B-4F57-97FC-6A0CA4521E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6_Case1.pdf" TargetMode="External"/><Relationship Id="rId2" Type="http://schemas.openxmlformats.org/officeDocument/2006/relationships/hyperlink" Target="http://azimuth-interactive.com/ESS9_Videos/pdfcases/Chapter06_Case2.pdf" TargetMode="External"/><Relationship Id="rId3" Type="http://schemas.openxmlformats.org/officeDocument/2006/relationships/hyperlink" Target="http://www.youtube.com/watch?v=akzNWS5dygQ" TargetMode="External"/><Relationship Id="rId4" Type="http://schemas.openxmlformats.org/officeDocument/2006/relationships/hyperlink" Target="http://www.youtube.com/watch?v=7DXsocKcpN0" TargetMode="External"/><Relationship Id="rId5" Type="http://schemas.openxmlformats.org/officeDocument/2006/relationships/hyperlink" Target="http://www.microsoft.com/video/en/us/details/dfc2576d-d543-49f9-bdf3-062616e442f5" TargetMode="External"/><Relationship Id="rId6" Type="http://schemas.openxmlformats.org/officeDocument/2006/relationships/slide" Target="../slides/slide1.xml"/><Relationship Id="rId7"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3030-EC50-45D9-B31F-A4C359A085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Cisco Telepresence: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Unified Communications Systems With Virtual Collaboration: IBM and 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AT&amp;T Launches Managed Cisco Telepresenc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4"/>
              </a:rPr>
              <a:t>CNN 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5"/>
              </a:rPr>
              <a:t>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DDBC-5F83-4C38-AB45-0458E4A7D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B529-FBA0-4E2D-AD97-CED723CE7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DD67-3845-4E4E-B378-08ED85EAD7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B5B1-5B83-4CA3-97A8-13AEEA720B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9DE6-3582-4E18-A3F6-BC2FE6EFA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0227-D917-4CCF-8173-3DE432A3D4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F0C3-7FEC-4B74-995E-CB94F867A6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5A56-9492-44C5-9819-74C19A0800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3991-D7DE-45A2-ADCC-A4DDE64DB5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C200-0978-453B-9E13-938AF4742F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06A7-5DAB-4E8D-9056-B4226E7A95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15B3-1FAA-4895-9CC1-2B79F815D9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CC76-93CA-4E5F-823C-624643144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D9B8-20E3-4488-A0C3-34274404DD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F0C4-5E63-4B78-98E9-1B232F435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D6FA-42C2-4B2C-A321-4BC5A2A3B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5B96-7AB9-4C9D-AE27-92DF04577F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F1A1-CABE-4E25-B6A9-B23B46F44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1152-7BF5-48A8-84BE-4383C191C3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42B3-9218-4977-A258-34162A8FD3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D966-D65C-48FE-905E-BB6E78ADEA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C40B-1E60-4E9A-8C26-F500357CFE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8C05-31E4-4A0B-9514-D3162A3078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E5EF-F279-4054-8825-25A8F23A49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BF96-9875-448E-AD88-15BF7735A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2FAB-BBB6-43F4-A924-F980EB97AE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92B7-9BF7-4827-BA4B-0AB5D8E6EA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2989-F434-4606-882F-CCDBCB3B2F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A479-33EE-4C01-8D73-A39778467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9181-D6B0-4AE6-B1D0-990759472F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B803-B300-44DF-87E8-D70964E56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05B6-FA3F-45E3-B0F2-0DA172A603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B5F6-F9DF-4BAD-BC81-3761E28647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C429-EF55-4EFE-8EA6-DF23693229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C300-D8C1-4104-8FC2-9E091DF90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B543-222B-4021-A613-530EDF7EF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1DAE-2FF9-4DD2-B36E-F384373D1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54FA-59B1-4F90-99C6-61455B023C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39CF-5D8B-481F-BD02-7CF6E7488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82F2-271E-4FC9-87DA-7181285CAE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AD7F-7E93-487F-9531-BB84241C61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A882-8A19-4F06-B447-6BA8EFFD1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D5B-FF3F-4831-8C69-C904C9D67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A80C-89A0-4A0F-ABB6-5B0C7201F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8484-95BC-40BF-829F-E1A80C87E5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B32788B5-8D1F-4383-AC3F-BE7DE846E77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1"/>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1"/>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1"/>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9" descr=""/>
          <p:cNvPicPr/>
          <p:nvPr/>
        </p:nvPicPr>
        <p:blipFill>
          <a:blip r:embed="rId1"/>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1"/>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1"/>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7" descr="P06-01 Aircraft Landing in LA"/>
          <p:cNvPicPr/>
          <p:nvPr/>
        </p:nvPicPr>
        <p:blipFill>
          <a:blip r:embed="rId1"/>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1"/>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5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Picture 6" descr="Ess9_Ch-06-Opening Diagram"/>
          <p:cNvPicPr/>
          <p:nvPr/>
        </p:nvPicPr>
        <p:blipFill>
          <a:blip r:embed="rId1"/>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 descr=""/>
          <p:cNvPicPr/>
          <p:nvPr/>
        </p:nvPicPr>
        <p:blipFill>
          <a:blip r:embed="rId1"/>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mashael</cp:lastModifiedBy>
  <dcterms:modified xsi:type="dcterms:W3CDTF">2012-10-14T13:13:12Z</dcterms:modified>
  <cp:revision>5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