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B997-5549-480F-9F4C-1AD53A777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6_Case1.pdf" TargetMode="External"/><Relationship Id="rId2" Type="http://schemas.openxmlformats.org/officeDocument/2006/relationships/hyperlink" Target="http://azimuth-interactive.com/ESS9_Videos/pdfcases/Chapter06_Case2.pdf" TargetMode="External"/><Relationship Id="rId3" Type="http://schemas.openxmlformats.org/officeDocument/2006/relationships/hyperlink" Target="http://www.youtube.com/watch?v=akzNWS5dygQ" TargetMode="External"/><Relationship Id="rId4" Type="http://schemas.openxmlformats.org/officeDocument/2006/relationships/hyperlink" Target="http://www.youtube.com/watch?v=7DXsocKcpN0" TargetMode="External"/><Relationship Id="rId5" Type="http://schemas.openxmlformats.org/officeDocument/2006/relationships/hyperlink" Target="http://www.microsoft.com/video/en/us/details/dfc2576d-d543-49f9-bdf3-062616e442f5" TargetMode="External"/><Relationship Id="rId6" Type="http://schemas.openxmlformats.org/officeDocument/2006/relationships/slide" Target="../slides/slide1.xml"/><Relationship Id="rId7"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FA3E-5378-4D0A-A100-5C5776F0A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Cisco Telepresence: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Unified Communications Systems With Virtual Collaboration: IBM and 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AT&amp;T Launches Managed Cisco Telepresenc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4"/>
              </a:rPr>
              <a:t>CNN 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5"/>
              </a:rPr>
              <a:t>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0BCC-3E99-4D04-A82B-FE0C51919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19E6-57F1-44F5-9324-383A66F6BD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B495-5A05-45E6-8261-B01407964E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0628-9750-4866-81EB-EB9F501C5D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9B83-2407-46E6-AB27-F5F19557DD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C23D-C916-48BC-A698-1E9E6838D3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71AE-4F33-49BA-9D16-D0FED0788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2F4D-56B0-48B1-9970-A0EEC39BD1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E599-9834-4E78-B41D-B698227A06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15BA-05CF-4999-BCC4-2060B73D5D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54E9-37C0-405F-AE63-BB23C0E4E2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511A-E28D-4121-9070-C340CD4356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291-D762-4868-B9A4-6A3FA57E77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9C5A-4245-40C8-84D3-EFFE0C1C5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526A-D4E3-43ED-863D-901CB3E307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5A1C-0346-4548-BE59-CF07222DA7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1D05-C49D-483D-9632-BB6B2251C8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C6FB-9C4B-4911-917F-BCC923FE4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466B-EB0D-4508-9234-1D4CCE65B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401F-F54C-4B8C-810F-CDC6A0617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3E45-2F8E-4D5C-AFEF-727C8C985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6E05-681C-42CF-B1DF-3E63ADA83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36F9-C99E-45BD-BCC8-1DDA87C2CC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152F-8CFE-4DCF-9A4A-4B318A6FE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86E4-52EF-4A8C-8B02-F8A567DD5D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FEEE-13B4-44DB-9C86-3DCA9BA26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7CA8-EF0E-4D7B-B3B4-7F7495372D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8B51-A4EE-4286-BDAB-6B66E4B35E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83D5-FB99-4171-8B37-277471BCB4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C67E-907E-44A6-AA92-9065515FC3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380B-265F-4068-8C1A-B55CDA1593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7A28-4713-4187-A88E-A61A8E5AC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7402-5222-40D1-B225-76FE7B64B1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A205-A466-44A9-A929-9A9BD8F3F7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8DAE-E70D-41FB-9AA7-2CE0D9DEE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FD68-62A8-4C55-9455-E6988FC275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78A3-55E5-417B-9F59-D483F9AF8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45BF-4892-4D10-AB2D-13DE54018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6B18-7BF3-4AF4-8755-1B5EA1F4C0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ACAC-7E5D-4870-A234-41E35E40D2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0D90-3F6C-4550-9854-974B32F38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1DE5-BCA1-4BB9-81CD-C3C878AF1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A42A-E0C0-4E9D-BFDD-0EAAB9599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4AB9-239F-4BC6-83CE-425711ED61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214B-842C-4C9A-A37E-C8BE9D95D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9028C07A-9D81-4EB4-A83B-F5C376D7EE9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1"/>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1"/>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1"/>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9" descr=""/>
          <p:cNvPicPr/>
          <p:nvPr/>
        </p:nvPicPr>
        <p:blipFill>
          <a:blip r:embed="rId1"/>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1"/>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1"/>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7" descr="P06-01 Aircraft Landing in LA"/>
          <p:cNvPicPr/>
          <p:nvPr/>
        </p:nvPicPr>
        <p:blipFill>
          <a:blip r:embed="rId1"/>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1"/>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5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Picture 6" descr="Ess9_Ch-06-Opening Diagram"/>
          <p:cNvPicPr/>
          <p:nvPr/>
        </p:nvPicPr>
        <p:blipFill>
          <a:blip r:embed="rId1"/>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 descr=""/>
          <p:cNvPicPr/>
          <p:nvPr/>
        </p:nvPicPr>
        <p:blipFill>
          <a:blip r:embed="rId1"/>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mashael</cp:lastModifiedBy>
  <dcterms:modified xsi:type="dcterms:W3CDTF">2012-10-14T13:13:12Z</dcterms:modified>
  <cp:revision>5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