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1.wmf" ContentType="image/x-wmf"/>
  <Override PartName="/ppt/media/image29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39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7.jpeg" ContentType="image/jpeg"/>
  <Override PartName="/ppt/media/image6.png" ContentType="image/png"/>
  <Override PartName="/ppt/media/image14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6CB-4339-4ED8-8ECE-647080D8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5F8-9AB7-4795-9E69-15D5E491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B96-34C4-4468-8A5A-BBE44BF7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272-C37B-4898-8540-1D9B075E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31E-6E7E-45EC-B6A2-271E69C5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54D-1E7D-4ACD-97BC-E306A8A8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205-7399-4CC4-82DD-0787D63B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839-5DEB-4084-89EF-754F5302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170-2A30-4CFB-91C6-3F60DF63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84B-5789-4737-8E63-A55F80E4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577-B881-400C-99A0-EB2CF80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6EC-C6DE-4C0A-878C-AB3E9217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AEB2-B630-48D6-A3C3-E1007106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Arial"/>
                <a:cs typeface="Andalus"/>
              </a:rPr>
              <a:t>لا يمكن أن نغير جيناتنا ولكن يمكن ان نغير نمط واسلوب حياتنا لننعم بحياة صحية سع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153360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74000" y="380880"/>
            <a:ext cx="1746000" cy="190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8920" y="3387600"/>
            <a:ext cx="89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ndalus"/>
              </a:rPr>
              <a:t>برنامج موهبة الصيفي المقام في جامعة الملك سعود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ndalus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267080"/>
            <a:ext cx="213336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99"/>
                </a:solidFill>
                <a:latin typeface="Garamond"/>
                <a:cs typeface="Andalus"/>
              </a:rPr>
              <a:t>تحت شع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5640" y="1294920"/>
            <a:ext cx="480060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وضع الفرض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440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8120" y="3657600"/>
            <a:ext cx="3124080" cy="23623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380520"/>
            <a:ext cx="4038480" cy="11430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وضع الفرض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Arial"/>
              </a:rPr>
              <a:t>دعونا نبدأ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ائماً مانشاهد الفراش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الأصف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على الزهور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الصف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نضع فرضية.............. تذهب الفراشات دائماً إلى الزهور التي تحمل نفس لون الفراش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14587" r="18326" b="27087"/>
          <a:stretch/>
        </p:blipFill>
        <p:spPr>
          <a:xfrm>
            <a:off x="5791320" y="4495680"/>
            <a:ext cx="3200400" cy="2190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904760" cy="2209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96" name=""/>
          <p:cNvGraphicFramePr/>
          <p:nvPr/>
        </p:nvGraphicFramePr>
        <p:xfrm>
          <a:off x="609480" y="4876920"/>
          <a:ext cx="2514600" cy="15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876920"/>
                    <a:ext cx="25146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3962520" cy="11430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نضع تنب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نبؤ ماالذي سوف يحدث لو كانت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فرضية صحي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رضيتنا  تتلخص في مايلي.........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ذهب الفراشات دائماً إلى الزهور التي تحمل نفس لون الفراش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فد يكون التنبؤ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فراشات ذات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لون الأحم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ذهب فقط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للزهور الحم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lang="ar-SA" sz="2800" spc="-1" strike="noStrike">
                <a:solidFill>
                  <a:srgbClr val="800080"/>
                </a:solidFill>
                <a:latin typeface="Arial"/>
              </a:rPr>
              <a:t>لفراش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ذات </a:t>
            </a:r>
            <a:r>
              <a:rPr b="1" lang="ar-SA" sz="2800" spc="-1" strike="noStrike">
                <a:solidFill>
                  <a:srgbClr val="800080"/>
                </a:solidFill>
                <a:latin typeface="Arial"/>
              </a:rPr>
              <a:t>اللون البنفسج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ذهب فقط إلى </a:t>
            </a:r>
            <a:r>
              <a:rPr b="0" lang="ar-SA" sz="2800" spc="-1" strike="noStrike">
                <a:solidFill>
                  <a:srgbClr val="800080"/>
                </a:solidFill>
                <a:latin typeface="Arial"/>
              </a:rPr>
              <a:t>الزهو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ذات </a:t>
            </a:r>
            <a:r>
              <a:rPr b="1" lang="ar-SA" sz="2800" spc="-1" strike="noStrike">
                <a:solidFill>
                  <a:srgbClr val="800080"/>
                </a:solidFill>
                <a:latin typeface="Arial"/>
              </a:rPr>
              <a:t>اللون البنفسج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371600"/>
          <a:ext cx="1857600" cy="49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185760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3124080" cy="86832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Arial"/>
              </a:rPr>
              <a:t>التجر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عد وضع الفرضية و تحديد التنبؤ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جب ان</a:t>
            </a:r>
            <a:r>
              <a:rPr b="1" lang="ar-SA" sz="3600" spc="-1" strike="noStrike">
                <a:solidFill>
                  <a:srgbClr val="800080"/>
                </a:solidFill>
                <a:latin typeface="Arial"/>
              </a:rPr>
              <a:t> تُختبر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 طريق</a:t>
            </a:r>
            <a:r>
              <a:rPr b="1" lang="ar-SA" sz="3600" spc="-1" strike="noStrike">
                <a:solidFill>
                  <a:srgbClr val="800080"/>
                </a:solidFill>
                <a:latin typeface="Arial"/>
              </a:rPr>
              <a:t> تجرب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يمكن من خلالها إختبار </a:t>
            </a:r>
            <a:r>
              <a:rPr b="1" lang="ar-SA" sz="3600" spc="-1" strike="noStrike">
                <a:solidFill>
                  <a:srgbClr val="800080"/>
                </a:solidFill>
                <a:latin typeface="Arial"/>
              </a:rPr>
              <a:t>صح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تبؤات القائمة على الفرض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3124080" cy="253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cccc"/>
                </a:solidFill>
                <a:latin typeface="Arial"/>
              </a:rPr>
              <a:t>دعونا نختبر فرضيتن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114800" y="685800"/>
          <a:ext cx="2286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685800"/>
                    <a:ext cx="2286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867280" cy="11430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دعونا نختبر فرضيت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فرضيتنا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تتلخص في مايلي......... تذهب </a:t>
            </a:r>
            <a:r>
              <a:rPr b="1" lang="ar-SA" sz="3600" spc="-1" strike="noStrike">
                <a:solidFill>
                  <a:srgbClr val="009999"/>
                </a:solidFill>
                <a:latin typeface="Arial"/>
              </a:rPr>
              <a:t>الفراشات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دائماً إلى </a:t>
            </a:r>
            <a:r>
              <a:rPr b="1" lang="ar-SA" sz="3600" spc="-1" strike="noStrike">
                <a:solidFill>
                  <a:srgbClr val="ff7c80"/>
                </a:solidFill>
                <a:latin typeface="Arial"/>
              </a:rPr>
              <a:t>الزهور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تي تحمل نفس لون الفراش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09680" y="2895120"/>
            <a:ext cx="502920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99"/>
                </a:solidFill>
                <a:latin typeface="Arial"/>
              </a:rPr>
              <a:t>دعونا نجري التجرب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Writing a Research Proposal"/>
          <p:cNvPicPr/>
          <p:nvPr/>
        </p:nvPicPr>
        <p:blipFill>
          <a:blip r:embed="rId1"/>
          <a:stretch/>
        </p:blipFill>
        <p:spPr>
          <a:xfrm>
            <a:off x="4038480" y="4495680"/>
            <a:ext cx="167652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09320" y="274320"/>
            <a:ext cx="441972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خطوات التجرب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مع مجموعة كبيرة من </a:t>
            </a: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الزهو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ختلفة الألوا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مع مجموعة كبيرة من </a:t>
            </a: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الفراش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مختلف الألوا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تلائم مع الوان الزه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ع الزهور و الفراش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مكان مغلق تتوفر فيه جميع الظروف البيئية من درجة حرارة ورطوبة وتهوية و إضاء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جمع البيان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ن طريق تصوير سلوك الفراشات بواسطة الفيديوو الكاميرا الرقمية او عن طريق المراقبة والتدو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129528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440" y="274320"/>
            <a:ext cx="3048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9999"/>
                </a:solidFill>
                <a:latin typeface="Arial"/>
              </a:rPr>
              <a:t>النتائ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971800" cy="2009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2133720" cy="1447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28600" y="1905120"/>
            <a:ext cx="2666880" cy="1755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334280" y="4114800"/>
            <a:ext cx="180972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167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0" y="4114800"/>
            <a:ext cx="1841400" cy="2743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1905120" y="5140440"/>
            <a:ext cx="2590560" cy="1717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4648320" y="5153040"/>
            <a:ext cx="2590560" cy="17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533520" y="228600"/>
            <a:ext cx="2133360" cy="1401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6553080" y="304920"/>
            <a:ext cx="2210040" cy="145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2590560"/>
            <a:ext cx="3809880" cy="1143000"/>
          </a:xfrm>
          <a:prstGeom prst="rect">
            <a:avLst/>
          </a:prstGeom>
          <a:gradFill rotWithShape="0">
            <a:gsLst>
              <a:gs pos="0">
                <a:srgbClr val="163235"/>
              </a:gs>
              <a:gs pos="50000">
                <a:srgbClr val="316d73"/>
              </a:gs>
              <a:gs pos="100000">
                <a:srgbClr val="16323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9966"/>
                </a:solidFill>
                <a:latin typeface="Arial"/>
              </a:rPr>
              <a:t>الإستنتا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971800" y="304920"/>
          <a:ext cx="3048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04920"/>
                    <a:ext cx="3048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601992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28800" y="3962520"/>
            <a:ext cx="518148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b3200"/>
              </a:gs>
              <a:gs pos="50000">
                <a:srgbClr val="a46d00"/>
              </a:gs>
              <a:gs pos="100000">
                <a:srgbClr val="4b320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99cc00"/>
                </a:solidFill>
                <a:latin typeface="Arial"/>
              </a:rPr>
              <a:t>البحث العلم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6095880"/>
            <a:ext cx="4038840" cy="457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4b3200"/>
              </a:gs>
              <a:gs pos="50000">
                <a:srgbClr val="a46d00"/>
              </a:gs>
              <a:gs pos="100000">
                <a:srgbClr val="4b3200"/>
              </a:gs>
            </a:gsLst>
            <a:lin ang="5400000"/>
          </a:gradFill>
          <a:ln w="9360">
            <a:solidFill>
              <a:srgbClr val="8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cc00"/>
                </a:solidFill>
                <a:latin typeface="Arial"/>
              </a:rPr>
              <a:t>د. مها حسن عبدالعزيز داغستا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6172200" cy="7920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ماذا تعلمنا من هذه التجرب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كتشفنا من خلال التجربة ان </a:t>
            </a:r>
            <a:r>
              <a:rPr b="1" lang="ar-SA" sz="3200" spc="-1" strike="noStrike">
                <a:solidFill>
                  <a:srgbClr val="ff7c80"/>
                </a:solidFill>
                <a:latin typeface="Arial"/>
              </a:rPr>
              <a:t>الفراش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حط على اي </a:t>
            </a:r>
            <a:r>
              <a:rPr b="1" lang="ar-SA" sz="3200" spc="-1" strike="noStrike">
                <a:solidFill>
                  <a:srgbClr val="ff7c80"/>
                </a:solidFill>
                <a:latin typeface="Arial"/>
              </a:rPr>
              <a:t>زهر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ما كان لون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جب ان نعيد صياغة الفرضية و التنبؤات ونبدأ من جد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المهم أن  تتذكري عندما يثبت خطأ الفرضية لايعني ان التجربة قد فشل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الإكتشافات تم التوصل إليها عن طريق  المحاولة و الخطأ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كثير من الإكتشافات العظيمة لم تصل إلينا إلا بعد سنوات طويلة من المحاولات الفاش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200400"/>
            <a:ext cx="8076960" cy="269712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50000">
                <a:srgbClr val="ff7c80"/>
              </a:gs>
              <a:gs pos="100000">
                <a:srgbClr val="75393b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لنفكر في فرضية اخرى منبثقةعن برنامجن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8120" y="228600"/>
          <a:ext cx="24382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"/>
                    <a:ext cx="2438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21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رتفاع نسبة الأطفال و المراهقين المصابين بالسمنة في مختلف مناطق المملكة العربية السعو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04920"/>
            <a:ext cx="1905120" cy="990360"/>
          </a:xfrm>
          <a:prstGeom prst="downArrowCallout">
            <a:avLst>
              <a:gd name="adj1" fmla="val 48096"/>
              <a:gd name="adj2" fmla="val 48092"/>
              <a:gd name="adj3" fmla="val 16667"/>
              <a:gd name="adj4" fmla="val 66667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lin ang="81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لوح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085840" cy="2743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81680" y="3962520"/>
            <a:ext cx="2102040" cy="2590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1981080" cy="2514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4191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3366"/>
                </a:solidFill>
                <a:latin typeface="Arial"/>
              </a:rPr>
              <a:t>طالبتي العزيز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52320" y="2362320"/>
            <a:ext cx="4343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9933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يف نضع و نصيغ مايلي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الفرض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نب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خطوات التجر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21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رتفاع نسبة الإصابة بمرض السكري بين السعودي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04920"/>
            <a:ext cx="1905120" cy="990360"/>
          </a:xfrm>
          <a:prstGeom prst="downArrowCallout">
            <a:avLst>
              <a:gd name="adj1" fmla="val 48096"/>
              <a:gd name="adj2" fmla="val 48092"/>
              <a:gd name="adj3" fmla="val 16667"/>
              <a:gd name="adj4" fmla="val 6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لوح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diabetes"/>
          <p:cNvPicPr/>
          <p:nvPr/>
        </p:nvPicPr>
        <p:blipFill>
          <a:blip r:embed="rId1"/>
          <a:stretch/>
        </p:blipFill>
        <p:spPr>
          <a:xfrm>
            <a:off x="7238880" y="4191120"/>
            <a:ext cx="1600200" cy="2390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1752480" cy="2487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6" name="" descr="diabetes symptoms"/>
          <p:cNvPicPr/>
          <p:nvPr/>
        </p:nvPicPr>
        <p:blipFill>
          <a:blip r:embed="rId3"/>
          <a:stretch/>
        </p:blipFill>
        <p:spPr>
          <a:xfrm>
            <a:off x="3505320" y="3886200"/>
            <a:ext cx="2361960" cy="2762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4191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3366"/>
                </a:solidFill>
                <a:latin typeface="Arial"/>
              </a:rPr>
              <a:t>طالبتي العزيز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2514240"/>
            <a:ext cx="4724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9933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يف نضع و نُصيغ مايلي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الفرض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نب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خطوات التجر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21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رتفاع نسبة الإصابة بمرض هشاشة العظام بين السعودي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304920"/>
            <a:ext cx="1905120" cy="990360"/>
          </a:xfrm>
          <a:prstGeom prst="downArrowCallout">
            <a:avLst>
              <a:gd name="adj1" fmla="val 48096"/>
              <a:gd name="adj2" fmla="val 48092"/>
              <a:gd name="adj3" fmla="val 16667"/>
              <a:gd name="adj4" fmla="val 66667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81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cc"/>
                </a:solidFill>
                <a:latin typeface="Arial"/>
              </a:rPr>
              <a:t>لوح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4876920"/>
            <a:ext cx="1905120" cy="1685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2" name="" descr="Osteoporosis Progression Chart"/>
          <p:cNvPicPr/>
          <p:nvPr/>
        </p:nvPicPr>
        <p:blipFill>
          <a:blip r:embed="rId2"/>
          <a:stretch/>
        </p:blipFill>
        <p:spPr>
          <a:xfrm>
            <a:off x="6934320" y="4876920"/>
            <a:ext cx="1828800" cy="1676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3" name="" descr="image"/>
          <p:cNvPicPr/>
          <p:nvPr/>
        </p:nvPicPr>
        <p:blipFill>
          <a:blip r:embed="rId3"/>
          <a:stretch/>
        </p:blipFill>
        <p:spPr>
          <a:xfrm>
            <a:off x="3124080" y="3886200"/>
            <a:ext cx="2590920" cy="26668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4191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3366"/>
                </a:solidFill>
                <a:latin typeface="Arial"/>
              </a:rPr>
              <a:t>طالبتي العزيز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14600" y="18284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33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يف نضع و نصيغ مايلي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الفرض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نب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خطوات التجر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21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رتفاع نسبة الإصابة بمرض الربو بين  مختلف الفئات العمرية و خاصة الأطفال في السعو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04920"/>
            <a:ext cx="1905120" cy="990360"/>
          </a:xfrm>
          <a:prstGeom prst="downArrowCallout">
            <a:avLst>
              <a:gd name="adj1" fmla="val 48096"/>
              <a:gd name="adj2" fmla="val 48092"/>
              <a:gd name="adj3" fmla="val 16667"/>
              <a:gd name="adj4" fmla="val 66667"/>
            </a:avLst>
          </a:prstGeom>
          <a:gradFill rotWithShape="0">
            <a:gsLst>
              <a:gs pos="0">
                <a:srgbClr val="5e0046"/>
              </a:gs>
              <a:gs pos="50000">
                <a:srgbClr val="cc0099"/>
              </a:gs>
              <a:gs pos="100000">
                <a:srgbClr val="5e0046"/>
              </a:gs>
            </a:gsLst>
            <a:lin ang="81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cc"/>
                </a:solidFill>
                <a:latin typeface="Arial"/>
              </a:rPr>
              <a:t>لوح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124080" y="4114800"/>
            <a:ext cx="2514600" cy="2514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9" name="" descr="adult asthma, types of asthmatics, inhaler overuse asthmatics -- asthma patients who frequently use their bronchodilator asthma inhalers"/>
          <p:cNvPicPr/>
          <p:nvPr/>
        </p:nvPicPr>
        <p:blipFill>
          <a:blip r:embed="rId2"/>
          <a:stretch/>
        </p:blipFill>
        <p:spPr>
          <a:xfrm>
            <a:off x="7238880" y="4800600"/>
            <a:ext cx="1447920" cy="1724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0" name="" descr="According to a new study, acid reflux medication does not help people improve their asthma symptoms.&lt;br /&gt; .........."/>
          <p:cNvPicPr/>
          <p:nvPr/>
        </p:nvPicPr>
        <p:blipFill>
          <a:blip r:embed="rId3"/>
          <a:stretch/>
        </p:blipFill>
        <p:spPr>
          <a:xfrm>
            <a:off x="304920" y="4648320"/>
            <a:ext cx="1600200" cy="19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4191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3366"/>
                </a:solidFill>
                <a:latin typeface="Arial"/>
              </a:rPr>
              <a:t>طالبتي العزيز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6520" y="2209320"/>
            <a:ext cx="4876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9933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يف نضع و نصيغ مايلي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الفرض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نب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خطوات التجر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920" y="274680"/>
            <a:ext cx="3581280" cy="792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33cc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البحث العلم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32004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و أسلوب فكري واع ومنظم يهدف لبحث الظواهر والمشاكل والتعرف على أسبابها وجوانبها, وأختبار العلاقات التي تنشأ بينها, والكشف عن حقائق علمية محددة يتم طرحها في شكل </a:t>
            </a:r>
            <a:r>
              <a:rPr b="1" lang="ar-SA" sz="3200" spc="-1" strike="noStrike" u="sng">
                <a:solidFill>
                  <a:srgbClr val="808080"/>
                </a:solidFill>
                <a:uFillTx/>
                <a:latin typeface="Arial"/>
              </a:rPr>
              <a:t>فرضيات</a:t>
            </a:r>
            <a:r>
              <a:rPr b="1" lang="ar-SA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و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200" spc="-1" strike="noStrike" u="sng">
                <a:solidFill>
                  <a:srgbClr val="808080"/>
                </a:solidFill>
                <a:uFillTx/>
                <a:latin typeface="Arial"/>
              </a:rPr>
              <a:t>تساؤلات</a:t>
            </a:r>
            <a:r>
              <a:rPr b="1" lang="ar-SA" sz="32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t’s a way to solve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معنى اخر، يمكن ان نصف البحث العلمي بأنه الطريق لحل </a:t>
            </a:r>
            <a:r>
              <a:rPr b="1" lang="ar-SA" sz="3200" spc="-1" strike="noStrike" u="sng">
                <a:solidFill>
                  <a:srgbClr val="333399"/>
                </a:solidFill>
                <a:uFillTx/>
                <a:latin typeface="Arial"/>
              </a:rPr>
              <a:t>المشاكل</a:t>
            </a: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9880" y="1295280"/>
          <a:ext cx="1436760" cy="14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95280"/>
                    <a:ext cx="1436760" cy="1436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35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ضعي نُصب عينيك مايل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ــعتــبــر هذه الأمراض أمـراضـاً متعــددة العــوامــل يتــسبب فــي حدوثــها العـديـد مـن العوامــ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0099"/>
                </a:solidFill>
                <a:latin typeface="Arial"/>
              </a:rPr>
              <a:t>الجيــنيــ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هرمونيــ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99"/>
                </a:solidFill>
                <a:latin typeface="Arial"/>
              </a:rPr>
              <a:t>البـيـئـية</a:t>
            </a:r>
            <a:r>
              <a:rPr b="1" lang="ar-SA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38080" y="4648320"/>
          <a:ext cx="15242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648320"/>
                    <a:ext cx="15242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نفكر كلاً على حده ونلتقي في محاضرة الغد إن شاء الله لنضع خطوات البحث العلمي سوي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229600" y="1752480"/>
          <a:ext cx="9144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175248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efe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993366"/>
                </a:solidFill>
                <a:latin typeface="Allegro BT"/>
                <a:cs typeface="Andalus"/>
              </a:rPr>
              <a:t>شكراً لحسن الإصغا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8288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38080" y="457200"/>
            <a:ext cx="8027640" cy="1068120"/>
            <a:chOff x="838080" y="457200"/>
            <a:chExt cx="8027640" cy="1068120"/>
          </a:xfrm>
        </p:grpSpPr>
        <p:sp>
          <p:nvSpPr>
            <p:cNvPr id="173" name=""/>
            <p:cNvSpPr/>
            <p:nvPr/>
          </p:nvSpPr>
          <p:spPr>
            <a:xfrm>
              <a:off x="838080" y="1525320"/>
              <a:ext cx="8027640" cy="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4" name=""/>
            <p:cNvGraphicFramePr/>
            <p:nvPr/>
          </p:nvGraphicFramePr>
          <p:xfrm>
            <a:off x="8152560" y="457200"/>
            <a:ext cx="713160" cy="982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52560" y="457200"/>
                      <a:ext cx="713160" cy="98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2743200" y="2286000"/>
            <a:ext cx="3657600" cy="28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د. مها حسن عبدالعزيز داغستاني</a:t>
            </a: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800600" cy="11430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99"/>
                </a:solidFill>
                <a:latin typeface="Arial"/>
              </a:rPr>
              <a:t>مصطلحات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erms to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33"/>
                </a:solidFill>
                <a:latin typeface="Arial"/>
              </a:rPr>
              <a:t>التنبؤ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التنبؤ بما قد يحد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rediction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A forecast about what </a:t>
            </a:r>
            <a:r>
              <a:rPr b="0" i="1" lang="en-US" sz="2800" spc="-1" strike="noStrike">
                <a:solidFill>
                  <a:srgbClr val="666699"/>
                </a:solidFill>
                <a:latin typeface="Arial"/>
              </a:rPr>
              <a:t>may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33"/>
                </a:solidFill>
                <a:latin typeface="Arial"/>
              </a:rPr>
              <a:t>الفرضي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تنبؤ بالعلاقة مابين المتغي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Prediction about the relationship between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33"/>
                </a:solidFill>
                <a:latin typeface="Arial"/>
              </a:rPr>
              <a:t>التجرب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إختبار مقنن يعتمد على الفرض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xperi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A fair test driven by a hypo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33"/>
                </a:solidFill>
                <a:latin typeface="Arial"/>
              </a:rPr>
              <a:t>الملاحظ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مشاهد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bserv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What is 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Writing a Research Proposal"/>
          <p:cNvPicPr/>
          <p:nvPr/>
        </p:nvPicPr>
        <p:blipFill>
          <a:blip r:embed="rId1"/>
          <a:stretch/>
        </p:blipFill>
        <p:spPr>
          <a:xfrm>
            <a:off x="2286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4572000" cy="121932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99"/>
                </a:solidFill>
                <a:latin typeface="Arial"/>
              </a:rPr>
              <a:t>مصطلحات</a:t>
            </a:r>
            <a:r>
              <a:rPr b="0" lang="ar-SA" sz="4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erms to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33"/>
                </a:solidFill>
                <a:latin typeface="Arial"/>
              </a:rPr>
              <a:t>الإستنتاج: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الإستنتاج المعتمد على الأدلة من خلال الأحداث التي تم رصد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Infer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A conclusion based on evidence about events that have already occu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Manipulated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factor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in the experi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that is chang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by the scient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33"/>
                </a:solidFill>
                <a:latin typeface="Arial"/>
              </a:rPr>
              <a:t>المتغي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عوامل التجربة التي تم تغيرها من قبل الباح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Responding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The factor in the experiment that changes as a result of the manipulated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33"/>
                </a:solidFill>
                <a:latin typeface="Arial"/>
              </a:rPr>
              <a:t>المتغيرات المستجيبة:</a:t>
            </a:r>
            <a:r>
              <a:rPr b="0" lang="ar-SA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وهي العوامل التي تغيرت في التجربة نتيجة للعوامل التي تم تغيرها من قبل الباح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Writing a Research Proposal"/>
          <p:cNvPicPr/>
          <p:nvPr/>
        </p:nvPicPr>
        <p:blipFill>
          <a:blip r:embed="rId1"/>
          <a:stretch/>
        </p:blipFill>
        <p:spPr>
          <a:xfrm>
            <a:off x="0" y="5943600"/>
            <a:ext cx="93816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487692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Arial"/>
              </a:rPr>
              <a:t>أهداف البحث العلم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5160" y="1676520"/>
            <a:ext cx="3429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وص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نب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تفسي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تقو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دح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تثب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518184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Arial"/>
              </a:rPr>
              <a:t>خصائص البحث العلم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ملية منظمة وهادف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أصا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إ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أمانة العل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موضو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د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أعتماد على الدليل بدلاً من المصد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502920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ماهي منهجية البحث العلم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طريقة </a:t>
            </a:r>
            <a:r>
              <a:rPr b="1" lang="ar-SA" sz="2800" spc="-1" strike="noStrike">
                <a:solidFill>
                  <a:srgbClr val="990033"/>
                </a:solidFill>
                <a:latin typeface="Arial"/>
              </a:rPr>
              <a:t>منظم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 البحث تعتمد على </a:t>
            </a:r>
            <a:r>
              <a:rPr b="1" lang="ar-SA" sz="2800" spc="-1" strike="noStrike">
                <a:solidFill>
                  <a:srgbClr val="990033"/>
                </a:solidFill>
                <a:latin typeface="Arial"/>
              </a:rPr>
              <a:t>الفرضيات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على مجموعة من ا</a:t>
            </a:r>
            <a:r>
              <a:rPr b="1" lang="ar-SA" sz="2800" spc="-1" strike="noStrike">
                <a:solidFill>
                  <a:srgbClr val="990033"/>
                </a:solidFill>
                <a:latin typeface="Arial"/>
              </a:rPr>
              <a:t>لقواعد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</a:t>
            </a:r>
            <a:r>
              <a:rPr b="1" lang="ar-SA" sz="2800" spc="-1" strike="noStrike">
                <a:solidFill>
                  <a:srgbClr val="990033"/>
                </a:solidFill>
                <a:latin typeface="Arial"/>
              </a:rPr>
              <a:t>لقواني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ي تهيمن على سير البحث وتفرض على القائم بالبحث التقيد ب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99"/>
                </a:solidFill>
                <a:latin typeface="Arial"/>
              </a:rPr>
              <a:t>يعتمد البحث العلمي على </a:t>
            </a:r>
            <a:r>
              <a:rPr b="1" lang="ar-SA" sz="2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9999"/>
                </a:solidFill>
                <a:latin typeface="Arial"/>
              </a:rPr>
              <a:t> خطوات رئيس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جميع الحقائق او الملاحظ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ضع فرضية لشرح الملاحظ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ختبار الفرضية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86200" y="1752480"/>
          <a:ext cx="198108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19810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42840" y="274320"/>
            <a:ext cx="441972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خطوات البحث العل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819520"/>
            <a:ext cx="2057400" cy="304560"/>
          </a:xfrm>
          <a:prstGeom prst="rect">
            <a:avLst/>
          </a:prstGeom>
          <a:gradFill rotWithShape="0">
            <a:gsLst>
              <a:gs pos="0">
                <a:srgbClr val="4a7455"/>
              </a:gs>
              <a:gs pos="50000">
                <a:srgbClr val="a2fcba"/>
              </a:gs>
              <a:gs pos="100000">
                <a:srgbClr val="4a745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طرح الأسئ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3581280"/>
            <a:ext cx="2057400" cy="381240"/>
          </a:xfrm>
          <a:prstGeom prst="rect">
            <a:avLst/>
          </a:prstGeom>
          <a:gradFill rotWithShape="0">
            <a:gsLst>
              <a:gs pos="0">
                <a:srgbClr val="5c506e"/>
              </a:gs>
              <a:gs pos="50000">
                <a:srgbClr val="c9afef"/>
              </a:gs>
              <a:gs pos="100000">
                <a:srgbClr val="5c506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فرض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1981080"/>
            <a:ext cx="2057400" cy="38124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50000">
                <a:srgbClr val="ff7c80"/>
              </a:gs>
              <a:gs pos="100000">
                <a:srgbClr val="7539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ملاحظ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419720"/>
            <a:ext cx="2057400" cy="380880"/>
          </a:xfrm>
          <a:prstGeom prst="rect">
            <a:avLst/>
          </a:prstGeom>
          <a:gradFill rotWithShape="0">
            <a:gsLst>
              <a:gs pos="0">
                <a:srgbClr val="345b82"/>
              </a:gs>
              <a:gs pos="50000">
                <a:srgbClr val="4f8ac5"/>
              </a:gs>
              <a:gs pos="100000">
                <a:srgbClr val="345b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نب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5257800"/>
            <a:ext cx="205740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جر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4382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2004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40384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48769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18960" y="5486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2193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5486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84872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943600" y="4495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Writing a Research Proposal"/>
          <p:cNvPicPr/>
          <p:nvPr/>
        </p:nvPicPr>
        <p:blipFill>
          <a:blip r:embed="rId1"/>
          <a:stretch/>
        </p:blipFill>
        <p:spPr>
          <a:xfrm>
            <a:off x="304920" y="228600"/>
            <a:ext cx="1266840" cy="1469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Writing a Research Proposal"/>
          <p:cNvPicPr/>
          <p:nvPr/>
        </p:nvPicPr>
        <p:blipFill>
          <a:blip r:embed="rId2"/>
          <a:stretch/>
        </p:blipFill>
        <p:spPr>
          <a:xfrm>
            <a:off x="7877160" y="5388120"/>
            <a:ext cx="1266840" cy="146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77120" y="4724280"/>
            <a:ext cx="24382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عندما تدعم نتائج التجربة الفرضية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وضع المزيد من التبؤات وتُختب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114800"/>
            <a:ext cx="32004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ندما لاتدعم نتيجة التجربه الفرضية نحا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رح الفرضية بصورة مختلفة او نغير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09:33:35Z</dcterms:created>
  <dc:creator> Dr.Maha Daghestani</dc:creator>
  <dc:description/>
  <dc:language>en-US</dc:language>
  <cp:lastModifiedBy> Dr.Maha Daghestani</cp:lastModifiedBy>
  <dcterms:modified xsi:type="dcterms:W3CDTF">2009-07-12T17:05:25Z</dcterms:modified>
  <cp:revision>54</cp:revision>
  <dc:subject/>
  <dc:title>البحث العلمي</dc:title>
</cp:coreProperties>
</file>