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B89-EC2D-4E16-9D3B-9F1D3F51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2D1-732C-4FE6-8D6D-FEDFAF76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11E-B161-4E6D-8D9A-1A51457D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135-DEA7-4AE5-93F3-E063CFD0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0110-78E3-4F25-9A14-01276656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FFAC-1BDA-42A8-B3C5-95AB6DAB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D244-F21B-4476-BECD-766FDCD6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CB51-B2B3-4280-9B7A-598CAC7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6FCF-0620-4E01-9ADF-72DBFE0D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AFEF-8E74-456E-9B8C-5C4865B8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30F3-E6F5-4993-A075-A237DDA9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9DF-E1B1-4A22-B224-6912F31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0C79-09FD-4FF6-85D2-A043510A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2CD0-C9CE-4793-89CD-7E6C5460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9409-BFBC-4CD8-9093-C66631D4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6BDA-9F8A-48F8-B1E0-9BB1F243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6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129492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6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3818160"/>
            <a:ext cx="179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C176-427D-41B4-B9B7-F27EBFAD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33E-59C3-4840-8BA7-422B5CCF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DFC-CE0B-45AE-9C59-8ED5E1EC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2B3-4E28-4840-9FEC-4CD2DA83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30F-C8D8-43C8-86BC-A1108A67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F88-9FCD-415F-9AC3-2E06DF86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5760" y="381816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24C-265D-4818-AB0D-6D002C61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5760" y="1294920"/>
            <a:ext cx="2714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818160"/>
            <a:ext cx="556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69D-FCCF-4985-B885-A4144BE2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8C20-6303-42D8-AC9B-CB1CC5E5208E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8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464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2E23-5B5C-43DA-BE77-55986AB86A6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8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CE4B-EC2B-4468-A9F0-B8B8C25DCE7C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B147-7838-418D-9D46-A0ECC3AEF02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60199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00"/>
                </a:solidFill>
                <a:latin typeface="Arial"/>
                <a:cs typeface="MCS Khaybar S_U striped."/>
              </a:rPr>
              <a:t>البرامج التعليمية-</a:t>
            </a:r>
            <a:r>
              <a:rPr b="1" lang="ar-SA" sz="3600" spc="-1" strike="noStrike">
                <a:solidFill>
                  <a:srgbClr val="ff9900"/>
                </a:solidFill>
                <a:latin typeface="Arial"/>
                <a:ea typeface="MCS Khaybar S_U striped."/>
              </a:rPr>
              <a:t>2</a:t>
            </a:r>
            <a:br>
              <a:rPr sz="3600"/>
            </a:br>
            <a:r>
              <a:rPr b="1" lang="ar-SA" sz="3600" spc="-1" strike="noStrike">
                <a:solidFill>
                  <a:srgbClr val="ff9900"/>
                </a:solidFill>
                <a:latin typeface="Arial"/>
                <a:cs typeface="MCS Khaybar S_U striped."/>
              </a:rPr>
              <a:t>مواصفات البرامج التعليمية الجيد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640" y="3860640"/>
            <a:ext cx="371304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  <a:cs typeface="MCS Khaybar S_U striped."/>
              </a:rPr>
              <a:t>المحاض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9900"/>
                </a:solidFill>
                <a:latin typeface="Arial"/>
                <a:cs typeface="MCS Khaybar S_U striped."/>
              </a:rPr>
              <a:t>الرابع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9628-69FF-407E-AA21-61F08DB81EE0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9E5C-09F4-41C9-B40F-6115ACF106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typing2.jpg (24709 bytes)"/>
          <p:cNvPicPr/>
          <p:nvPr/>
        </p:nvPicPr>
        <p:blipFill>
          <a:blip r:embed="rId1"/>
          <a:stretch/>
        </p:blipFill>
        <p:spPr>
          <a:xfrm>
            <a:off x="826920" y="1136520"/>
            <a:ext cx="684072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3656-9877-49F6-9450-9123B527BFFA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BDD-4487-4D25-B961-AB5E6010F7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472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تنظيم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شاش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8920" y="147744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تحكم الطالب في عرض المعلومات على الشاش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حدود التقسيم واضحة ومتميز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كمية المعلومات المعروضة مناسبة وغير مربك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وضوح وفعالية الرسومات..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استفادة من الألوان بفعال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معلومات اللازمة للاشكال موجودة في نفس الشاش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6" dur="1" fill="hold"/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9896-1EE6-460A-A589-55570EE2B68E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0734-EFE8-455D-85C1-B6D091DCF4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A023-F2C7-4553-BFD0-F6F49D92D1BA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0AAC-4DEF-44B8-9082-B155D0A1AB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BB47-BB77-46DF-835E-354F2836E931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EB22-C628-4705-AA61-C9E653360C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06160" y="380520"/>
            <a:ext cx="590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تعليمات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ضمن البرنامج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عرض على الشاشة عند الطلب فقط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هناك تعليمات اشمل في المطبوعات المصاحب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بلغة بسيطة خالية من مصطلحات الحاس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ضمين بعض العبارات التي توضح انشغال الحاس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5" dur="1" fill="hold"/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9A13-4AF6-4ACA-8C1C-050EBD44FD2F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648D-B1CF-4156-B503-48C4DC1339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6520" y="380520"/>
            <a:ext cx="5686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تعليمات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ستطيع الطالب الرجوع اليها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عليمة لانهاء البرنامج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سمح للطالب ان يبدأ حيث شاء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عليمة تجعل الطالب يبدأ حيث وقف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عمل البرنامج وفقا للتعليمات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FB96-6D77-414B-9F33-377D84BFEA72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B482-174A-4CA0-A317-BD971C70A6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8A56-BE1B-4A34-B317-C1E138C77534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9111-16F7-49D4-9F0A-1B02869A1A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321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ستجابات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طالب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دخل المعلومات بطريقة سهلة ومتناسق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ستعمل المفاتيح الشائعة والواضح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وجود مثال يوضح كيف يستجيب الطال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ذا كانت الاستجابة في صيغة غير متوقعة يقدم المساعد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عطل عمل المفاتيح غير مرغوب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تحكم الطالب في سرعة ادخال المعلومات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FDBF-8CF9-428C-938A-39B6E18F86F8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28A-40B8-4327-9C36-1FBD7757B2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7D1C-6214-471A-90A6-265C14F66377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F371-2892-48C8-82C9-5B98E5607B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321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ستجابات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برنامج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ستجابات البرنامج للاجابات الصحيحة اكثر متعة واثار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عرض الإجابات الصحيحة بعد عدد مناسب من المحاولات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كون عبارات الثناء مختلفة وحسب جودة الإجاب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برامج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حديث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ترفيهية تعليم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المراجع العام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الفنون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برامج المساعدة للكتاب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القصص الالكترون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ذوي الاحتياجات الخاص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المناهج الدراس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تعليم مباشر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رامج لغات البرمج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6446-DA77-47EB-8718-4DF0FAF2A31D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40CD-1B5B-4035-8E5C-35D2583D86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7E55-A2C5-44F2-A334-70D671F3955E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3595-A524-46BC-9039-BF6630FFD3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39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ستجابات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برنامج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تفرع لمستوى اصعب او اسهل حسب مستوى الطال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عطاء تقرير لمستوى الطال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بلغة بسيطة وخالية من مصطلحات الحاس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ADD6-8091-46A9-A032-97AFDD203814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8596-63EE-4562-86A3-B3DCAE04B4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39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وسائل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تشويق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رس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توقي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حديد الدرجا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صو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وسائط المتعدد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الوا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1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معايير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شراء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برامج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هدف من شراء البرنامج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مر الذي يهدف له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وع الحاسب الذي يعمل عليه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ظام التشغيل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ذاكرة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لحقات الحاسب الضرورية للتشغيل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DC4C-DDCA-4A0A-8E88-77DA0FE90CF8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7B3C-1CFE-4F4E-8BF8-B89B01F940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معايير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بناء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برنامج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هدف من البرنامج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حتوى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رحلة الدراسية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0137-BF35-4B40-A96A-5384BDB478AD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2FF4-6CDE-455A-85F1-B9B3EBBD20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3274-EB62-4731-A37A-12988A91BA23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F341-837C-4F93-B97A-26344F057A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439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خطوات اختيار البرامج التعليمي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تأكد من أن البرنامج ملائم لنوع الجها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خلو البرنامج من أخطاء البرمجة أو نقاط الضعف في البرمج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ختبار فعالية البرنامج من الناحية التعليمية والتربوي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5E74-661E-48DF-B30D-C31D97E7B6B2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00EE-1FA0-42E7-B331-3FF3FF1D19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0" y="38052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بعض صفات البرامج التعليمية الجيد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69560" y="1566360"/>
            <a:ext cx="4978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ابدا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أهداف التعليمي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محتو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نظيم الشاش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تعليما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ستجابات الطال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ستجابات البرنام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وسائل التشوي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1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1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888B-DD1C-42AE-9304-D29069B551DA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2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6273-5F55-45FB-BE2F-022EB05FC9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20360" cy="58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ED77-50F6-4E08-8542-C1525BAFA4C1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83A3-8A48-4AEA-BE7F-CE5370FBC6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321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ابداع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عرض المعلومات بطريقة لا يمكن تحقيقها عن طريق الكتاب او أي وسيلة اخرى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مكن الطالب من الاشتراك في عملية التعلي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كون اختيارات التحكم بطريقة ابداع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تحكم في عملية التعل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0DCB-EC16-4AE5-BB7A-D64EC6E31C9E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8F5F-1F55-4F81-A629-9FBEF75D19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6465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اهداف</a:t>
            </a:r>
            <a:r>
              <a:rPr b="0" lang="ar-SA" sz="3600" spc="-1" strike="noStrike">
                <a:solidFill>
                  <a:srgbClr val="0088cc"/>
                </a:solidFill>
                <a:latin typeface="Arial Black"/>
              </a:rPr>
              <a:t> </a:t>
            </a: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تعليمية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47744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حوي المادة المطبوعة اهداف تعليمية معروفة بدقة ووضوح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واضحة للطالب ومفهومه لديه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مهمة بالنسبة للطالب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ركز على الأهداف المحدد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تقوم على أساس فلسفة تربوية واضح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برنامج مناسب لتحقيق الأهداف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3952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0BF6-8229-42E9-A5F4-FEB59B55FC67}" type="datetime">
              <a:rPr b="0" lang="ar-SA" sz="1400" spc="-1" strike="noStrike">
                <a:solidFill>
                  <a:srgbClr val="000000"/>
                </a:solidFill>
                <a:latin typeface="Arial"/>
              </a:rPr>
              <a:t>١٤٤٨/٠٢/١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كتاب د.الف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61500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98B2-4E84-4CAC-AC91-D068B38F13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6249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00"/>
                </a:solidFill>
                <a:latin typeface="Arial Black"/>
                <a:cs typeface="MCS Khaybar S_U striped."/>
              </a:rPr>
              <a:t>المحتوى</a:t>
            </a:r>
            <a:endParaRPr b="0" lang="en-US" sz="3600" spc="-1" strike="noStrike">
              <a:solidFill>
                <a:srgbClr val="0088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5562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مناسب للمستوى الدراسي. وضمن المنه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للمحتوى قيمة علمية تبرر برمجته ويستخدم امكانات الحاسب بفعال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الرسومات والأشكال مصممة جيدا ومناسب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تحكم الطالب في مستوى صعوبة المحتو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يتم عرضه بطريقة منطقية منظم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Hesham Kashkool"/>
              </a:rPr>
              <a:t>مناسب من الناحية الأخلاقية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 rot="16200000">
            <a:off x="-2148120" y="2914560"/>
            <a:ext cx="47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مواصفات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برامج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تعليمية</a:t>
            </a:r>
            <a:r>
              <a:rPr b="1" lang="ar-SA" sz="2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33cccc"/>
                </a:solidFill>
                <a:latin typeface="Arial"/>
                <a:cs typeface="MCS Khaybar S_I striped."/>
              </a:rPr>
              <a:t>الجيد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1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e0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9:46:41Z</dcterms:created>
  <dc:creator/>
  <dc:description/>
  <dc:language>en-US</dc:language>
  <cp:lastModifiedBy>SONY</cp:lastModifiedBy>
  <dcterms:modified xsi:type="dcterms:W3CDTF">2015-10-12T03:40:03Z</dcterms:modified>
  <cp:revision>61</cp:revision>
  <dc:subject>EDUCATIONAL GAMES</dc:subject>
  <dc:title>sosoo: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31033</vt:lpwstr>
  </property>
</Properties>
</file>