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A75-B49D-40D7-8E96-E4456E4E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B86-20E8-40C7-BC8C-97BDEBF4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EDE-1F00-47DE-8C6B-F35A2911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92C-C957-479D-8BBD-252D664B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3E2C-363B-47A3-9D2B-C0304352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611C-4B68-4E2C-A6A6-99EFB890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5512-40C3-48B5-80FF-F1745123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CE38-F8D4-481F-ABDB-B25C938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3A80-5AF6-44A8-B263-6B3C473D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1643-5821-4881-9624-9FEE6DC4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20D3-47D4-4912-98E9-44B4FCF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8FF-20AC-416B-9768-C6C5D43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284-2BE4-48AD-8517-8FF5C6D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EA07-F1D1-4A22-8BB9-1DC763D2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3F9F-6806-4A34-B834-F905E76E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570E-9CC5-4E3B-880B-DE813440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AD88-094D-4C4E-96EE-D9E00135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D64-6AB2-427C-ACFC-E8D540CA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073-BB6E-44AF-98BF-BE0575F2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058-F90A-4685-BDB2-50AA28EF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457-0CE7-48C9-BFC9-74081F44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038-7B97-4523-BD14-56AD1F14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C06-525B-40B6-A80A-3767067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AF4-F007-4FB9-BEDA-D8F4044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A3FC-DD77-4E9E-AAC2-F51B03C2D5C1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8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464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BDC6-596B-4D21-9514-0BB433E8C4A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37F0-1CC0-4461-B688-E866A9C44984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7FA8-4736-4325-B5C8-37DCD96C11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60199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00"/>
                </a:solidFill>
                <a:latin typeface="Arial"/>
                <a:cs typeface="MCS Khaybar S_U striped."/>
              </a:rPr>
              <a:t>البرامج التعليمية-</a:t>
            </a:r>
            <a:r>
              <a:rPr b="1" lang="ar-SA" sz="3600" spc="-1" strike="noStrike">
                <a:solidFill>
                  <a:srgbClr val="ff9900"/>
                </a:solidFill>
                <a:latin typeface="Arial"/>
                <a:ea typeface="MCS Khaybar S_U striped."/>
              </a:rPr>
              <a:t>2</a:t>
            </a:r>
            <a:br>
              <a:rPr sz="3600"/>
            </a:br>
            <a:r>
              <a:rPr b="1" lang="ar-SA" sz="3600" spc="-1" strike="noStrike">
                <a:solidFill>
                  <a:srgbClr val="ff9900"/>
                </a:solidFill>
                <a:latin typeface="Arial"/>
                <a:cs typeface="MCS Khaybar S_U striped."/>
              </a:rPr>
              <a:t>مواصفات البرامج التعليمية الجيد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640" y="3860640"/>
            <a:ext cx="371304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  <a:cs typeface="MCS Khaybar S_U striped."/>
              </a:rPr>
              <a:t>المحاض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9900"/>
                </a:solidFill>
                <a:latin typeface="Arial"/>
                <a:cs typeface="MCS Khaybar S_U striped."/>
              </a:rPr>
              <a:t>الرابع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7F6D-FAE5-4895-85E4-2BABF3938DD2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3C35-E226-45DF-B77F-E1A5C414B3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typing2.jpg (24709 bytes)"/>
          <p:cNvPicPr/>
          <p:nvPr/>
        </p:nvPicPr>
        <p:blipFill>
          <a:blip r:embed="rId1"/>
          <a:stretch/>
        </p:blipFill>
        <p:spPr>
          <a:xfrm>
            <a:off x="826920" y="1136520"/>
            <a:ext cx="684072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D00D-AC11-40A5-9B7D-50794BCAFD27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31B1-1F37-43B3-A00D-2292906A5A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472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تنظيم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شاش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8920" y="147744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تحكم الطالب في عرض المعلومات على الشاش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حدود التقسيم واضحة ومتميز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كمية المعلومات المعروضة مناسبة وغير مربك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وضوح وفعالية الرسومات..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استفادة من الألوان بفعال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معلومات اللازمة للاشكال موجودة في نفس الشاش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6" dur="1" fill="hold"/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CF0D-672E-4041-BCFA-0C124F19A935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D392-A27E-42A1-98DC-7C9C0B8C8D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46BC-CBF8-4F44-9213-ACDAA9D40F0F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0328-0A91-43F6-AE5C-FF296FCBFB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8D89-A858-47DA-AE51-8FE4D926CFA4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FDCF-C420-4C7C-BC6C-B3E201277E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590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تعليمات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ضمن البرنامج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عرض على الشاشة عند الطلب فقط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هناك تعليمات اشمل في المطبوعات المصاح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بلغة بسيطة خالية من مصطلحات الحاس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ضمين بعض العبارات التي توضح انشغال الحاس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F8B2-E57F-441F-A5E7-94E061BE7850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0718-DE53-4F66-BC0D-1B62F51AE1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6520" y="380520"/>
            <a:ext cx="568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تعليمات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ستطيع الطالب الرجوع اليها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عليمة لانهاء البرنامج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سمح للطالب ان يبدأ حيث شاء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عليمة تجعل الطالب يبدأ حيث وقف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عمل البرنامج وفقا للتعليمات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1F6C-CADD-461D-9C89-D364232BF7C3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2F78-1621-4E34-AD83-130878C969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1E36-269A-4547-A5A2-112307A8A4BE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A19-29E9-435B-82B3-AB3EBFF8B2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ستجابات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طالب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دخل المعلومات بطريقة سهلة ومتناسق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ستعمل المفاتيح الشائعة والواضح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وجود مثال يوضح كيف يستجيب الطال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ذا كانت الاستجابة في صيغة غير متوقعة يقدم المساعد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عطل عمل المفاتيح غير مرغو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تحكم الطالب في سرعة ادخال المعلومات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6F82-4D22-4D82-8290-0A2F9BDC5704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ED66-331D-4612-962B-973F8763E8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B084-89E7-4959-B02E-6BF02CC9FDA0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F85F-4297-43AB-BC2C-A04A961EA9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ستجابات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نامج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ستجابات البرنامج للاجابات الصحيحة اكثر متعة واثار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عرض الإجابات الصحيحة بعد عدد مناسب من المحاولات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كون عبارات الثناء مختلفة وحسب جودة الإجا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امج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حديث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ترفيهية تعليم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المراجع العام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الفنون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برامج المساعدة للكتا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القصص الالكترون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ذوي الاحتياجات الخاص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المناهج الدراس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تعليم مباشر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لغات البرمج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B311-ACF7-42A4-9E26-EBFAF0D46C33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3287-2C6A-4B05-959B-01F7E27486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3C9C-394D-4ADA-886F-25A12F7715D6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8A0A-D853-4275-A836-F6FD479E16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9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ستجابات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نامج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فرع لمستوى اصعب او اسهل حسب مستوى الطال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عطاء تقرير لمستوى الطال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بلغة بسيطة وخالية من مصطلحات الحاس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8281-7D06-4704-8354-E9344A855BF4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38C4-F125-46ED-83A5-1FDEC33E57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9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وسائل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تشويق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رس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وقي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حديد الدرجا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صو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وسائط المتعدد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الوا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1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معايير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شراء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امج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هدف من شراء البرنامج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مر الذي يهدف له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وع الحاسب الذي يعمل عليه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ام التشغيل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ذاكرة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لحقات الحاسب الضرورية للتشغيل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BBF-0981-4F06-BD9E-CEEA661C9179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2755-14C7-4002-8771-6DF3F22F6C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معايير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بناء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نامج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هدف من البرنامج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حتوى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رحلة الدراسية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15A5-8585-4A7A-8EEC-200B985952FC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ED02-EE03-4F57-A4A5-5AF05A55B3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7E80-72A1-4AC8-910E-AE990C449BD9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2FA0-FDCA-406E-8C8F-6D529007AB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43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خطوات اختيار البرامج التعليمي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أكد من أن البرنامج ملائم لنوع الجها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خلو البرنامج من أخطاء البرمجة أو نقاط الضعف في البرمج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ختبار فعالية البرنامج من الناحية التعليمية والتربوي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1227-2852-4F56-9C83-EC7DCADC4132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940E-5046-47AE-BB59-FF6F47738A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38052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بعض صفات البرامج التعليمية الجيد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69560" y="1566360"/>
            <a:ext cx="4978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ابدا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أهداف التعليمي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محتو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نظيم الشاش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عليما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ستجابات الطال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ستجابات البرنام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وسائل التشوي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1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EAE9-094F-4683-BE15-D1FBAFDB7A08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6352-8C9A-4BC8-8FA3-78BE364382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20360" cy="58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E703-A5A7-4997-A3DB-15573CF77A51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3CE-B3D8-4AD1-87E9-FA9B35E5DE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ابداع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عرض المعلومات بطريقة لا يمكن تحقيقها عن طريق الكتاب او أي وسيلة اخرى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مكن الطالب من الاشتراك في عملية التعلي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كون اختيارات التحكم بطريقة ابداع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حكم في عملية التعل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68A4-819C-47D5-A2BA-80D401C444F7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4C79-37DB-4113-B218-A0BFBDD0A0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6465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اهداف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تعليمي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47744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حوي المادة المطبوعة اهداف تعليمية معروفة بدقة ووضوح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واضحة للطالب ومفهومه لديه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مهمة بالنسبة للطال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ركز على الأهداف المحدد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قوم على أساس فلسفة تربوية واضح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برنامج مناسب لتحقيق الأهداف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D971-C99C-4476-9392-EBBC4C41BE89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٦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9AA2-0D8B-4977-8041-63123FFCB2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6249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محتوى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مناسب للمستوى الدراسي. وضمن المنه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للمحتوى قيمة علمية تبرر برمجته ويستخدم امكانات الحاسب بفعال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رسومات والأشكال مصممة جيدا ومناس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تحكم الطالب في مستوى صعوبة المحتو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تم عرضه بطريقة منطقية منظم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مناسب من الناحية الأخلاق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9:46:41Z</dcterms:created>
  <dc:creator/>
  <dc:description/>
  <dc:language>en-US</dc:language>
  <cp:lastModifiedBy>SONY</cp:lastModifiedBy>
  <dcterms:modified xsi:type="dcterms:W3CDTF">2015-10-12T03:40:03Z</dcterms:modified>
  <cp:revision>61</cp:revision>
  <dc:subject>EDUCATIONAL GAMES</dc:subject>
  <dc:title>sosoo: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31033</vt:lpwstr>
  </property>
</Properties>
</file>