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CCF9-4144-42A9-A62A-00E51269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DC90-A129-483D-96AB-8B2F9CEB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574-8E65-4483-B256-887F2B84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E46-61B6-4296-BAD9-24EB2A74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9D4-74C2-4CC4-9B26-5969939E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F63-1A9C-4E64-A176-A38A6D1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B2A-5B3E-4C40-8CDE-03485719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1A0-2C10-45F0-B620-FD5561EF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617-8AE3-4F8F-8E65-E78540F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F2C-E07E-4067-ADEC-5D0AE50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2E8-5256-494C-BF10-F3CCD7B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FCC6-A60A-48F6-BF40-51E24DBA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4CB6-9829-4CAF-9CA6-0B1B5701784D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Calibri"/>
              </a:rPr>
              <a:t>الفصل الراب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B14A-4218-436F-9E05-3A636FC7AA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Times New Roman"/>
              </a:rPr>
              <a:t>ثالثا:نظرية التوق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يرى فكتور فروم ان دافعية الفرد لاداء عمل معين هي محص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للعوائد التي يحصل عليها الف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خصائص النظر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لاختيار بين عدة بدائل للسلو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ن الدافعية هي محصلة لثلاث عناص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أ-التوق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ب-الاداء هو الوسيلة للحصول على عوائد معي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ج-العائد ذو منفعة وجاذبية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ن(أ,ب,ج) عملية تقدير شخصي للف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للفرد القدرة والوعي لاعطاء التقديرات والق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C6B2-2F5B-4E38-A71C-C1CA2B2C0F3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عناصر نظرية التوق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أ-التوق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ب- الوسي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ج-منفعة العوائ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لدافعية =التوقع 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X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 الوسيلة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X</a:t>
            </a:r>
            <a:r>
              <a:rPr b="1" lang="en-US" sz="36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منفعة العوائ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E204-D2D3-4C38-AFC0-0A2934E6C93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التطبيق الاداري لنظرية التوق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مقبولة عمليا.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توضيح الوسيلة والعلاقة بين الاداء والوظيف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تأكيد وتوضيح توقعات العاملين.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تأكيد وتوضيح العوائد والحوافز.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A5FA-628D-40EF-A409-8F5CE93F68C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Times New Roman"/>
              </a:rPr>
              <a:t>رابعا:نظرية التعلم الشرطي الوسيل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لقيت انتشارا بعد أعمال سكنر</a:t>
            </a:r>
            <a:r>
              <a:rPr b="1" lang="en-US" sz="4000" spc="-1" strike="noStrike">
                <a:solidFill>
                  <a:srgbClr val="003300"/>
                </a:solidFill>
                <a:latin typeface="Calibri"/>
              </a:rPr>
              <a:t>BFSkinner</a:t>
            </a:r>
            <a:r>
              <a:rPr b="1" lang="en-US" sz="40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(( الفرد يكون مدفوعا لتكرار سلوك, أوالإحجام عن سلو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معين بناء على العوائد المتوقعة منه و إمكانية تحقيق الأهدا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الفردية من هذا السلوك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(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1742-CC9A-4199-8244-8A8A1B7293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إيجاز لنظرية التدعيم في الداف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إن العوائد واللاهداف الداخلية يمكن أن توجه حماس ودافعية الفرد الى اختيار أفض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بديل سلوكي مع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تفترض النظرية إن الفرد يقوم بالعديد من السلوك ويختلف السلوك في نتائجه وبن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على هذه النتائج يتعلم الفرد أن يزيد احتمالا تقيا مه بسلوك معين أو يقلل من احتمالات س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اخ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إن عوائد والحوافز التي تحدث من  السلوك تختل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لازمة لإثارة حماس ودافعية الناس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                     - تختلف في كونها ايجابية أو سلبية (قيام أو عدم قيام)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                   - إن الاستخدام الزمني لجدوال التدعيم له تاثير على السلوك بدرجات متفاو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يتصرف الفرد بصورة طيبة عندما تعتمد الحوافز والمدعمات على الأدا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عندما لايتم تدعيم السلوك الطيب ولمدة طويلة يؤدي ذلك إلى انخفاض الداف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08CB-C780-4E16-BDA5-08412B25801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أثير أنواع الحوافز وجداول التدعيم على الداف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نواع الدوافع لتبني سلوك جد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تدعيم الايجابي(تقديم حوافز ايجاب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التدعيم السلبي(منع حوافز سلب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نواع الدوافع للتخلي عن سلو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قديم حوافز سل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لا تدعيم والعقاب منع مدعمات وحوافز ايجا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4ADF-15F4-4851-9E98-9FED8B8BFF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Calibri"/>
              </a:rPr>
              <a:t>جداول التدعي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هناك نوعان أساسيان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جداول التدعيم المستم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جداول التدعيم المتقط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  <a:ea typeface="Arial"/>
              </a:rPr>
              <a:t> زمنية ثابت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استجابات الثابت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زمنية متغي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استجابات المتغي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5239-5AB9-43F2-8ACD-23C7DB9C5E3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Calibri"/>
              </a:rPr>
              <a:t>التطبيق الاداري لنظرية التدع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بالرغم من الانتقادا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لاتهتم بارادة الفرد( السلوك يفرض على الفرد)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لاتهتم بالحاجات الدافعية للفرد بقدر ماتهتم بالحوافز</a:t>
            </a:r>
            <a:r>
              <a:rPr b="1" lang="ar-SA" sz="9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عتمدت على تجارب معملية يصعب تطبيقها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 .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ا ان تطبيقاتها العملية سهلة وواضحة وممكن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ابد من ربط انظمة الحوافز والاجور بالاداء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بد من اعطاء المدعمات والحوافز بصورة فورية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بد من الاستخدام المثالي لكل من الحوافز الايجابية والسلبية بصورة سليم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53CD-334C-4F3A-A859-17107CECAC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Times New Roman"/>
              </a:rPr>
              <a:t>خامسا:نظرية وضع الهدف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Times New Roman"/>
              </a:rPr>
              <a:t>Goal Setting thoery</a:t>
            </a:r>
            <a:r>
              <a:rPr b="1" lang="en-US" sz="40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وجود اهداف شئ اساسي لتحديد مسار السلو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وجود اهداف يمكن ان يكون دافعا للفرد على تحقيق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اثير الدافعي للاهداف يزيد عندم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- تكون الاهداف 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- تكون الاهداف مقبو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- تكون الاهداف ذات نفع وف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كون الاهداف صع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كون الاهداف قابلة للقيا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08B-FF9B-488F-9E3A-D225A2035A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68360" y="0"/>
            <a:ext cx="8675640" cy="51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تطبيق العملي لنظرية وضع الهد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الاتفاق مع المرؤوسين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(الادارة بالاهداف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O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B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M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F2CB-E928-4236-B3D8-2FAA77D9152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الدافع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كيف ترفع حماس مرؤوسي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معنى الدافع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تحريك السلو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حماس الفر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درجة الحماس تتاثر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بوجود مثيرات داخلية او خارجي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سلوك موجه في اتجاه محدد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تثبييت او تعديل السلو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CF97-838D-4680-AFA0-F49F7B2417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Times New Roman"/>
              </a:rPr>
              <a:t>سادسا:نظرية العدالة (</a:t>
            </a:r>
            <a:r>
              <a:rPr b="1" lang="en-US" sz="4000" spc="-1" strike="noStrike" u="sng">
                <a:solidFill>
                  <a:srgbClr val="003300"/>
                </a:solidFill>
                <a:uFillTx/>
                <a:latin typeface="Times New Roman"/>
              </a:rPr>
              <a:t>Adams</a:t>
            </a:r>
            <a:r>
              <a:rPr b="1" lang="ar-SA" sz="4000" spc="-1" strike="noStrike" u="sng">
                <a:solidFill>
                  <a:srgbClr val="003300"/>
                </a:solidFill>
                <a:uFillTx/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”العدالة شعور وجداني عقلي يتم التوصل إليه من خلال مجموعة من العمليات العقلية والتمثي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ذهني للمشاعر الدالة على العدالة من عدمه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توازن الداخلي بين ما يقدمه من مساهمات وما يحصل عليه من عوا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مقارنة بين ماي حصل عليه مع الآ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شعور بعدم العدالة يدفع الفرد لإنهاء حالة عدم العد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حتمالاته لعدم العدا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نسبة الخاصة ا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لنسبة الخاصة أ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214280" y="1785960"/>
            <a:ext cx="5472360" cy="12240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214960" y="18572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عوائد ال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286240" y="2500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مساهمات ال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500120" y="19288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عوائد الآ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643040" y="25002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مساهمات الآ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786120" y="2143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تتم مقارنتها بـــــ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1"/>
          <p:cNvSpPr/>
          <p:nvPr/>
        </p:nvSpPr>
        <p:spPr>
          <a:xfrm flipH="1">
            <a:off x="5286240" y="2357280"/>
            <a:ext cx="1440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1928880" y="2428920"/>
            <a:ext cx="1512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2050920" y="4724280"/>
            <a:ext cx="4465800" cy="1800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356000" y="486900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يزيد الفرد من كمية الانتاج على حساب الجو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124000" y="486900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يزيد من الجودةعلى حساب كمية الانتا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2050920" y="5734080"/>
            <a:ext cx="21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كل من الكمية او الجودة (او احداهما) ترف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4427640" y="57340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كل من الكمية او الجودة(اواحداهما)ت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4284720" y="4724280"/>
            <a:ext cx="0" cy="180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0"/>
          <p:cNvSpPr/>
          <p:nvPr/>
        </p:nvSpPr>
        <p:spPr>
          <a:xfrm>
            <a:off x="2050920" y="5661000"/>
            <a:ext cx="4465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7667640" y="5013360"/>
            <a:ext cx="79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عوائد على ا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6516720" y="4869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جر بالقط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6516720" y="587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مرتب الثاب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564000" y="429264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3300"/>
                </a:solidFill>
                <a:uFillTx/>
                <a:latin typeface="Calibri"/>
              </a:rPr>
              <a:t>الفرد يشعر بان العوائ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4932360" y="4365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2556000" y="4365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2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E27-CD21-4218-A2EE-D720E2607C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4000" y="404640"/>
            <a:ext cx="8496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استخدام العملي لنظرية العدا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-تقديم أنظمة عاد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وهذا يستلز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 القياس لفاعلية الأد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الإقناع لتوفير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23FB-A93B-4FF4-93F4-10536189EC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علاقة الدافعية بالسلوك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السلوك هي محصلة لكل من الدافعية والقدرة وظروف العم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Times New Roman"/>
              </a:rPr>
              <a:t>السلوك = الدافعية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3300"/>
                </a:solidFill>
                <a:latin typeface="Times New Roman"/>
              </a:rPr>
              <a:t> القدرة </a:t>
            </a:r>
            <a:r>
              <a:rPr b="1" lang="en-US" sz="4000" spc="-1" strike="noStrike">
                <a:solidFill>
                  <a:srgbClr val="003300"/>
                </a:solidFill>
                <a:latin typeface="Times New Roman"/>
              </a:rPr>
              <a:t>x</a:t>
            </a:r>
            <a:r>
              <a:rPr b="1" lang="ar-SA" sz="4000" spc="-1" strike="noStrike">
                <a:solidFill>
                  <a:srgbClr val="003300"/>
                </a:solidFill>
                <a:latin typeface="Times New Roman"/>
              </a:rPr>
              <a:t> الظرو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100F-73B1-4CB1-A6F4-D8E60EB894F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غالبا ما يكون الاستدلال على دوافع السلوك صعبا للا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سلوك المنفرد قد يكون محصلة للعديد من الدوافع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قد يكون هناك انماط عديدة من السلوك محصلة لدافع وا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قد تظهر الدوافع بشكل متنكر او مستتر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هناك اسباب للسلوك مثل القدرات وشخصية الفرد والظرو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A922-5B42-411F-8DC2-41EA50AE6F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Calibri"/>
              </a:rPr>
              <a:t>نظريات الدافع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ولا: نظرية تدرج الحاج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(ابراهام ماسلو) استند على ان هناك مجموعة من الحاجات التي يشعر بها الفردوتعمل كمحر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دافع للسلوك,وضعها في شكل هرم ك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979640" y="2421000"/>
            <a:ext cx="5113440" cy="32400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51280" y="29242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ة لتحقيق الذ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851280" y="3573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ة للتقد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348000" y="407664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ات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276720" y="4653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حاجات الا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3348000" y="522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حاجات الفسيولو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2411280" y="5084640"/>
            <a:ext cx="4248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2843280" y="4581360"/>
            <a:ext cx="3384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3276720" y="4005360"/>
            <a:ext cx="2517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3708360" y="3429000"/>
            <a:ext cx="1655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5F5A-08B2-4681-B3D9-BC028A533F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نقد نظرية تدرج الحاج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ختلاف الناس في ترتيبهم للحاجات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إصرار البعض على المزيد من الحاجات بعد اشباعهابالفع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عدم توضيح حجم الاشباع اللازم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إشباع اكثر من حاجة في نفس الوقت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7CD0-D873-43A0-8D66-642F2DB7C5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Times New Roman"/>
              </a:rPr>
              <a:t>تطبيق نظرية تدرج الحاج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تعرف على الحاجات غير المشبعة والتي تمثل دافع للسلو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وجيه السلوك لمصلحة الادارة من خلال الحوافز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تعرف على شريحة الدرجة التالية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242E-719E-40D8-9ACE-06D149B0F83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3300"/>
                </a:solidFill>
                <a:uFillTx/>
                <a:latin typeface="Times New Roman"/>
              </a:rPr>
              <a:t>ثانيا: نظرية دافع الانجا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ستطاع ديفيد ماكليلاند ان يستنبط من الدراسات ان هناك دافع متميز هو دافع الانجا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تتلخص النظرية فيما ي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افع الانجاز يشير الى الرغبة لاداء العمل بصورة جي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افع الانجاز من الدوافع المتعلمة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تميز ذو الانجاز العالي الى تحمل (المخاطرة المتوسطة)مما يعن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33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مكانية حساب احتمالات المخاط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ب- مناسبة لحجم ونوعية قدرات الفر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ميل ذوو الانجاز العالي الى اختيار تلك الاعمال التي تعطي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اكبر قدر ممكن من المعلومات عن مدى انجازه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C0CE-2CFC-48A7-9666-E024D6593B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68360" y="260280"/>
            <a:ext cx="849636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تطبيق الاداري لدافع الانجا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توفيرظروف عمل مشاب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تصميم برامج التدريب التي يمكنها رفع الانجا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8E10-62BC-444D-AB9E-2CDF2E28E1A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1-11T17:52:49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E52DD5D6-E8FB-4EDF-8187-DB5E42AF4BC2</vt:lpwstr>
  </property>
  <property fmtid="{D5CDD505-2E9C-101B-9397-08002B2CF9AE}" pid="3" name="ArticulatePath">
    <vt:lpwstr>الفصل الرابع- الدافعية</vt:lpwstr>
  </property>
</Properties>
</file>