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C84-E319-40FD-AD50-1036B3D8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8DE-9636-4088-ABFF-8291D78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EE2-73D2-40C9-BC4E-71E423D9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B41-7031-4048-AEDE-2E1386A5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E98-8728-4369-AB2B-1FAC10B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A3E-F119-4F41-8997-48F045A4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EA9-E90D-42C8-9B8C-25E3D6A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832-AEBF-4764-94C7-C07D9080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3DB-EEAF-4E7A-998E-D92257A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1A0-A7E0-4BD7-B0C5-826DC21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73A-24A8-4096-A018-A218ACDF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47D-090D-4E1E-A219-1ECAFD8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50B7-F1A2-4423-848C-CF4C2EEA2795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Calibri"/>
              </a:rPr>
              <a:t>الفصل الراب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815-1327-4B6B-B2E0-247360ED5A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Times New Roman"/>
              </a:rPr>
              <a:t>ثالثا:نظرية التوق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يرى فكتور فروم ان دافعية الفرد لاداء عمل معين هي محص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للعوائد التي يحصل عليها الف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خصائص النظر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لاختيار بين عدة بدائل للسلو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ن الدافعية هي محصلة لثلاث عناص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أ-التوق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ب-الاداء هو الوسيلة للحصول على عوائد م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ج-العائد ذو منفعة وجاذبية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ن(أ,ب,ج) عملية تقدير شخصي للف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للفرد القدرة والوعي لاعطاء التقديرات والق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B93-0CB1-4D1D-A5CF-C1E17481BE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عناصر نظرية التوق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أ-التوق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ب- الوسي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ج-منفعة العوائ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لدافعية =التوقع 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X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 الوسيلة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X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منفعة العوائ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CBA-DB34-43F3-8CA5-419A46E7B8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التطبيق الاداري لنظرية التوق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مقبولة عمليا.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توضيح الوسيلة والعلاقة بين الاداء والوظيف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تأكيد وتوضيح توقعات العاملين.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تأكيد وتوضيح العوائد والحوافز.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D86A-AE9B-4481-8E21-64A4F2DF04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Times New Roman"/>
              </a:rPr>
              <a:t>رابعا:نظرية التعلم الشرطي الوسيل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لقيت انتشارا بعد أعمال سكنر</a:t>
            </a:r>
            <a:r>
              <a:rPr b="1" lang="en-US" sz="4000" spc="-1" strike="noStrike">
                <a:solidFill>
                  <a:srgbClr val="003300"/>
                </a:solidFill>
                <a:latin typeface="Calibri"/>
              </a:rPr>
              <a:t>BFSkinner</a:t>
            </a:r>
            <a:r>
              <a:rPr b="1" lang="en-US" sz="4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(( الفرد يكون مدفوعا لتكرار سلوك, أوالإحجام عن سلو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معين بناء على العوائد المتوقعة منه و إمكانية تحقيق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الفردية من هذا السلوك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(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D675-35F8-4B36-A811-AC82F58933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إيجاز لنظرية التدعيم في الداف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إن العوائد واللاهداف الداخلية يمكن أن توجه حماس ودافعية الفرد الى اختيار أفض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بديل سلوكي مع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تفترض النظرية إن الفرد يقوم بالعديد من السلوك ويختلف السلوك في نتائجه وبن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على هذه النتائج يتعلم الفرد أن يزيد احتمالا تقيا مه بسلوك معين أو يقلل من احتمالات س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اخ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إن عوائد والحوافز التي تحدث من  السلوك تخت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لازمة لإثارة حماس ودافعية الناس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                     - تختلف في كونها ايجابية أو سلبية (قيام أو عدم قيام)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                   - إن الاستخدام الزمني لجدوال التدعيم له تاثير على السلوك بدرجات متفاو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يتصرف الفرد بصورة طيبة عندما تعتمد الحوافز والمدعمات على الأد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عندما لايتم تدعيم السلوك الطيب ولمدة طويلة يؤدي ذلك إلى انخفاض الداف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449A-BE13-40CE-9274-B201B64FAD1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أثير أنواع الحوافز وجداول التدعيم على الداف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نواع الدوافع لتبني سلوك جد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تدعيم الايجابي(تقديم حوافز ايجاب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لتدعيم السلبي(منع حوافز سلب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نواع الدوافع للتخلي عن سلو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قديم حوافز سل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لا تدعيم والعقاب منع مدعمات وحوافز ايجا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E75B-0EDE-4783-AAE2-6B8207BC14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Calibri"/>
              </a:rPr>
              <a:t>جداول التدع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هناك نوعان أساسيا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جداول التدعيم المستم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جداول التدعيم المتقط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  <a:ea typeface="Arial"/>
              </a:rPr>
              <a:t> زمنية ثابت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استجابات الثابت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زمنية متغي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استجابات المتغي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E87-BB08-4C26-9A14-75D814CF9A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Calibri"/>
              </a:rPr>
              <a:t>التطبيق الاداري لنظرية التدع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بالرغم من الانتقادا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لاتهتم بارادة الفرد( السلوك يفرض على الفرد)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لاتهتم بالحاجات الدافعية للفرد بقدر ماتهتم بالحوافز</a:t>
            </a:r>
            <a:r>
              <a:rPr b="1" lang="ar-SA" sz="9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عتمدت على تجارب معملية يصعب تطبيقها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 .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ا ان تطبيقاتها العملية سهلة وواضحة وممكن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ابد من ربط انظمة الحوافز والاجور بالاداء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بد من اعطاء المدعمات والحوافز بصورة فورية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بد من الاستخدام المثالي لكل من الحوافز الايجابية والسلبية بصورة سلي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ED0-EAF2-4633-8A33-C2F1F10C749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Times New Roman"/>
              </a:rPr>
              <a:t>خامسا:نظرية وضع الهدف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Goal Setting thoery</a:t>
            </a:r>
            <a:r>
              <a:rPr b="1" lang="en-US" sz="40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وجود اهداف شئ اساسي لتحديد مسار السلو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وجود اهداف يمكن ان يكون دافعا للفرد على تحقيق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اثير الدافعي للاهداف يزيد عندم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- تكون الاهداف 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- تكون الاهداف مقبو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- تكون الاهداف ذات نفع وف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كون الاهداف ص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كون الاهداف قابلة للقيا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C6F3-5E22-48F8-B742-56266F5385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8360" y="0"/>
            <a:ext cx="867564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تطبيق العملي لنظرية وضع الهد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الاتفاق مع المرؤوسي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(الادارة بالاهداف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B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M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A593-EF91-42D1-8DE8-4CB1779671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الدافع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كيف ترفع حماس مرؤوسي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معنى الدافع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تحريك السلو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حماس الف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درجة الحماس تتاثر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بوجود مثيرات داخلية او خارجي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سلوك موجه في اتجاه محدد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تثبييت او تعديل السلو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728-49C4-4035-8A41-25AE24B1E3E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Times New Roman"/>
              </a:rPr>
              <a:t>سادسا:نظرية العدالة (</a:t>
            </a:r>
            <a:r>
              <a:rPr b="1" lang="en-US" sz="4000" spc="-1" strike="noStrike" u="sng">
                <a:solidFill>
                  <a:srgbClr val="003300"/>
                </a:solidFill>
                <a:uFillTx/>
                <a:latin typeface="Times New Roman"/>
              </a:rPr>
              <a:t>Adams</a:t>
            </a:r>
            <a:r>
              <a:rPr b="1" lang="ar-SA" sz="4000" spc="-1" strike="noStrike" u="sng">
                <a:solidFill>
                  <a:srgbClr val="003300"/>
                </a:solidFill>
                <a:uFillTx/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”العدالة شعور وجداني عقلي يتم التوصل إليه من خلال مجموعة من العمليات العقلية والتمثي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ذهني للمشاعر الدالة على العدالة من عدمه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توازن الداخلي بين ما يقدمه من مساهمات وما يحصل عليه من عوا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مقارنة بين ماي حصل عليه مع الآ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شعور بعدم العدالة يدفع الفرد لإنهاء حالة عدم العد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حتمالاته لعدم العد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نسبة الخاصة ا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نسبة الخاصة أ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14280" y="1785960"/>
            <a:ext cx="5472360" cy="1224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214960" y="18572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عوائد ال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286240" y="2500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مساهمات ال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0120" y="19288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عوائد الآ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43040" y="25002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مساهمات الآ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786120" y="2143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تتم مقارنتها ب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5286240" y="2357280"/>
            <a:ext cx="1440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928880" y="2428920"/>
            <a:ext cx="1512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050920" y="4724280"/>
            <a:ext cx="4465800" cy="180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356000" y="4869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يزيد الفرد من كمية الانتاج على حساب الجو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124000" y="4869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يزيد من الجودةعلى حساب كمية الانتا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050920" y="57340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كل من الكمية او الجودة (او احداهما) ترف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427640" y="57340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كل من الكمية او الجودة(اواحداهما)ت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4284720" y="4724280"/>
            <a:ext cx="0" cy="180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050920" y="5661000"/>
            <a:ext cx="4465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7667640" y="501336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عوائد على ا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516720" y="486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جر بالقط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516720" y="587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مرتب الثاب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564000" y="429264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3300"/>
                </a:solidFill>
                <a:uFillTx/>
                <a:latin typeface="Calibri"/>
              </a:rPr>
              <a:t>الفرد يشعر بان العوا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4932360" y="4365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2556000" y="4365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2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8510-1828-4197-9CD7-82FEB0C30E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4000" y="404640"/>
            <a:ext cx="8496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استخدام العملي لنظرية العدا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-تقديم أنظمة عاد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وهذا يستلز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القياس لفاعلية الأد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الإقناع لتوفير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CC09-28D2-4B30-B551-F7C5277A7F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علاقة الدافعية بالسل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السلوك هي محصلة لكل من الدافعية والقدرة وظروف الع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Times New Roman"/>
              </a:rPr>
              <a:t>السلوك = الدافعية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3300"/>
                </a:solidFill>
                <a:latin typeface="Times New Roman"/>
              </a:rPr>
              <a:t> القدرة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ar-SA" sz="4000" spc="-1" strike="noStrike">
                <a:solidFill>
                  <a:srgbClr val="003300"/>
                </a:solidFill>
                <a:latin typeface="Times New Roman"/>
              </a:rPr>
              <a:t> الظرو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E0F3-E037-4234-BE33-706A901381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غالبا ما يكون الاستدلال على دوافع السلوك صعبا للاسباب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سلوك المنفرد قد يكون محصلة للعديد من الدوافع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قد يكون هناك انماط عديدة من السلوك محصلة لدافع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قد تظهر الدوافع بشكل متنكر او مستتر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هناك اسباب للسلوك مثل القدرات وشخصية الفرد والظرو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DED-BB6C-4E93-93C5-4246EFD8B5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Calibri"/>
              </a:rPr>
              <a:t>نظريات الدافع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ولا: نظرية تدرج الحا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(ابراهام ماسلو) استند على ان هناك مجموعة من الحاجات التي يشعر بها الفردوتعمل كمحر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دافع للسلوك,وضعها في شكل هرم ك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979640" y="2421000"/>
            <a:ext cx="5113440" cy="3240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51280" y="29242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ة لتحقيق الذ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851280" y="3573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ة للتقد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348000" y="4076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ات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276720" y="4653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حاجات الا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348000" y="522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ات الفسيولو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2411280" y="5084640"/>
            <a:ext cx="4248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2843280" y="4581360"/>
            <a:ext cx="3384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3276720" y="4005360"/>
            <a:ext cx="251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3708360" y="3429000"/>
            <a:ext cx="1655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رقم الشريحة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216F-975B-4007-B2B1-DDD91F9F5D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نقد نظرية تدرج الحا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ختلاف الناس في ترتيبهم للحاجات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إصرار البعض على المزيد من الحاجات بعد اشباعهابالفع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عدم توضيح حجم الاشباع اللازم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إشباع اكثر من حاجة في نفس الوقت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27F9-3D43-40F9-BE66-431BEDFC8A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تطبيق نظرية تدرج الحاج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تعرف على الحاجات غير المشبعة والتي تمثل دافع للسلو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وجيه السلوك لمصلحة الادارة من خلال الحوافز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تعرف على شريحة الدرجة التالية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5669-867F-45F5-A596-CF9285B870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Times New Roman"/>
              </a:rPr>
              <a:t>ثانيا: نظرية دافع الانجا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ستطاع ديفيد ماكليلاند ان يستنبط من الدراسات ان هناك دافع متميز هو دافع الانج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تتلخص النظرية فيما ي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افع الانجاز يشير الى الرغبة لاداء العمل بصورة جي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افع الانجاز من الدوافع المتعلمة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تميز ذو الانجاز العالي الى تحمل (المخاطرة المتوسطة)مما يع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33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مكانية حساب احتمالات المخاط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ب- مناسبة لحجم ونوعية قدرات الف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ميل ذوو الانجاز العالي الى اختيار تلك الاعمال التي تعطي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اكبر قدر ممكن من المعلومات عن مدى انجاز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B02-28C7-4B80-9CD1-0D98EAF915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260280"/>
            <a:ext cx="849636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تطبيق الاداري لدافع الانجا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توفيرظروف عمل مشاب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تصميم برامج التدريب التي يمكنها رفع الانجا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C2F8-B51F-454D-B30F-F964F5FBF6A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1-11T17:52:4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E52DD5D6-E8FB-4EDF-8187-DB5E42AF4BC2</vt:lpwstr>
  </property>
  <property fmtid="{D5CDD505-2E9C-101B-9397-08002B2CF9AE}" pid="3" name="ArticulatePath">
    <vt:lpwstr>الفصل الرابع- الدافعية</vt:lpwstr>
  </property>
</Properties>
</file>