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97A-39DA-48FE-8FBB-77208676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748-0048-46BE-AF82-5AF5B91E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208-F8A8-4F09-827A-1E64D461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16A-0ABC-4141-B38F-081C044D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A9D1-B98A-4E31-BC8C-D134E674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D350-5C80-4209-A99C-9902C505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CF2C-49F8-4D46-BE1C-1BE4EE3B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0188-14F7-479B-8D05-99AB2F36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94FD-DD81-4669-A313-328D3241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EC2B-2A3E-4CED-85B6-BF79CF8D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A5A7-AC80-4B4F-A60C-53DF1F1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93E-BA05-449D-B02D-1D05FB93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9E73-991A-4345-B7B6-82935820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398C-AB27-40BC-B00B-086CAAA8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23D6-3FD5-42EA-B25B-8454CC1F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07EF-C14B-45B3-B7D2-B92C31FE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F0FF-484B-45AF-A4B3-7E635469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F454-F1C1-44E4-894B-C5589BE5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C033-E509-49F9-8A8C-AA3BC6E6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87C3-1065-44DA-A3B6-C1BC2C56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32E81-A9B4-4EDE-B3AD-78BAF307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BAFC-6AA9-418E-97C5-5431037E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390-48AE-4F2F-89D7-E19E82E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0BEC-0844-4ED8-8EFA-AA3D3E76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D23A-F4AF-4749-977D-EB31F53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6202-D3FC-4B9A-86AA-D2756349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785E-98A4-4BDF-B643-5B99CB42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5524-6788-4AC1-A134-3BDA22C6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2AA5C-FE37-4886-ACF1-BE258598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3E642-7670-400C-A1A5-C85B7D71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2945F-E206-4134-8EEE-80AF0AB5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B441B-6788-463E-815A-132E2185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00FD-50DA-4AF4-B715-6B120029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AEF-70AC-4E53-AEE3-409F5D49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974C4-6D1F-4305-9BE5-FCCDFF24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2B47-8CA3-47B0-AAA3-026E67B7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A4153-3242-4BC9-BE31-2D1EFF9E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2228-F575-43DA-9717-0774468F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DF58-763D-4F31-AAFC-F824DC96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4AE1B-E431-4713-B882-0DD7CF89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987C-403F-4E4F-852B-A435CA9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75B63-D34C-4BC4-92EC-7345B71C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F38D-1746-49C6-9B12-46D26F45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3FB1A-E040-47D3-B642-1B303C30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D5D-6EB1-48CC-87BB-181FCCD5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A4F2-813A-4A80-9E4B-CC33693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FA17-8DA1-46B2-B37D-4688B971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5FCE6-E67C-4467-A684-E5336B7B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789A-8E39-486C-9657-C150D849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6C192-AED0-44C5-9FAF-CDA7A85C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8859A-D8D6-4059-9514-4ECB6D4D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D30B-32C8-416D-8647-1ABA7CE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565B7-6215-4D26-9AAF-2E6730C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31ED8-E2FB-4E1B-870E-CFF5FC5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4B19-630F-4EB5-9DBD-DE03DEF6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9B8-9FCD-46A0-848E-279C6544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DD8B3-404F-42C8-A2DD-5FD62207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72CCF-045C-44EF-A8F4-50B2896F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B6771-BBEC-4630-851B-FD3737AC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04175-DC49-48E7-A2FA-8B7A245D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1939F-2A4D-49FC-BADA-CA85F995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479E6-A577-4C5F-9CDC-FCD65408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42EC3-4A35-4676-8C6C-75B3C201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0BB17-B869-4B4D-9157-0F47DC3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AD547-E747-4793-B948-E5178BFD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C09FA-390F-4256-94C6-E3D784E6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37D-AADF-4340-8DDF-8A3E6BD5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3729C-3E18-42C6-A9D8-459105C5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8F525-C277-4C8E-B150-E1B8733D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3BBDD-B3AE-43F7-A2C9-FB8EA333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7D056-E343-4517-8560-5DC70F3A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9408-BD6C-44AE-BB3D-04030727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B3B1F-F00D-43A8-A23E-F09E87F3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2BC17-E2C0-43E6-AE2B-6C7A7ACD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18BC6-1515-49A4-A6AF-AC8F94FB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D9297-EE4D-420D-A9C2-BAE03D2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FB4D1-98EA-430D-8DD7-3D399993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E36-EC29-444F-8A3D-44249BD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7B39F-49AA-41BE-A93D-40F65B92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0FC5-73E0-4EC6-9B90-07341F47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B1BB0-28C0-46C5-8727-2678080D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3DBC-F6CC-4966-A690-8F39CAA5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08B8F-FA0D-44B7-8A56-F9F47F69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38F-708B-4CF4-8FD3-F710A45F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A8EF2-C23B-40D6-BF3A-810F17B0B470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97E49-CB28-4713-9874-D2CE2A127D8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B00A6-0E0C-4CDC-B06B-0A9B6F1A1B56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A1DB2-4A70-414F-956D-2557DDA25265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F5CB8-FA9A-4F4C-BF34-39CB91C1E7D9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49EF4-336D-4A03-B02D-B2E21E82406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48F9B-ABE0-4F10-ABED-7B14CE96033D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2413A-9D9C-4582-A35D-745FB34CD2F2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A27EE-3DEB-4DBF-8275-E8E2949C84FD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484C2-3625-4CE3-90E9-21139100E7C9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54EEC-B34F-4962-B158-AA708F78E2F0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446A4-9DEF-4ADD-BDC5-B7516474255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9FDA3-113D-42D5-9CB9-474210DC9190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CA8E8-BDC4-4155-BD3C-650A0D95759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CLS 431 UDI KIT SEMI METHOD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12360" y="357300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7534c"/>
                </a:solidFill>
                <a:latin typeface="Comic Sans MS"/>
                <a:ea typeface="ヒラギノ角ゴ Pro W3"/>
              </a:rPr>
              <a:t>Lab 2</a:t>
            </a:r>
            <a:br>
              <a:rPr sz="2600"/>
            </a:br>
            <a:r>
              <a:rPr b="0" lang="en-US" sz="2600" spc="-1" strike="noStrike">
                <a:solidFill>
                  <a:srgbClr val="47534c"/>
                </a:solidFill>
                <a:latin typeface="Comic Sans MS"/>
                <a:ea typeface="ヒラギノ角ゴ Pro W3"/>
              </a:rPr>
              <a:t>QUANTITATIVE DETERMENATION OF LACTATE DEHYDROGENASE (LDH)</a:t>
            </a:r>
            <a:br>
              <a:rPr sz="2600"/>
            </a:br>
            <a:endParaRPr b="0" lang="en-US" sz="2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77c84"/>
                </a:solidFill>
                <a:latin typeface="Comic Sans MS"/>
                <a:ea typeface="ヒラギノ角ゴ Pro W3"/>
              </a:rPr>
              <a:t>PRINCIPL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omic Sans MS"/>
                <a:ea typeface="Tahoma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lactate + NAD</a:t>
            </a:r>
            <a:r>
              <a:rPr b="0" lang="en-US" sz="2400" spc="-1" strike="noStrike" baseline="30000">
                <a:solidFill>
                  <a:srgbClr val="564b3c"/>
                </a:solidFill>
                <a:latin typeface="Comic Sans MS"/>
                <a:ea typeface="ヒラギノ角ゴ Pro W3"/>
              </a:rPr>
              <a:t>+</a:t>
            </a:r>
            <a:r>
              <a:rPr b="0" lang="ar-SA" sz="2400" spc="-1" strike="noStrike">
                <a:solidFill>
                  <a:srgbClr val="564b3c"/>
                </a:solidFill>
                <a:latin typeface="Comic Sans MS"/>
                <a:ea typeface="Tahoma"/>
              </a:rPr>
              <a:t>  </a:t>
            </a:r>
            <a:r>
              <a:rPr b="0" lang="en-US" sz="2400" spc="-1" strike="noStrike" baseline="30000">
                <a:solidFill>
                  <a:srgbClr val="564b3c"/>
                </a:solidFill>
                <a:latin typeface="Comic Sans MS"/>
                <a:ea typeface="ヒラギノ角ゴ Pro W3"/>
              </a:rPr>
              <a:t>LDH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 </a:t>
            </a:r>
            <a:r>
              <a:rPr b="0" lang="ar-SA" sz="2400" spc="-1" strike="noStrike">
                <a:solidFill>
                  <a:srgbClr val="564b3c"/>
                </a:solidFill>
                <a:latin typeface="Comic Sans MS"/>
                <a:ea typeface="Tahoma"/>
              </a:rPr>
              <a:t>     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Pyruvate + NADH + H</a:t>
            </a:r>
            <a:r>
              <a:rPr b="0" lang="en-US" sz="2400" spc="-1" strike="noStrike" baseline="30000">
                <a:solidFill>
                  <a:srgbClr val="564b3c"/>
                </a:solidFill>
                <a:latin typeface="Comic Sans MS"/>
                <a:ea typeface="ヒラギノ角ゴ Pro W3"/>
              </a:rPr>
              <a:t>+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the rate of increase in concentration of NADH, measured photo metrically, is proportional to the catalytic concentration of LDH present in the sampl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cxnSp>
        <p:nvCxnSpPr>
          <p:cNvPr id="335" name="Straight Arrow Connector 4"/>
          <p:cNvCxnSpPr/>
          <p:nvPr/>
        </p:nvCxnSpPr>
        <p:spPr>
          <a:xfrm>
            <a:off x="3138480" y="2565000"/>
            <a:ext cx="838800" cy="2520"/>
          </a:xfrm>
          <a:prstGeom prst="straightConnector1">
            <a:avLst/>
          </a:prstGeom>
          <a:ln w="25560">
            <a:solidFill>
              <a:srgbClr val="b32c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b7d72"/>
                </a:solidFill>
                <a:latin typeface="Comic Sans MS"/>
                <a:ea typeface="ヒラギノ角ゴ Pro W3"/>
              </a:rPr>
              <a:t>CLINICAL SIGNIFICANC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Highest activity found in heart, liver, kidney, skeletal muscle and erythrocyt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Lesser activity is found in smooth muscle and brai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Increased levels of the enzyme are found in cardiac, hepatic, skeletal muscle and renal diseas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Highest serum levels of LD are seen in pernicious anem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746748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7d72"/>
                </a:solidFill>
                <a:latin typeface="Comic Sans MS"/>
                <a:ea typeface="ヒラギノ角ゴ Pro W3"/>
              </a:rPr>
              <a:t>SAMPLES</a:t>
            </a:r>
            <a:endParaRPr b="0" lang="en-US" sz="4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837720"/>
            <a:ext cx="746748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Mix, incubate for </a:t>
            </a:r>
            <a:r>
              <a:rPr b="0" lang="en-US" sz="2000" spc="-1" strike="noStrike" u="sng">
                <a:solidFill>
                  <a:srgbClr val="564b3c"/>
                </a:solidFill>
                <a:uFillTx/>
                <a:latin typeface="Comic Sans MS"/>
                <a:ea typeface="ヒラギノ角ゴ Pro W3"/>
              </a:rPr>
              <a:t>1 minute</a:t>
            </a:r>
            <a:r>
              <a:rPr b="0" lang="en-US" sz="20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Mix and incubate at 30℃ for 1 minute, then read absorbance every minute for 3 minutes against D.W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Calculate the difference between absorbance's and the average absorbance differences per minute (Δ A/min)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11280" y="1844640"/>
          <a:ext cx="7561080" cy="205092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WR (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682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-warm at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for 3 minutes and ad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mpl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μ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7c84"/>
                </a:solidFill>
                <a:latin typeface="Comic Sans MS"/>
                <a:ea typeface="ヒラギノ角ゴ Pro W3"/>
              </a:rPr>
              <a:t>CALCULATIONS</a:t>
            </a:r>
            <a:br>
              <a:rPr sz="3200"/>
            </a:b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c84"/>
                </a:solidFill>
                <a:latin typeface="Comic Sans MS"/>
                <a:ea typeface="ヒラギノ角ゴ Pro W3"/>
              </a:rPr>
              <a:t>Calculation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ΔA/min x 6592 = U/L of LDH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c84"/>
                </a:solidFill>
                <a:latin typeface="Comic Sans MS"/>
                <a:ea typeface="ヒラギノ角ゴ Pro W3"/>
              </a:rPr>
              <a:t>Reference values: at 37 C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80-285U/L</a:t>
            </a:r>
            <a:r>
              <a:rPr b="0" lang="ar-SA" sz="2400" spc="-1" strike="noStrike">
                <a:solidFill>
                  <a:srgbClr val="564b3c"/>
                </a:solidFill>
                <a:latin typeface="Comic Sans MS"/>
                <a:ea typeface="Tahoma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ma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103 – 227 U/L fema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9:52:57Z</dcterms:created>
  <dc:creator>Mac</dc:creator>
  <dc:description/>
  <dc:language>en-US</dc:language>
  <cp:lastModifiedBy>ksulab</cp:lastModifiedBy>
  <dcterms:modified xsi:type="dcterms:W3CDTF">2016-02-10T10:11:26Z</dcterms:modified>
  <cp:revision>19</cp:revision>
  <dc:subject/>
  <dc:title>Quantitative determenation of Lactate Dehydrogenase (LDH) </dc:title>
</cp:coreProperties>
</file>