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D46-18D6-45E7-885A-32CC4CE9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EE0-C27B-4603-8DF9-6813CE5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50D-4DAD-4211-BD34-BEC0FB7A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D04-4A8F-4003-A166-7F07F1AD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1CB5-F966-4AEB-8806-BDFA6A68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D192-ECB0-480C-9BBE-F71E8742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C7BB-38CD-45E8-9A11-CA85E0ED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C01E-DB7A-407D-80C1-6F6408A5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380E-DF71-4101-9C4C-55B074FF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D7D8-E0DD-452E-A460-4B5784BD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FE36-274E-48B3-9D6D-EB0D811E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485-5684-48F0-AB06-4AA08044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7AEB-9439-45DC-B3AE-7D0C87C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1616-8CA5-4DCF-9703-2234854F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5E89-C3E3-4B95-AF46-E00DA229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EC5B-7B84-41D4-8E59-A139FB59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1621-B76E-4998-8170-01B01FD5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8D455-C913-4942-9280-A86DAAA5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8748B-2511-4A12-B625-0957B353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1DFC7-B6DC-4724-846A-7796924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CAB4B-A8C2-42CC-8BD7-C2FBB6D6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AB54-379B-4C74-87FB-DD3103D8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908-852D-4EA5-85F1-E9C79774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4D9DB-2494-432E-913B-E271059F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A4DF-C11B-47A0-B8CC-4C7E9084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F91E-965C-4297-8D92-27FDA33B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953E-65CA-4B5F-B971-8CE56F89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EC23D-AE8D-4FEE-8725-832D10FD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DE5A-1116-4EAF-9A12-2EDBEF15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7F5D6-EFE6-424C-9252-AC422C3B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4C9D3-7BE9-4EBD-A32A-7C46A224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83CB-11E5-4CBA-BAAE-4B2819EC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7DA6E-6526-4FD2-B1B3-6D45982E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678-2CDA-4792-B76A-BCE3C8DA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E6DB4-9C38-4C45-BA23-8F23EF40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DDDF2-CC95-4459-8DA5-629F0021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3A29A-3207-40BC-8CFB-E187EE37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8179-CF67-4DC8-8900-BF747A8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469C-E4D9-45C4-BC0B-541905C4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A3AB3-4893-41E7-8C19-0E1A2E95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79D1D-5489-4366-B1C2-2D28896D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1A80-D5AD-4D06-88B4-2CDF1C1A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1184-31DF-407B-8D9E-7A79D905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C021B-B86C-4F61-9397-DFC1616F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D92-C45D-4720-86C3-FD630511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C87D5-9D7F-485C-9A89-D40F7384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697D5-7D7F-4C26-B50D-1ECAD47F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C026D-D1CC-4011-AF4E-226840BF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23B0C-13E8-46FB-94DF-6419707B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982EC-5B45-40E8-B97F-F5798D86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8B79-144C-4CEA-B0CA-065A6FC9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4B9A2-56F4-4F66-AB93-A3E59D86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1193D-087F-4FB9-AD28-22D52A65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C9637-8B91-497C-820F-DEFD47F9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C76F2-269A-436F-8092-C89B38F0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5E8-E8F5-4207-B75B-098B067E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7DF9D-D30E-460C-9E2E-01F851D0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94A49E-4153-4B31-B8D3-2CBBC794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0C2F2-6995-4D30-9D45-A692D7BC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1484D-80E6-4540-96B8-BDFF0BD8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22DEB-1F6B-4DC3-9199-AF3353F9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4DE012-5A44-4D7C-92A6-B5A1A465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83321B-5AD7-43CA-A0C5-5C766FFF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0079D-8E05-42E0-834E-F47FD6B7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96D2E-89C4-4542-A032-E6B3AE5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94226-0722-46CA-933B-65A2043C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A24-BE5B-4AB9-AB53-436556E4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7CAF4-BFBF-4E87-8373-190F1957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A51F30-0DBC-41E5-8B1D-2B852564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C131BA-4FA5-4AA8-BA55-5DBAFF47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0C429-AE68-43E0-A016-31619928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564A0-75A8-4303-A0B0-8F44E68B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9B028-6AF4-4106-B173-533BBCCD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77637-DA1E-4DCB-B5A7-F56B0352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3CB7-DD8D-4BA5-AC13-569E94C9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3FCC2-F72B-4AFD-A962-D259E427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F0689-B6C9-43A2-BA72-A03A8EC3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44B-4490-439F-A767-A434F45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63FDA-BEDA-49F1-A649-531D7339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BAFB7-EE80-4494-8C3A-6DD6D3CC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67222-10A4-40A6-8CE7-E4C31F31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EB925-548C-46CE-9B99-F3121CFA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AD0F1-8CED-4465-89AA-C86EB7B8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03F-FD08-4FF0-BDB1-E9F359D0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CFB4B4-9560-418C-B6A7-8987D760DE76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C94F0-2233-4DF0-B07F-9C896AC4FED7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317D2-13B3-4E19-930B-66DF8D97480C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1C948-9901-48D4-8698-D61C27EE3C67}" type="slidenum">
              <a:rPr b="0" lang="en-US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823F0-D2B9-405B-8F4E-B89EA3863AD1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AECCD-2775-4B08-A017-1FD067D5F96A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FA153-1DE6-4D51-B21F-D5649F055C8D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B4E0E-260C-4C75-9392-1BDA8A000295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1883A-F60C-4A71-A0B0-7F779C02FFC3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CBC66-00F2-45D6-A425-E27D8583440F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5DA39-3A3C-4108-A1E8-D005665A7CB4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A00C0-3256-46CC-B2F7-96F1A35DF6E3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DBD8F-5B54-4563-8D35-A9D48FB159F2}" type="datetime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BAC82-AD88-4DF4-83AF-FB172AFD9591}" type="slidenum">
              <a:rPr b="0" lang="en-US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ヒラギノ角ゴ Pro W3"/>
              </a:rPr>
              <a:t>CLS 431 UDI KIT SEMI METHOD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12360" y="357300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7534c"/>
                </a:solidFill>
                <a:latin typeface="Comic Sans MS"/>
                <a:ea typeface="ヒラギノ角ゴ Pro W3"/>
              </a:rPr>
              <a:t>Lab 2</a:t>
            </a:r>
            <a:br>
              <a:rPr sz="2600"/>
            </a:br>
            <a:r>
              <a:rPr b="0" lang="en-US" sz="2600" spc="-1" strike="noStrike">
                <a:solidFill>
                  <a:srgbClr val="47534c"/>
                </a:solidFill>
                <a:latin typeface="Comic Sans MS"/>
                <a:ea typeface="ヒラギノ角ゴ Pro W3"/>
              </a:rPr>
              <a:t>QUANTITATIVE DETERMENATION OF LACTATE DEHYDROGENASE (LDH)</a:t>
            </a:r>
            <a:br>
              <a:rPr sz="2600"/>
            </a:br>
            <a:endParaRPr b="0" lang="en-US" sz="2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77c84"/>
                </a:solidFill>
                <a:latin typeface="Comic Sans MS"/>
                <a:ea typeface="ヒラギノ角ゴ Pro W3"/>
              </a:rPr>
              <a:t>PRINCIPL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64b3c"/>
                </a:solidFill>
                <a:latin typeface="Comic Sans MS"/>
                <a:ea typeface="Tahoma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lactate + NAD</a:t>
            </a:r>
            <a:r>
              <a:rPr b="0" lang="en-US" sz="2400" spc="-1" strike="noStrike" baseline="30000">
                <a:solidFill>
                  <a:srgbClr val="564b3c"/>
                </a:solidFill>
                <a:latin typeface="Comic Sans MS"/>
                <a:ea typeface="ヒラギノ角ゴ Pro W3"/>
              </a:rPr>
              <a:t>+</a:t>
            </a:r>
            <a:r>
              <a:rPr b="0" lang="ar-SA" sz="2400" spc="-1" strike="noStrike">
                <a:solidFill>
                  <a:srgbClr val="564b3c"/>
                </a:solidFill>
                <a:latin typeface="Comic Sans MS"/>
                <a:ea typeface="Tahoma"/>
              </a:rPr>
              <a:t>  </a:t>
            </a:r>
            <a:r>
              <a:rPr b="0" lang="en-US" sz="2400" spc="-1" strike="noStrike" baseline="30000">
                <a:solidFill>
                  <a:srgbClr val="564b3c"/>
                </a:solidFill>
                <a:latin typeface="Comic Sans MS"/>
                <a:ea typeface="ヒラギノ角ゴ Pro W3"/>
              </a:rPr>
              <a:t>LDH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 </a:t>
            </a:r>
            <a:r>
              <a:rPr b="0" lang="ar-SA" sz="2400" spc="-1" strike="noStrike">
                <a:solidFill>
                  <a:srgbClr val="564b3c"/>
                </a:solidFill>
                <a:latin typeface="Comic Sans MS"/>
                <a:ea typeface="Tahoma"/>
              </a:rPr>
              <a:t>     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Pyruvate + NADH + H</a:t>
            </a:r>
            <a:r>
              <a:rPr b="0" lang="en-US" sz="2400" spc="-1" strike="noStrike" baseline="30000">
                <a:solidFill>
                  <a:srgbClr val="564b3c"/>
                </a:solidFill>
                <a:latin typeface="Comic Sans MS"/>
                <a:ea typeface="ヒラギノ角ゴ Pro W3"/>
              </a:rPr>
              <a:t>+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the rate of increase in concentration of NADH, measured photo metrically, is proportional to the catalytic concentration of LDH present in the sampl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cxnSp>
        <p:nvCxnSpPr>
          <p:cNvPr id="335" name="Straight Arrow Connector 4"/>
          <p:cNvCxnSpPr/>
          <p:nvPr/>
        </p:nvCxnSpPr>
        <p:spPr>
          <a:xfrm>
            <a:off x="3138480" y="2565000"/>
            <a:ext cx="838800" cy="2520"/>
          </a:xfrm>
          <a:prstGeom prst="straightConnector1">
            <a:avLst/>
          </a:prstGeom>
          <a:ln w="25560">
            <a:solidFill>
              <a:srgbClr val="b32c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b7d72"/>
                </a:solidFill>
                <a:latin typeface="Comic Sans MS"/>
                <a:ea typeface="ヒラギノ角ゴ Pro W3"/>
              </a:rPr>
              <a:t>CLINICAL SIGNIFICANCE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Highest activity found in heart, liver, kidney, skeletal muscle and erythrocytes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Lesser activity is found in smooth muscle and brain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Increased levels of the enzyme are found in cardiac, hepatic, skeletal muscle and renal disease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Highest serum levels of LD are seen in pernicious anemia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746748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b7d72"/>
                </a:solidFill>
                <a:latin typeface="Comic Sans MS"/>
                <a:ea typeface="ヒラギノ角ゴ Pro W3"/>
              </a:rPr>
              <a:t>SAMPLES</a:t>
            </a:r>
            <a:endParaRPr b="0" lang="en-US" sz="44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837720"/>
            <a:ext cx="7467480" cy="56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Mix, incubate for </a:t>
            </a:r>
            <a:r>
              <a:rPr b="0" lang="en-US" sz="2000" spc="-1" strike="noStrike" u="sng">
                <a:solidFill>
                  <a:srgbClr val="564b3c"/>
                </a:solidFill>
                <a:uFillTx/>
                <a:latin typeface="Comic Sans MS"/>
                <a:ea typeface="ヒラギノ角ゴ Pro W3"/>
              </a:rPr>
              <a:t>1 minute</a:t>
            </a:r>
            <a:r>
              <a:rPr b="0" lang="en-US" sz="20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Mix and incubate at 30℃ for 1 minute, then read absorbance every minute for 3 minutes against D.W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Calculate the difference between absorbance's and the average absorbance differences per minute (Δ A/min)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611280" y="1844640"/>
          <a:ext cx="7561080" cy="205092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WR (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682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-warm at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for 3 minutes and ad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mpl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μ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7c84"/>
                </a:solidFill>
                <a:latin typeface="Comic Sans MS"/>
                <a:ea typeface="ヒラギノ角ゴ Pro W3"/>
              </a:rPr>
              <a:t>CALCULATIONS</a:t>
            </a:r>
            <a:br>
              <a:rPr sz="3200"/>
            </a:b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c84"/>
                </a:solidFill>
                <a:latin typeface="Comic Sans MS"/>
                <a:ea typeface="ヒラギノ角ゴ Pro W3"/>
              </a:rPr>
              <a:t>Calculations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ΔA/min x 6592 = U/L of LDH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c84"/>
                </a:solidFill>
                <a:latin typeface="Comic Sans MS"/>
                <a:ea typeface="ヒラギノ角ゴ Pro W3"/>
              </a:rPr>
              <a:t>Reference values: at 37 C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80-285U/L</a:t>
            </a:r>
            <a:r>
              <a:rPr b="0" lang="ar-SA" sz="2400" spc="-1" strike="noStrike">
                <a:solidFill>
                  <a:srgbClr val="564b3c"/>
                </a:solidFill>
                <a:latin typeface="Comic Sans MS"/>
                <a:ea typeface="Tahoma"/>
              </a:rPr>
              <a:t> </a:t>
            </a: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ma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omic Sans MS"/>
                <a:ea typeface="ヒラギノ角ゴ Pro W3"/>
              </a:rPr>
              <a:t>103 – 227 U/L female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0T19:52:57Z</dcterms:created>
  <dc:creator>Mac</dc:creator>
  <dc:description/>
  <dc:language>en-US</dc:language>
  <cp:lastModifiedBy>ksulab</cp:lastModifiedBy>
  <dcterms:modified xsi:type="dcterms:W3CDTF">2016-02-10T10:11:26Z</dcterms:modified>
  <cp:revision>19</cp:revision>
  <dc:subject/>
  <dc:title>Quantitative determenation of Lactate Dehydrogenase (LDH) </dc:title>
</cp:coreProperties>
</file>