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8A7-5CD9-4C54-8BCE-9F9E438B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B1A-BE92-4422-854F-0BAE7D4C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70EE-E9E9-49C9-9303-35012903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A8B-32AB-4C47-AFA5-E0CAA286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638B-4841-4596-A1E9-1E007CE9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C914-DCDE-4730-A00A-4DE259D7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A25B-00D5-4932-B4BB-2507E4AB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8354-6E1E-4013-84CE-49DD55F4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A971-AF0D-427F-A37B-8576A3B6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883D-AF53-4594-9834-CF7300E7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DE2C-ED8D-4605-B7D5-AB1AAA6C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1C00-3EB8-46B1-9103-007402BB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872B-02B5-4C4C-A480-302CF561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2B6E-AD80-4CD3-B649-98A512BB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3A33-F476-4C34-A1BE-18BE0C48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D7DA-0696-4BA0-8B44-885E19F1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FDE0-DBB5-4081-96FE-4DCA7814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1B4FC-19F7-41E4-B4D2-B39509BE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CE779-29F9-4E52-B030-AF45DEB7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41395-32FE-4455-8FCA-22756E94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A400A-26BE-4A43-B8C2-5FA48AAA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A8F0FC-812B-420E-BD27-7722496A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32C2-04C4-4AB8-8924-A2D172E6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1CAB8-5182-45BF-98E8-2906B8FE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0F7FD-BDB0-413C-9776-40B771D5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9EECE-8314-4B5C-9319-3F9F94D6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8FB20-B46D-4946-94A9-7417380E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AF96F-8133-495D-946D-A4712C7F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525B0-7146-46C2-A725-DB4DE743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0B832-BA75-40BE-996E-990DE36C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8801E-FF90-4CF7-955B-8573C783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3B408-BE2E-40B4-87A4-4203F156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EE14B-DB6B-4738-B1F5-C82AAE12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88B-3402-41D9-BF9C-23060F1C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8FE4B-BD65-4DAB-B8C8-66E85A66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71C6B-EC23-46B6-A1FA-F9B19C47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CDD1D-67B7-431A-96F2-419E6D24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479FA-A5CC-4B6B-8822-1E8465A5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3FE04-4848-44BF-9011-481FB741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0D88A-33F6-4EBC-BEA0-82005EFF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D91E3-A161-4E32-B3B6-77F5AE9D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64AF8-0752-4CF1-A9C9-A5BDDC1F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23B0F-0C56-4519-94F9-E43388AB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F0C9-6ACA-4F23-A2B2-FC4A638B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2D3-19F3-4945-B573-DDB28200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D80F-291B-4FA9-B537-934D42CA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BFB-46AC-4D6E-91C4-2D4D9946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32B-D792-47F8-B327-32B59674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A903-0703-40FF-8129-46BC86E318D0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8469-274D-42AC-8E21-1A4BA3D5396F}" type="slidenum"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93E7-A6C8-4C81-B630-5ECB5CF72A3A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1582-8C7E-492C-8646-730BDC6AD491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65530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Century Gothic"/>
              </a:rPr>
              <a:t>الإدارة المالية 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Picture 4" descr="money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رابعا : قرارات توزيع الأرباح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042560" y="1484280"/>
            <a:ext cx="6777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entury Gothic"/>
              </a:rPr>
              <a:t>عند توزيع الأرباح ، يواجه المدير المالي  مشكلة التوفيق بين مطلبين هما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توزيع الارباح على أصحابها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حاجة المنظمة إلى هذه الارباح لإعادة استثمارها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7" name="Picture 4" descr="money"/>
          <p:cNvPicPr/>
          <p:nvPr/>
        </p:nvPicPr>
        <p:blipFill>
          <a:blip r:embed="rId1"/>
          <a:stretch/>
        </p:blipFill>
        <p:spPr>
          <a:xfrm>
            <a:off x="468360" y="3645000"/>
            <a:ext cx="8280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4c600"/>
                </a:solidFill>
                <a:latin typeface="Century Gothic"/>
              </a:rPr>
              <a:t>المحتويات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مفهوم الإدارة المالية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الأنشطة الإدارية التي تمارسها الإدارة المالية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القرارات المال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Picture 4" descr="C:\Users\General\AppData\Local\Microsoft\Windows\Temporary Internet Files\Content.IE5\CQYLE2UM\MP900390095[1].jpg"/>
          <p:cNvPicPr/>
          <p:nvPr/>
        </p:nvPicPr>
        <p:blipFill>
          <a:blip r:embed="rId1"/>
          <a:stretch/>
        </p:blipFill>
        <p:spPr>
          <a:xfrm>
            <a:off x="539640" y="4292640"/>
            <a:ext cx="813600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74a510"/>
                </a:solidFill>
                <a:latin typeface="Century Gothic"/>
              </a:rPr>
              <a:t>مفهوم الإدارة المال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2" name="Picture 4" descr="money-management"/>
          <p:cNvPicPr/>
          <p:nvPr/>
        </p:nvPicPr>
        <p:blipFill>
          <a:blip r:embed="rId1"/>
          <a:stretch/>
        </p:blipFill>
        <p:spPr>
          <a:xfrm>
            <a:off x="2627280" y="4159080"/>
            <a:ext cx="3898800" cy="2698920"/>
          </a:xfrm>
          <a:prstGeom prst="rect">
            <a:avLst/>
          </a:prstGeom>
          <a:ln w="0">
            <a:noFill/>
          </a:ln>
        </p:spPr>
      </p:pic>
      <p:sp>
        <p:nvSpPr>
          <p:cNvPr id="343" name="شكل بيضاوي 1"/>
          <p:cNvSpPr/>
          <p:nvPr/>
        </p:nvSpPr>
        <p:spPr>
          <a:xfrm>
            <a:off x="1116000" y="1773360"/>
            <a:ext cx="7056360" cy="1922400"/>
          </a:xfrm>
          <a:prstGeom prst="ellipse">
            <a:avLst/>
          </a:prstGeom>
          <a:gradFill rotWithShape="0">
            <a:gsLst>
              <a:gs pos="0">
                <a:srgbClr val="eee5e0"/>
              </a:gs>
              <a:gs pos="100000">
                <a:srgbClr val="996b3f"/>
              </a:gs>
            </a:gsLst>
            <a:lin ang="5040000"/>
          </a:gradFill>
          <a:ln w="9360">
            <a:solidFill>
              <a:srgbClr val="956b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 ذلك النشاط الذهني الذي يختص بالتخطيط والتنظيم والمتابعة لحركتي الدخول والخروج للأموال الحالية والمرتقبة من والى المنظم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4c600"/>
                </a:solidFill>
                <a:latin typeface="Century Gothic"/>
              </a:rPr>
              <a:t>الأنشطة الإدارية التي تمارسها الإدارة المالية 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6" name="Picture 4" descr="money_tree"/>
          <p:cNvPicPr/>
          <p:nvPr/>
        </p:nvPicPr>
        <p:blipFill>
          <a:blip r:embed="rId1"/>
          <a:stretch/>
        </p:blipFill>
        <p:spPr>
          <a:xfrm>
            <a:off x="2411280" y="3141720"/>
            <a:ext cx="4216680" cy="3273480"/>
          </a:xfrm>
          <a:prstGeom prst="rect">
            <a:avLst/>
          </a:prstGeom>
          <a:ln w="0">
            <a:noFill/>
          </a:ln>
        </p:spPr>
      </p:pic>
      <p:sp>
        <p:nvSpPr>
          <p:cNvPr id="347" name="شكل بيضاوي 1"/>
          <p:cNvSpPr/>
          <p:nvPr/>
        </p:nvSpPr>
        <p:spPr>
          <a:xfrm>
            <a:off x="739800" y="3500280"/>
            <a:ext cx="1873080" cy="113040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  <a:cs typeface="Tahoma"/>
              </a:rPr>
              <a:t>الرقابة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5" descr=""/>
          <p:cNvPicPr/>
          <p:nvPr/>
        </p:nvPicPr>
        <p:blipFill>
          <a:blip r:embed="rId2"/>
          <a:stretch/>
        </p:blipFill>
        <p:spPr>
          <a:xfrm>
            <a:off x="6443640" y="3625920"/>
            <a:ext cx="1895400" cy="1152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"/>
          <p:cNvPicPr/>
          <p:nvPr/>
        </p:nvPicPr>
        <p:blipFill>
          <a:blip r:embed="rId3"/>
          <a:stretch/>
        </p:blipFill>
        <p:spPr>
          <a:xfrm>
            <a:off x="3673440" y="2144880"/>
            <a:ext cx="1895400" cy="1152360"/>
          </a:xfrm>
          <a:prstGeom prst="rect">
            <a:avLst/>
          </a:prstGeom>
          <a:ln w="0">
            <a:noFill/>
          </a:ln>
        </p:spPr>
      </p:pic>
      <p:sp>
        <p:nvSpPr>
          <p:cNvPr id="350" name="مستطيل 6"/>
          <p:cNvSpPr/>
          <p:nvPr/>
        </p:nvSpPr>
        <p:spPr>
          <a:xfrm>
            <a:off x="3673440" y="2465280"/>
            <a:ext cx="18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تنظيم المال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70246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القرارات المالية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2" name="Picture 4" descr="572"/>
          <p:cNvPicPr/>
          <p:nvPr/>
        </p:nvPicPr>
        <p:blipFill>
          <a:blip r:embed="rId1"/>
          <a:stretch/>
        </p:blipFill>
        <p:spPr>
          <a:xfrm>
            <a:off x="3300480" y="2522520"/>
            <a:ext cx="3047760" cy="2529000"/>
          </a:xfrm>
          <a:prstGeom prst="rect">
            <a:avLst/>
          </a:prstGeom>
          <a:ln w="0">
            <a:noFill/>
          </a:ln>
        </p:spPr>
      </p:pic>
      <p:sp>
        <p:nvSpPr>
          <p:cNvPr id="353" name="شكل بيضاوي 2"/>
          <p:cNvSpPr/>
          <p:nvPr/>
        </p:nvSpPr>
        <p:spPr>
          <a:xfrm>
            <a:off x="3780000" y="1397160"/>
            <a:ext cx="2087280" cy="91440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قرارات التمو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2"/>
          <a:stretch/>
        </p:blipFill>
        <p:spPr>
          <a:xfrm>
            <a:off x="3990960" y="5373720"/>
            <a:ext cx="1876320" cy="1008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"/>
          <p:cNvPicPr/>
          <p:nvPr/>
        </p:nvPicPr>
        <p:blipFill>
          <a:blip r:embed="rId3"/>
          <a:stretch/>
        </p:blipFill>
        <p:spPr>
          <a:xfrm>
            <a:off x="1092240" y="3357720"/>
            <a:ext cx="2111400" cy="933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"/>
          <p:cNvPicPr/>
          <p:nvPr/>
        </p:nvPicPr>
        <p:blipFill>
          <a:blip r:embed="rId4"/>
          <a:stretch/>
        </p:blipFill>
        <p:spPr>
          <a:xfrm>
            <a:off x="6611760" y="3357720"/>
            <a:ext cx="1920960" cy="1079280"/>
          </a:xfrm>
          <a:prstGeom prst="rect">
            <a:avLst/>
          </a:prstGeom>
          <a:ln w="0">
            <a:noFill/>
          </a:ln>
        </p:spPr>
      </p:pic>
      <p:sp>
        <p:nvSpPr>
          <p:cNvPr id="357" name="مستطيل 3"/>
          <p:cNvSpPr/>
          <p:nvPr/>
        </p:nvSpPr>
        <p:spPr>
          <a:xfrm>
            <a:off x="6419880" y="3639960"/>
            <a:ext cx="211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قرارات الاستثما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مستطيل 6"/>
          <p:cNvSpPr/>
          <p:nvPr/>
        </p:nvSpPr>
        <p:spPr>
          <a:xfrm>
            <a:off x="976320" y="3670200"/>
            <a:ext cx="21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إدارة العمليات الجا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مستطيل 8"/>
          <p:cNvSpPr/>
          <p:nvPr/>
        </p:nvSpPr>
        <p:spPr>
          <a:xfrm>
            <a:off x="3508560" y="571644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رارات توزيع الأربا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836640"/>
            <a:ext cx="70246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أولا: القرارات الاستثمارية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42560" y="2781000"/>
            <a:ext cx="720108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entury Gothic"/>
              </a:rPr>
              <a:t>هناك نوعين من المجالات الاستثمارية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algn="r" rtl="1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مجالات استثمارية قصيرة الأجل مثل: شراء المواد الخام  (أصول متداولة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algn="r" rtl="1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مجالات استثمارية طويلة الأجل مثل: شراء الآلات (أصول ثابتة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2" name="Picture 4" descr="money-market-1"/>
          <p:cNvPicPr/>
          <p:nvPr/>
        </p:nvPicPr>
        <p:blipFill>
          <a:blip r:embed="rId1"/>
          <a:stretch/>
        </p:blipFill>
        <p:spPr>
          <a:xfrm>
            <a:off x="468360" y="5373720"/>
            <a:ext cx="8280360" cy="1295280"/>
          </a:xfrm>
          <a:prstGeom prst="rect">
            <a:avLst/>
          </a:prstGeom>
          <a:ln w="0">
            <a:noFill/>
          </a:ln>
        </p:spPr>
      </p:pic>
      <p:sp>
        <p:nvSpPr>
          <p:cNvPr id="363" name="شكل بيضاوي 1"/>
          <p:cNvSpPr/>
          <p:nvPr/>
        </p:nvSpPr>
        <p:spPr>
          <a:xfrm>
            <a:off x="1042920" y="1700280"/>
            <a:ext cx="7058160" cy="122400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و الاستخدام المربح للأموال التي يتم توفيرها للمنظ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ثانيا: قرارات التمويل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entury Gothic"/>
              </a:rPr>
              <a:t>اكملي</a:t>
            </a:r>
            <a:r>
              <a:rPr b="0" lang="ar-SA" sz="2400" spc="-1" strike="noStrike">
                <a:solidFill>
                  <a:srgbClr val="ff0000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يترتب على القرارات الاستثمارية ....... الأموال من المنظمة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يترتب على القرارات التمويلية ....... الأموال إلى المنظمة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6" name="Picture 4" descr="time-management-tips-for-freelancers3---calendar-2_s600x600"/>
          <p:cNvPicPr/>
          <p:nvPr/>
        </p:nvPicPr>
        <p:blipFill>
          <a:blip r:embed="rId1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367" name="شكل بيضاوي 1"/>
          <p:cNvSpPr/>
          <p:nvPr/>
        </p:nvSpPr>
        <p:spPr>
          <a:xfrm>
            <a:off x="1116000" y="1844640"/>
            <a:ext cx="7201080" cy="172872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  <a:cs typeface="Tahoma"/>
              </a:rPr>
              <a:t>هو القرار الذي يختص بكيفية تدبير احتياجات المنظمة من الأموال بالكم والنوع المطلوبين ، وكذا بالتكلفة والوقت المناسب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مصادر الأموال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23640" y="1483920"/>
            <a:ext cx="81327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cs typeface="Arial"/>
              </a:rPr>
              <a:t>التمويل بالملكية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 أموال الملاك(حملة الأسهم) والأرباح المحتجزة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«تسمى التمويل الذاتي»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Arial"/>
                <a:cs typeface="Arial"/>
              </a:rPr>
              <a:t>التمويل بالمديوني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Arial"/>
              </a:rPr>
              <a:t>متى يلجأ إليه ؟؟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(عدم كفاية رأس المال المملوك ، الحالات الطارئة ، المواسم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Arial"/>
              </a:rPr>
              <a:t>ويتم عن طريق الاستدانة من الغير ومن مصادرها 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1</a:t>
            </a:r>
            <a:r>
              <a:rPr b="1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.مصادر استدانة قصيرة الأجل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(يجب سدادها خلال سنة كحد أقصى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2</a:t>
            </a:r>
            <a:r>
              <a:rPr b="1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.مصادر استدانة طويلة الأجل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(يجب سدادها خلال مدة أطول من السن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0" name="Picture 4" descr="forex-image"/>
          <p:cNvPicPr/>
          <p:nvPr/>
        </p:nvPicPr>
        <p:blipFill>
          <a:blip r:embed="rId1"/>
          <a:stretch/>
        </p:blipFill>
        <p:spPr>
          <a:xfrm>
            <a:off x="468360" y="4437000"/>
            <a:ext cx="29163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0246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ثالثا: قرارات إدارة العمليات الجارية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182600" y="1700280"/>
            <a:ext cx="67788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Arial"/>
                <a:cs typeface="Arial"/>
              </a:rPr>
              <a:t>تسمى «إدارة رأس المال العامل»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3" name="Picture 6" descr="d5f46beff42e60d2279d7d60acdd7267_342802701"/>
          <p:cNvPicPr/>
          <p:nvPr/>
        </p:nvPicPr>
        <p:blipFill>
          <a:blip r:embed="rId1"/>
          <a:stretch/>
        </p:blipFill>
        <p:spPr>
          <a:xfrm>
            <a:off x="468360" y="4548240"/>
            <a:ext cx="8280360" cy="2120760"/>
          </a:xfrm>
          <a:prstGeom prst="rect">
            <a:avLst/>
          </a:prstGeom>
          <a:ln w="0">
            <a:noFill/>
          </a:ln>
        </p:spPr>
      </p:pic>
      <p:sp>
        <p:nvSpPr>
          <p:cNvPr id="374" name="شكل بيضاوي 1"/>
          <p:cNvSpPr/>
          <p:nvPr/>
        </p:nvSpPr>
        <p:spPr>
          <a:xfrm>
            <a:off x="1403280" y="2220840"/>
            <a:ext cx="6769080" cy="122400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العمليات الجارية هي دورة النقدية المرهونة بكل من دورتي الانتاج والتسوي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1:24:58Z</dcterms:created>
  <dc:creator/>
  <dc:description/>
  <dc:language>en-US</dc:language>
  <cp:lastModifiedBy/>
  <dcterms:modified xsi:type="dcterms:W3CDTF">2012-04-16T19:54:01Z</dcterms:modified>
  <cp:revision>7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