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4DF3-3CA6-47D5-888A-4F472B50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56C-90F0-47F0-AD3B-5F942370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0F6-63EC-430F-914D-70713988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B73-FD79-4180-899A-B7F47D0E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FA06-5C43-4FA8-BBCF-9CDC122F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82F0-948C-45BD-895E-EEF7D6F5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AC3E-9259-4014-8546-6B5644A3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AC9E-5287-414F-9C54-B057A33E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6283-BDE3-4831-B1B4-A27E5DCC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7464-BB3F-4E9B-BB64-CF3DD694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46EA-CDBF-4CA5-8CC3-7B6AB01F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E70-2877-43E9-A352-D892A61B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3376-B57D-4C3F-B946-76B139D0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ABD2-3449-476B-8492-580A0317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799E-78EF-441A-B801-52F796AB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C608-D78A-4685-9D29-4FA7B960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CB94-4DE4-467F-948B-24973107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FDC59-A129-4F87-BE85-C4D15D6F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4C04BA-CCF6-441C-A048-FFD415E1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74F24-BFD4-40AA-B2DB-81E20713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AB61A-3FBA-4AE2-BC5C-853EE94D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73274-339F-45DB-9314-0268BA84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4199-12D5-4C39-9FE0-7CB1F3C0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4A1ED-7B25-4D1A-9017-7634C83A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EF123-DE08-482A-A583-C48E296F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0A29C-D151-4AF1-A2F5-4BE25BAE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56473-BDCC-4030-A8F4-155115C8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88CE1-EB50-4671-BE06-155CEF19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AD15B-9B18-4C31-9FE4-9A9D81C1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FC9A2-794C-4D4E-88AD-BF73EAD4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1C368-403C-47F5-B27F-6492E117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0951B-E4E2-4E80-AE6B-AA1ADC43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E08B6-F372-4230-93D1-D026D7BD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28EA-17EE-4780-9515-A2CBED64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9FD22-2047-44C0-A81C-25B005FA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5DF71-5C08-4FBB-9B92-02D2FF5A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F3C44-FA73-4344-A868-759428B1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91B42-56E3-474C-A4C0-3021C3D0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CBEEC-9F0F-4AE5-9BDA-071C79CC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BE2DA-D476-44CD-86B3-123BE29B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7CD34-257A-4585-9B32-E66802A4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C6F8E-199C-4305-9A2F-7A40EC41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456E4-AD07-4071-9565-D29328F9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29A-A1BD-4477-A948-BA3BB2CB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22A-93F9-464C-B9E5-D53D27E8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5F7-271E-475F-9E52-002DB6B0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102A-A44B-4285-8157-910A6768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F21-D14C-4348-A3B4-EF932464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22DC-33FD-4F49-BE42-3D2CB6FF005F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B6A0-E256-44E6-B27C-444ECEE7C0A0}" type="slidenum"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85F1-1B65-4F9A-96C9-B1A1A5F4432D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0AEB-8A61-4694-A360-6E107D730FBF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65530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Century Gothic"/>
              </a:rPr>
              <a:t>الإدارة المالية 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Picture 4" descr="money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رابعا : قرارات توزيع الأرباح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042560" y="1484280"/>
            <a:ext cx="6777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entury Gothic"/>
              </a:rPr>
              <a:t>عند توزيع الأرباح ، يواجه المدير المالي  مشكلة التوفيق بين مطلبين هما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توزيع الارباح على أصحابها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حاجة المنظمة إلى هذه الارباح لإعادة استثمارها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7" name="Picture 4" descr="money"/>
          <p:cNvPicPr/>
          <p:nvPr/>
        </p:nvPicPr>
        <p:blipFill>
          <a:blip r:embed="rId1"/>
          <a:stretch/>
        </p:blipFill>
        <p:spPr>
          <a:xfrm>
            <a:off x="468360" y="3645000"/>
            <a:ext cx="8280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4c600"/>
                </a:solidFill>
                <a:latin typeface="Century Gothic"/>
              </a:rPr>
              <a:t>المحتويات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مفهوم الإدارة المالية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الأنشطة الإدارية التي تمارسها الإدارة المالية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القرارات المال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Picture 4" descr="C:\Users\General\AppData\Local\Microsoft\Windows\Temporary Internet Files\Content.IE5\CQYLE2UM\MP900390095[1].jpg"/>
          <p:cNvPicPr/>
          <p:nvPr/>
        </p:nvPicPr>
        <p:blipFill>
          <a:blip r:embed="rId1"/>
          <a:stretch/>
        </p:blipFill>
        <p:spPr>
          <a:xfrm>
            <a:off x="539640" y="4292640"/>
            <a:ext cx="813600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74a510"/>
                </a:solidFill>
                <a:latin typeface="Century Gothic"/>
              </a:rPr>
              <a:t>مفهوم الإدارة المال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2" name="Picture 4" descr="money-management"/>
          <p:cNvPicPr/>
          <p:nvPr/>
        </p:nvPicPr>
        <p:blipFill>
          <a:blip r:embed="rId1"/>
          <a:stretch/>
        </p:blipFill>
        <p:spPr>
          <a:xfrm>
            <a:off x="2627280" y="4159080"/>
            <a:ext cx="3898800" cy="2698920"/>
          </a:xfrm>
          <a:prstGeom prst="rect">
            <a:avLst/>
          </a:prstGeom>
          <a:ln w="0">
            <a:noFill/>
          </a:ln>
        </p:spPr>
      </p:pic>
      <p:sp>
        <p:nvSpPr>
          <p:cNvPr id="343" name="شكل بيضاوي 1"/>
          <p:cNvSpPr/>
          <p:nvPr/>
        </p:nvSpPr>
        <p:spPr>
          <a:xfrm>
            <a:off x="1116000" y="1773360"/>
            <a:ext cx="7056360" cy="1922400"/>
          </a:xfrm>
          <a:prstGeom prst="ellipse">
            <a:avLst/>
          </a:prstGeom>
          <a:gradFill rotWithShape="0">
            <a:gsLst>
              <a:gs pos="0">
                <a:srgbClr val="eee5e0"/>
              </a:gs>
              <a:gs pos="100000">
                <a:srgbClr val="996b3f"/>
              </a:gs>
            </a:gsLst>
            <a:lin ang="5040000"/>
          </a:gradFill>
          <a:ln w="9360">
            <a:solidFill>
              <a:srgbClr val="956b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 ذلك النشاط الذهني الذي يختص بالتخطيط والتنظيم والمتابعة لحركتي الدخول والخروج للأموال الحالية والمرتقبة من والى المنظم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4c600"/>
                </a:solidFill>
                <a:latin typeface="Century Gothic"/>
              </a:rPr>
              <a:t>الأنشطة الإدارية التي تمارسها الإدارة المالية 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6" name="Picture 4" descr="money_tree"/>
          <p:cNvPicPr/>
          <p:nvPr/>
        </p:nvPicPr>
        <p:blipFill>
          <a:blip r:embed="rId1"/>
          <a:stretch/>
        </p:blipFill>
        <p:spPr>
          <a:xfrm>
            <a:off x="2411280" y="3141720"/>
            <a:ext cx="4216680" cy="3273480"/>
          </a:xfrm>
          <a:prstGeom prst="rect">
            <a:avLst/>
          </a:prstGeom>
          <a:ln w="0">
            <a:noFill/>
          </a:ln>
        </p:spPr>
      </p:pic>
      <p:sp>
        <p:nvSpPr>
          <p:cNvPr id="347" name="شكل بيضاوي 1"/>
          <p:cNvSpPr/>
          <p:nvPr/>
        </p:nvSpPr>
        <p:spPr>
          <a:xfrm>
            <a:off x="739800" y="3500280"/>
            <a:ext cx="1873080" cy="113040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  <a:cs typeface="Tahoma"/>
              </a:rPr>
              <a:t>الرقابة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5" descr=""/>
          <p:cNvPicPr/>
          <p:nvPr/>
        </p:nvPicPr>
        <p:blipFill>
          <a:blip r:embed="rId2"/>
          <a:stretch/>
        </p:blipFill>
        <p:spPr>
          <a:xfrm>
            <a:off x="6443640" y="3625920"/>
            <a:ext cx="1895400" cy="1152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"/>
          <p:cNvPicPr/>
          <p:nvPr/>
        </p:nvPicPr>
        <p:blipFill>
          <a:blip r:embed="rId3"/>
          <a:stretch/>
        </p:blipFill>
        <p:spPr>
          <a:xfrm>
            <a:off x="3673440" y="2144880"/>
            <a:ext cx="1895400" cy="1152360"/>
          </a:xfrm>
          <a:prstGeom prst="rect">
            <a:avLst/>
          </a:prstGeom>
          <a:ln w="0">
            <a:noFill/>
          </a:ln>
        </p:spPr>
      </p:pic>
      <p:sp>
        <p:nvSpPr>
          <p:cNvPr id="350" name="مستطيل 6"/>
          <p:cNvSpPr/>
          <p:nvPr/>
        </p:nvSpPr>
        <p:spPr>
          <a:xfrm>
            <a:off x="3673440" y="2465280"/>
            <a:ext cx="18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تنظيم المال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70246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القرارات المالية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2" name="Picture 4" descr="572"/>
          <p:cNvPicPr/>
          <p:nvPr/>
        </p:nvPicPr>
        <p:blipFill>
          <a:blip r:embed="rId1"/>
          <a:stretch/>
        </p:blipFill>
        <p:spPr>
          <a:xfrm>
            <a:off x="3300480" y="2522520"/>
            <a:ext cx="3047760" cy="2529000"/>
          </a:xfrm>
          <a:prstGeom prst="rect">
            <a:avLst/>
          </a:prstGeom>
          <a:ln w="0">
            <a:noFill/>
          </a:ln>
        </p:spPr>
      </p:pic>
      <p:sp>
        <p:nvSpPr>
          <p:cNvPr id="353" name="شكل بيضاوي 2"/>
          <p:cNvSpPr/>
          <p:nvPr/>
        </p:nvSpPr>
        <p:spPr>
          <a:xfrm>
            <a:off x="3780000" y="1397160"/>
            <a:ext cx="2087280" cy="91440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قرارات التمو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2"/>
          <a:stretch/>
        </p:blipFill>
        <p:spPr>
          <a:xfrm>
            <a:off x="3990960" y="5373720"/>
            <a:ext cx="1876320" cy="1008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"/>
          <p:cNvPicPr/>
          <p:nvPr/>
        </p:nvPicPr>
        <p:blipFill>
          <a:blip r:embed="rId3"/>
          <a:stretch/>
        </p:blipFill>
        <p:spPr>
          <a:xfrm>
            <a:off x="1092240" y="3357720"/>
            <a:ext cx="2111400" cy="933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"/>
          <p:cNvPicPr/>
          <p:nvPr/>
        </p:nvPicPr>
        <p:blipFill>
          <a:blip r:embed="rId4"/>
          <a:stretch/>
        </p:blipFill>
        <p:spPr>
          <a:xfrm>
            <a:off x="6611760" y="3357720"/>
            <a:ext cx="1920960" cy="1079280"/>
          </a:xfrm>
          <a:prstGeom prst="rect">
            <a:avLst/>
          </a:prstGeom>
          <a:ln w="0">
            <a:noFill/>
          </a:ln>
        </p:spPr>
      </p:pic>
      <p:sp>
        <p:nvSpPr>
          <p:cNvPr id="357" name="مستطيل 3"/>
          <p:cNvSpPr/>
          <p:nvPr/>
        </p:nvSpPr>
        <p:spPr>
          <a:xfrm>
            <a:off x="6419880" y="3639960"/>
            <a:ext cx="211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قرارات الاستثما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مستطيل 6"/>
          <p:cNvSpPr/>
          <p:nvPr/>
        </p:nvSpPr>
        <p:spPr>
          <a:xfrm>
            <a:off x="976320" y="3670200"/>
            <a:ext cx="21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إدارة العمليات الجا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مستطيل 8"/>
          <p:cNvSpPr/>
          <p:nvPr/>
        </p:nvSpPr>
        <p:spPr>
          <a:xfrm>
            <a:off x="3508560" y="571644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رارات توزيع الأربا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836640"/>
            <a:ext cx="70246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أولا: القرارات الاستثمارية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42560" y="2781000"/>
            <a:ext cx="720108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entury Gothic"/>
              </a:rPr>
              <a:t>هناك نوعين من المجالات الاستثمارية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algn="r" rtl="1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مجالات استثمارية قصيرة الأجل مثل: شراء المواد الخام  (أصول متداولة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algn="r" rtl="1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مجالات استثمارية طويلة الأجل مثل: شراء الآلات (أصول ثابتة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2" name="Picture 4" descr="money-market-1"/>
          <p:cNvPicPr/>
          <p:nvPr/>
        </p:nvPicPr>
        <p:blipFill>
          <a:blip r:embed="rId1"/>
          <a:stretch/>
        </p:blipFill>
        <p:spPr>
          <a:xfrm>
            <a:off x="468360" y="5373720"/>
            <a:ext cx="8280360" cy="1295280"/>
          </a:xfrm>
          <a:prstGeom prst="rect">
            <a:avLst/>
          </a:prstGeom>
          <a:ln w="0">
            <a:noFill/>
          </a:ln>
        </p:spPr>
      </p:pic>
      <p:sp>
        <p:nvSpPr>
          <p:cNvPr id="363" name="شكل بيضاوي 1"/>
          <p:cNvSpPr/>
          <p:nvPr/>
        </p:nvSpPr>
        <p:spPr>
          <a:xfrm>
            <a:off x="1042920" y="1700280"/>
            <a:ext cx="7058160" cy="122400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و الاستخدام المربح للأموال التي يتم توفيرها للمنظ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ثانيا: قرارات التمويل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entury Gothic"/>
              </a:rPr>
              <a:t>اكملي</a:t>
            </a:r>
            <a:r>
              <a:rPr b="0" lang="ar-SA" sz="2400" spc="-1" strike="noStrike">
                <a:solidFill>
                  <a:srgbClr val="ff0000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يترتب على القرارات الاستثمارية ....... الأموال من المنظمة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يترتب على القرارات التمويلية ....... الأموال إلى المنظمة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6" name="Picture 4" descr="time-management-tips-for-freelancers3---calendar-2_s600x600"/>
          <p:cNvPicPr/>
          <p:nvPr/>
        </p:nvPicPr>
        <p:blipFill>
          <a:blip r:embed="rId1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367" name="شكل بيضاوي 1"/>
          <p:cNvSpPr/>
          <p:nvPr/>
        </p:nvSpPr>
        <p:spPr>
          <a:xfrm>
            <a:off x="1116000" y="1844640"/>
            <a:ext cx="7201080" cy="172872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  <a:cs typeface="Tahoma"/>
              </a:rPr>
              <a:t>هو القرار الذي يختص بكيفية تدبير احتياجات المنظمة من الأموال بالكم والنوع المطلوبين ، وكذا بالتكلفة والوقت المناسب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مصادر الأموال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23640" y="1483920"/>
            <a:ext cx="81327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cs typeface="Arial"/>
              </a:rPr>
              <a:t>التمويل بالملكية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 أموال الملاك(حملة الأسهم) والأرباح المحتجزة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«تسمى التمويل الذاتي»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Arial"/>
                <a:cs typeface="Arial"/>
              </a:rPr>
              <a:t>التمويل بالمديوني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Arial"/>
              </a:rPr>
              <a:t>متى يلجأ إليه ؟؟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(عدم كفاية رأس المال المملوك ، الحالات الطارئة ، المواسم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Arial"/>
              </a:rPr>
              <a:t>ويتم عن طريق الاستدانة من الغير ومن مصادرها 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1</a:t>
            </a:r>
            <a:r>
              <a:rPr b="1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.مصادر استدانة قصيرة الأجل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(يجب سدادها خلال سنة كحد أقصى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2</a:t>
            </a:r>
            <a:r>
              <a:rPr b="1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.مصادر استدانة طويلة الأجل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Arial"/>
                <a:ea typeface="Arial"/>
              </a:rPr>
              <a:t>(يجب سدادها خلال مدة أطول من السن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0" name="Picture 4" descr="forex-image"/>
          <p:cNvPicPr/>
          <p:nvPr/>
        </p:nvPicPr>
        <p:blipFill>
          <a:blip r:embed="rId1"/>
          <a:stretch/>
        </p:blipFill>
        <p:spPr>
          <a:xfrm>
            <a:off x="468360" y="4437000"/>
            <a:ext cx="29163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0246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4c600"/>
                </a:solidFill>
                <a:latin typeface="Arial"/>
                <a:cs typeface="Arial"/>
              </a:rPr>
              <a:t>ثالثا: قرارات إدارة العمليات الجارية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182600" y="1700280"/>
            <a:ext cx="67788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Arial"/>
                <a:cs typeface="Arial"/>
              </a:rPr>
              <a:t>تسمى «إدارة رأس المال العامل»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3" name="Picture 6" descr="d5f46beff42e60d2279d7d60acdd7267_342802701"/>
          <p:cNvPicPr/>
          <p:nvPr/>
        </p:nvPicPr>
        <p:blipFill>
          <a:blip r:embed="rId1"/>
          <a:stretch/>
        </p:blipFill>
        <p:spPr>
          <a:xfrm>
            <a:off x="468360" y="4548240"/>
            <a:ext cx="8280360" cy="2120760"/>
          </a:xfrm>
          <a:prstGeom prst="rect">
            <a:avLst/>
          </a:prstGeom>
          <a:ln w="0">
            <a:noFill/>
          </a:ln>
        </p:spPr>
      </p:pic>
      <p:sp>
        <p:nvSpPr>
          <p:cNvPr id="374" name="شكل بيضاوي 1"/>
          <p:cNvSpPr/>
          <p:nvPr/>
        </p:nvSpPr>
        <p:spPr>
          <a:xfrm>
            <a:off x="1403280" y="2220840"/>
            <a:ext cx="6769080" cy="122400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العمليات الجارية هي دورة النقدية المرهونة بكل من دورتي الانتاج والتسوي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1:24:58Z</dcterms:created>
  <dc:creator/>
  <dc:description/>
  <dc:language>en-US</dc:language>
  <cp:lastModifiedBy/>
  <dcterms:modified xsi:type="dcterms:W3CDTF">2012-04-16T19:54:01Z</dcterms:modified>
  <cp:revision>7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