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27.jpeg" ContentType="image/jpeg"/>
  <Override PartName="/ppt/media/image7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A36-C152-415D-B6B8-3510F21A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F3A-2176-4566-89CB-61063954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E37-07B7-4357-BED8-7E7C18C3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CA3-5805-44AD-8A71-3321E05E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F71D-9551-47D2-B2CC-58D1D9D2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5808-485B-4503-9DFF-94D708D6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5B8A-F91D-45CE-B7D0-8F9C6ADD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12B4-BED9-4BBE-94D8-4EF129F6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5F0D-D880-48AC-80D4-F27A71E7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4B17-159B-46AC-B34B-C15AB87C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2D17-C228-4CCB-AA0A-9D0CF4F3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EEA-6B7A-4471-AD17-42205BF9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5143-211B-4FB1-8A61-6A8F4966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4F03-0F93-4C80-9B41-9CE7C709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F4F3-E1E1-4C2F-ACFB-E337756F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B154-7F45-4417-9D47-25E49788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86C9-AF90-4652-ACC0-67668FA3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FCC3-4BBD-45F4-967F-15A86ED9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46CDA-7EA8-4928-8968-4CFE8138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36E98-FE2C-413D-96A0-D346C10E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EC41-F3F9-406D-A1F1-FD18447F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1A0C-B87E-456C-A87B-10898A7B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86A-3F86-4147-8603-F0A04F90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99F1-60EA-4CE1-9E44-6124A6EF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B9AE-33E7-45CF-AA84-3B73352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68148-C3F1-4CE4-B447-126CB4B4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1A4A-2757-4DE8-86C2-852B6BAE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A3EA-9FBE-477F-9BF2-B225DAFC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2FF19-C5E6-48BF-9E76-FACADAC6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D9DE-44D4-4BD4-BC54-4F7E2343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8707B-27E9-4A87-89A8-23335EF7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2591-B710-4EFC-B229-36504A7F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ACFC1-C467-483D-9AF2-FCD328FC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D8E-CB7E-47D8-B651-46A30A1A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C7DE-1D99-4229-893A-E5FBF538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0CE0-E9AF-4B21-BC71-FE14484B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B1B1-2D07-4A96-8B5C-D8D48E2A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2313-81B2-48E2-98C1-0ED85CF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3C84-CE32-4F5E-AD1F-48CF60E8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A8A6-DDD4-4228-89FC-4EBD9A2B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6380-716B-4B21-B175-A16DB310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441E6-088B-4C38-9F48-117681FC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46E1-967A-4776-9A08-31CDD88F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88C98-D15D-44EA-9168-25BA2C1A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BEE-836C-4D6B-9810-4A7767DD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FEA5-E143-485A-81B8-EBF03FBF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B94B2-7DA9-4E40-AB35-A8F0DE3F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091A0-7A3C-44DC-BD9C-E4603702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0558E-0993-4507-9EE6-7DA7FA45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DE89C-7670-4925-AF09-65487AC6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34572-0D86-4B25-A2AF-B4F2403B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392E-3D50-4E78-B488-9C2DF049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CDC5A-2240-4ECF-92CA-A1EFAE1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0E03-7864-44C1-986B-08656E79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07DD8-13EE-4275-B294-4DA50D43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62D-159B-4449-8316-8BD19577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EACA-6D60-4FA9-9F4E-194A4B04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E076A-5F2B-4244-92BE-ED565663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3F19C-DCE2-4DC3-9390-6456CD8A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06BA5-1559-4C9A-B7B0-888A8607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04623-1721-45B0-843B-2C773D88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CF262-1553-4ED7-88F0-2AA397A5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4F172-CDB1-4D6B-A0F1-23825C7A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A694D-3B6F-4D57-9346-77CBED27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E94C4-FD0B-49D6-8CBC-4B2A8BB1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75AD-F634-481F-B844-A69BB6E3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C0D-7C61-4812-915B-CF0735F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4A440-120E-4524-A11E-1DBB47B9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7149B-1DAA-4576-B9A8-96D0EF40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FC3F-3746-4474-8EA0-AC0D053F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DE1D4-9F10-48BF-89AE-43923702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BDE41-B42C-4DCB-A40D-8D4A05C0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6EB0D-0175-47E6-8366-EC947100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54BC3-9B1A-415A-96DF-AA4F5A4E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AF36C-EAAE-46F1-BFEE-A1E8C4CA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6D7C7-8BB8-4571-8730-073EA1E6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51B6-D85E-4654-8AF9-2E1C5314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DF0-5A95-4A79-9550-319625AB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A10B9-0EE5-4924-A1FB-D426DFB8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0AF17-D37F-4434-A3BE-2F73F006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A7D9-835E-4379-9247-F6F58765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E4277-EFE1-48A7-8BE3-E682CF1D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9032A-9ECE-4850-A980-92EC820C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4F49C-04C6-4401-AD2B-FC9E7FD7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99834-2F30-43F1-BB5C-799E17D0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73714-FC73-41DC-90F6-B3F59BB1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8D5B7-4D35-4890-8D74-53129BAA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90A67-8BB1-47C8-AC6B-2F16BB06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A43-EEB7-4A99-8435-3E65FE75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7F4D7-DB8A-452F-A0E1-687657DB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543B1-5D43-4E4E-9AE2-7F845315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20159-8328-48AE-BF2D-81B2D825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EFD91-E0B0-4D91-9B1D-9368F15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99ED4-4EF8-4BDC-86B2-7E2BF372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D6190-99AC-4DA4-B686-8A176EBF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9FA4C-8015-4A97-8F57-15EF1D84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2B49-3918-4782-BBE6-F7540FBEC3D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EE63-2B6E-441A-992C-F006C3E14CC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D824-5DDE-4082-B768-8D67EAD9E40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F3EF-45CC-4429-AD60-84CD44F411D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3508-5548-4F69-8936-1F15EAA0C7A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6080-B0D5-4994-A86C-9028678AAD3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085A-31D1-40A6-897E-79BF2A165F5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DB48-0A60-4B4B-9E19-58E9F32F61D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328760" y="401760"/>
            <a:ext cx="6870600" cy="18651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money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23640" y="1483920"/>
            <a:ext cx="8132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70c0"/>
                </a:solidFill>
                <a:latin typeface="Arial"/>
              </a:rPr>
              <a:t>التمويل بالملك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أموال الملاك(حملة الأسهم) والأرباح المحتجزة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«تسمى التمويل الذاتي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التمويل بالمديوني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متى يلجأ إليه ؟؟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عدم كفاية رأس المال المملوك ، الحالات الطارئة ، المواسم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ويتم عن طريق الاستدانة من الغير ومن مصادرها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قصير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سنة كحد أقصى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طويل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مدة أطول من السنة</a:t>
            </a:r>
            <a:r>
              <a:rPr b="0" lang="ar-SA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042920" y="554040"/>
            <a:ext cx="7021440" cy="1079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forex-image"/>
          <p:cNvPicPr/>
          <p:nvPr/>
        </p:nvPicPr>
        <p:blipFill>
          <a:blip r:embed="rId2"/>
          <a:stretch/>
        </p:blipFill>
        <p:spPr>
          <a:xfrm>
            <a:off x="468360" y="4437000"/>
            <a:ext cx="2916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182600" y="1700280"/>
            <a:ext cx="67788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</a:rPr>
              <a:t>تسمى «إدارة رأس المال العامل»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042920" y="731880"/>
            <a:ext cx="7021440" cy="1030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d5f46beff42e60d2279d7d60acdd7267_342802701"/>
          <p:cNvPicPr/>
          <p:nvPr/>
        </p:nvPicPr>
        <p:blipFill>
          <a:blip r:embed="rId2"/>
          <a:stretch/>
        </p:blipFill>
        <p:spPr>
          <a:xfrm>
            <a:off x="468360" y="4548240"/>
            <a:ext cx="8280360" cy="2120760"/>
          </a:xfrm>
          <a:prstGeom prst="rect">
            <a:avLst/>
          </a:prstGeom>
          <a:ln w="0">
            <a:noFill/>
          </a:ln>
        </p:spPr>
      </p:pic>
      <p:sp>
        <p:nvSpPr>
          <p:cNvPr id="414" name="شكل بيضاوي 1"/>
          <p:cNvSpPr/>
          <p:nvPr/>
        </p:nvSpPr>
        <p:spPr>
          <a:xfrm>
            <a:off x="1403280" y="2220840"/>
            <a:ext cx="676908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عمليات الجارية هي دورة النقدية المرهونة بكل من دورتي الانتاج والتسو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42560" y="148428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09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عند توزيع الأرباح ، يواجه المدير المالي  مشكلة التوفيق بين مطلبين هما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توزيع الارباح على أصحاب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حاجة المنظمة إلى هذه الارباح لإعادة استثمار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42920" y="590400"/>
            <a:ext cx="7021440" cy="1025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money"/>
          <p:cNvPicPr/>
          <p:nvPr/>
        </p:nvPicPr>
        <p:blipFill>
          <a:blip r:embed="rId2"/>
          <a:stretch/>
        </p:blipFill>
        <p:spPr>
          <a:xfrm>
            <a:off x="468360" y="3645000"/>
            <a:ext cx="828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0" y="1339560"/>
            <a:ext cx="9144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88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2"/>
          <p:cNvSpPr/>
          <p:nvPr/>
        </p:nvSpPr>
        <p:spPr>
          <a:xfrm>
            <a:off x="6048360" y="1844640"/>
            <a:ext cx="2160720" cy="936720"/>
          </a:xfrm>
          <a:prstGeom prst="rect">
            <a:avLst/>
          </a:prstGeom>
          <a:solidFill>
            <a:srgbClr val="ffffff"/>
          </a:solidFill>
          <a:ln w="55080">
            <a:solidFill>
              <a:srgbClr val="474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خطيط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نوع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7524720" y="1481040"/>
            <a:ext cx="0" cy="363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Straight Arrow Connector 10"/>
          <p:cNvCxnSpPr/>
          <p:nvPr/>
        </p:nvCxnSpPr>
        <p:spPr>
          <a:xfrm>
            <a:off x="4355640" y="1454040"/>
            <a:ext cx="1080" cy="3643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3" name="Straight Connector 13"/>
          <p:cNvSpPr/>
          <p:nvPr/>
        </p:nvSpPr>
        <p:spPr>
          <a:xfrm>
            <a:off x="4356000" y="1197000"/>
            <a:ext cx="0" cy="28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traight Connector 15"/>
          <p:cNvSpPr/>
          <p:nvPr/>
        </p:nvSpPr>
        <p:spPr>
          <a:xfrm flipH="1">
            <a:off x="1486080" y="1484280"/>
            <a:ext cx="2798640" cy="27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6"/>
          <p:cNvSpPr/>
          <p:nvPr/>
        </p:nvSpPr>
        <p:spPr>
          <a:xfrm>
            <a:off x="3492360" y="1844640"/>
            <a:ext cx="2016360" cy="936720"/>
          </a:xfrm>
          <a:prstGeom prst="rect">
            <a:avLst/>
          </a:prstGeom>
          <a:solidFill>
            <a:srgbClr val="ffffff"/>
          </a:solidFill>
          <a:ln w="55080">
            <a:solidFill>
              <a:srgbClr val="474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نظيم المالي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التنسيق بين جهود العامل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traight Connector 18"/>
          <p:cNvSpPr/>
          <p:nvPr/>
        </p:nvSpPr>
        <p:spPr>
          <a:xfrm>
            <a:off x="1476360" y="1481040"/>
            <a:ext cx="0" cy="363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324000" y="1844640"/>
            <a:ext cx="1944360" cy="863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رقابة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معيارين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traight Connector 22"/>
          <p:cNvSpPr/>
          <p:nvPr/>
        </p:nvSpPr>
        <p:spPr>
          <a:xfrm>
            <a:off x="7128000" y="2782800"/>
            <a:ext cx="0" cy="216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traight Connector 24"/>
          <p:cNvSpPr/>
          <p:nvPr/>
        </p:nvSpPr>
        <p:spPr>
          <a:xfrm>
            <a:off x="7848720" y="3068640"/>
            <a:ext cx="75564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traight Connector 26"/>
          <p:cNvSpPr/>
          <p:nvPr/>
        </p:nvSpPr>
        <p:spPr>
          <a:xfrm flipH="1">
            <a:off x="6048000" y="3068640"/>
            <a:ext cx="18003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traight Connector 28"/>
          <p:cNvSpPr/>
          <p:nvPr/>
        </p:nvSpPr>
        <p:spPr>
          <a:xfrm>
            <a:off x="6048360" y="306864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30"/>
          <p:cNvSpPr/>
          <p:nvPr/>
        </p:nvSpPr>
        <p:spPr>
          <a:xfrm>
            <a:off x="8604360" y="306864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9455"/>
          <p:cNvSpPr/>
          <p:nvPr/>
        </p:nvSpPr>
        <p:spPr>
          <a:xfrm>
            <a:off x="7380360" y="3357720"/>
            <a:ext cx="1655640" cy="576000"/>
          </a:xfrm>
          <a:prstGeom prst="ellipse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ت/قصير الأج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9456"/>
          <p:cNvSpPr/>
          <p:nvPr/>
        </p:nvSpPr>
        <p:spPr>
          <a:xfrm>
            <a:off x="5508720" y="3357720"/>
            <a:ext cx="1655640" cy="576000"/>
          </a:xfrm>
          <a:prstGeom prst="ellipse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ت/طويل الأج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traight Connector 19462"/>
          <p:cNvSpPr/>
          <p:nvPr/>
        </p:nvSpPr>
        <p:spPr>
          <a:xfrm>
            <a:off x="1295280" y="2708280"/>
            <a:ext cx="0" cy="3603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9464"/>
          <p:cNvSpPr/>
          <p:nvPr/>
        </p:nvSpPr>
        <p:spPr>
          <a:xfrm>
            <a:off x="1306440" y="3068640"/>
            <a:ext cx="203508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19466"/>
          <p:cNvSpPr/>
          <p:nvPr/>
        </p:nvSpPr>
        <p:spPr>
          <a:xfrm flipH="1">
            <a:off x="815760" y="3076560"/>
            <a:ext cx="75564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19468"/>
          <p:cNvSpPr/>
          <p:nvPr/>
        </p:nvSpPr>
        <p:spPr>
          <a:xfrm>
            <a:off x="2268360" y="3068640"/>
            <a:ext cx="10731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9470"/>
          <p:cNvSpPr/>
          <p:nvPr/>
        </p:nvSpPr>
        <p:spPr>
          <a:xfrm flipV="1">
            <a:off x="816120" y="306828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9473"/>
          <p:cNvSpPr/>
          <p:nvPr/>
        </p:nvSpPr>
        <p:spPr>
          <a:xfrm>
            <a:off x="2340000" y="3357720"/>
            <a:ext cx="1944720" cy="718920"/>
          </a:xfrm>
          <a:prstGeom prst="ellipse">
            <a:avLst/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يزانية،الدخ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Straight Arrow Connector 19477"/>
          <p:cNvCxnSpPr/>
          <p:nvPr/>
        </p:nvCxnSpPr>
        <p:spPr>
          <a:xfrm>
            <a:off x="3341160" y="3076200"/>
            <a:ext cx="1080" cy="2818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42" name="Oval 19479"/>
          <p:cNvSpPr/>
          <p:nvPr/>
        </p:nvSpPr>
        <p:spPr>
          <a:xfrm>
            <a:off x="179280" y="3357720"/>
            <a:ext cx="1944720" cy="718920"/>
          </a:xfrm>
          <a:prstGeom prst="ellipse">
            <a:avLst/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طريقت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19495"/>
          <p:cNvSpPr/>
          <p:nvPr/>
        </p:nvSpPr>
        <p:spPr>
          <a:xfrm flipH="1">
            <a:off x="539640" y="4400640"/>
            <a:ext cx="76680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19498"/>
          <p:cNvCxnSpPr/>
          <p:nvPr/>
        </p:nvCxnSpPr>
        <p:spPr>
          <a:xfrm>
            <a:off x="539280" y="4400280"/>
            <a:ext cx="1080" cy="324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45" name="Rounded Rectangle 19500"/>
          <p:cNvSpPr/>
          <p:nvPr/>
        </p:nvSpPr>
        <p:spPr>
          <a:xfrm>
            <a:off x="1784520" y="4756320"/>
            <a:ext cx="1726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تحليل رأسي ثاب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ounded Rectangle 19501"/>
          <p:cNvSpPr/>
          <p:nvPr/>
        </p:nvSpPr>
        <p:spPr>
          <a:xfrm>
            <a:off x="88920" y="4724280"/>
            <a:ext cx="1512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تحليل متحر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أكثر من مر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19503"/>
          <p:cNvSpPr/>
          <p:nvPr/>
        </p:nvSpPr>
        <p:spPr>
          <a:xfrm flipV="1">
            <a:off x="1295280" y="4076640"/>
            <a:ext cx="11160" cy="324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Straight Arrow Connector 19505"/>
          <p:cNvCxnSpPr/>
          <p:nvPr/>
        </p:nvCxnSpPr>
        <p:spPr>
          <a:xfrm>
            <a:off x="2647440" y="4723920"/>
            <a:ext cx="108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49" name="Straight Arrow Connector 19507"/>
          <p:cNvCxnSpPr/>
          <p:nvPr/>
        </p:nvCxnSpPr>
        <p:spPr>
          <a:xfrm>
            <a:off x="2725200" y="4400280"/>
            <a:ext cx="1080" cy="324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50" name="Straight Connector 19509"/>
          <p:cNvSpPr/>
          <p:nvPr/>
        </p:nvSpPr>
        <p:spPr>
          <a:xfrm flipH="1">
            <a:off x="1306440" y="4400640"/>
            <a:ext cx="141912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9512"/>
          <p:cNvSpPr/>
          <p:nvPr/>
        </p:nvSpPr>
        <p:spPr>
          <a:xfrm flipV="1">
            <a:off x="4284720" y="1454040"/>
            <a:ext cx="3240000" cy="30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689040" y="-3200400"/>
            <a:ext cx="7772400" cy="7126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900000" y="2550960"/>
            <a:ext cx="39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755640" y="333360"/>
            <a:ext cx="7272360" cy="286668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بعد التحليل المالي الرأسي الثابت والتحلي المتحرك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تم مقارنة المعلومات بـ:</a:t>
            </a:r>
            <a:br>
              <a:rPr sz="3200"/>
            </a:br>
            <a:br>
              <a:rPr sz="3200"/>
            </a:b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-معايير تاريخية                         -معايير عالمية                  -معايير صناعي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فهوم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لأنشطة الإدارية التي تمارسها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أهداف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لقرارات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General\AppData\Local\Microsoft\Windows\Temporary Internet Files\Content.IE5\CQYLE2UM\MP900390095[1].jpg"/>
          <p:cNvPicPr/>
          <p:nvPr/>
        </p:nvPicPr>
        <p:blipFill>
          <a:blip r:embed="rId2"/>
          <a:stretch/>
        </p:blipFill>
        <p:spPr>
          <a:xfrm>
            <a:off x="539640" y="4292640"/>
            <a:ext cx="8136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682560" y="622440"/>
            <a:ext cx="7772400" cy="1261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money-management"/>
          <p:cNvPicPr/>
          <p:nvPr/>
        </p:nvPicPr>
        <p:blipFill>
          <a:blip r:embed="rId2"/>
          <a:stretch/>
        </p:blipFill>
        <p:spPr>
          <a:xfrm>
            <a:off x="2627280" y="4159080"/>
            <a:ext cx="3898800" cy="2698920"/>
          </a:xfrm>
          <a:prstGeom prst="rect">
            <a:avLst/>
          </a:prstGeom>
          <a:ln w="0">
            <a:noFill/>
          </a:ln>
        </p:spPr>
      </p:pic>
      <p:sp>
        <p:nvSpPr>
          <p:cNvPr id="378" name="شكل بيضاوي 1"/>
          <p:cNvSpPr/>
          <p:nvPr/>
        </p:nvSpPr>
        <p:spPr>
          <a:xfrm>
            <a:off x="1116000" y="1773360"/>
            <a:ext cx="7056360" cy="1922400"/>
          </a:xfrm>
          <a:prstGeom prst="ellipse">
            <a:avLst/>
          </a:prstGeom>
          <a:gradFill rotWithShape="0">
            <a:gsLst>
              <a:gs pos="0">
                <a:srgbClr val="a8a9c0"/>
              </a:gs>
              <a:gs pos="100000">
                <a:srgbClr val="e1e2ec"/>
              </a:gs>
            </a:gsLst>
            <a:lin ang="16200000"/>
          </a:gradFill>
          <a:ln w="9360">
            <a:solidFill>
              <a:srgbClr val="474b7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ذلك النشاط الذهني الذي يختص بالتخطيط والتنظيم والمتابعة لحركتي الدخول والخروج للأموال الحالية والمرتقبة من والى المنظم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oney_tree"/>
          <p:cNvPicPr/>
          <p:nvPr/>
        </p:nvPicPr>
        <p:blipFill>
          <a:blip r:embed="rId2"/>
          <a:stretch/>
        </p:blipFill>
        <p:spPr>
          <a:xfrm>
            <a:off x="2411280" y="3141720"/>
            <a:ext cx="4216680" cy="3273480"/>
          </a:xfrm>
          <a:prstGeom prst="rect">
            <a:avLst/>
          </a:prstGeom>
          <a:ln w="0">
            <a:noFill/>
          </a:ln>
        </p:spPr>
      </p:pic>
      <p:sp>
        <p:nvSpPr>
          <p:cNvPr id="382" name="شكل بيضاوي 1"/>
          <p:cNvSpPr/>
          <p:nvPr/>
        </p:nvSpPr>
        <p:spPr>
          <a:xfrm>
            <a:off x="739800" y="3500280"/>
            <a:ext cx="1873080" cy="1130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الرقابة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6443640" y="3625920"/>
            <a:ext cx="1895400" cy="1152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4"/>
          <a:stretch/>
        </p:blipFill>
        <p:spPr>
          <a:xfrm>
            <a:off x="3673440" y="2144880"/>
            <a:ext cx="1895400" cy="1152360"/>
          </a:xfrm>
          <a:prstGeom prst="rect">
            <a:avLst/>
          </a:prstGeom>
          <a:ln w="0">
            <a:noFill/>
          </a:ln>
        </p:spPr>
      </p:pic>
      <p:sp>
        <p:nvSpPr>
          <p:cNvPr id="385" name="مستطيل 6"/>
          <p:cNvSpPr/>
          <p:nvPr/>
        </p:nvSpPr>
        <p:spPr>
          <a:xfrm>
            <a:off x="3673440" y="24652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تنظيم الم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3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-36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وظيف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   (توفير سيولة،تحقيق ربحي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101920" y="1444680"/>
            <a:ext cx="4041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ادا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       (تخطيط،تنظيم،رقاب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تعظيم صافي القيمة الحالية لثروة المساهمين (غاية المدير المالي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حاولة الوفاء بأعباء المسؤولية الاجتماعية من خلال تخصيص جزء من الايرادات في حل بعض القضايا مثل :دعم البحوث،حماية البيئة،تخفيف من البط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3807000" y="3278160"/>
            <a:ext cx="1530000" cy="93204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2" descr=""/>
          <p:cNvPicPr/>
          <p:nvPr/>
        </p:nvPicPr>
        <p:blipFill>
          <a:blip r:embed="rId2"/>
          <a:stretch/>
        </p:blipFill>
        <p:spPr>
          <a:xfrm>
            <a:off x="1042920" y="517680"/>
            <a:ext cx="7021440" cy="1025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572"/>
          <p:cNvPicPr/>
          <p:nvPr/>
        </p:nvPicPr>
        <p:blipFill>
          <a:blip r:embed="rId3"/>
          <a:stretch/>
        </p:blipFill>
        <p:spPr>
          <a:xfrm>
            <a:off x="3300480" y="2522520"/>
            <a:ext cx="3047760" cy="2529000"/>
          </a:xfrm>
          <a:prstGeom prst="rect">
            <a:avLst/>
          </a:prstGeom>
          <a:ln w="0">
            <a:noFill/>
          </a:ln>
        </p:spPr>
      </p:pic>
      <p:sp>
        <p:nvSpPr>
          <p:cNvPr id="394" name="شكل بيضاوي 2"/>
          <p:cNvSpPr/>
          <p:nvPr/>
        </p:nvSpPr>
        <p:spPr>
          <a:xfrm>
            <a:off x="3780000" y="1397160"/>
            <a:ext cx="208728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قرارات 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4"/>
          <a:stretch/>
        </p:blipFill>
        <p:spPr>
          <a:xfrm>
            <a:off x="1092240" y="3357720"/>
            <a:ext cx="2111400" cy="93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5"/>
          <a:stretch/>
        </p:blipFill>
        <p:spPr>
          <a:xfrm>
            <a:off x="6611760" y="3357720"/>
            <a:ext cx="1920960" cy="1079280"/>
          </a:xfrm>
          <a:prstGeom prst="rect">
            <a:avLst/>
          </a:prstGeom>
          <a:ln w="0">
            <a:noFill/>
          </a:ln>
        </p:spPr>
      </p:pic>
      <p:sp>
        <p:nvSpPr>
          <p:cNvPr id="397" name="مستطيل 3"/>
          <p:cNvSpPr/>
          <p:nvPr/>
        </p:nvSpPr>
        <p:spPr>
          <a:xfrm>
            <a:off x="6419880" y="3639960"/>
            <a:ext cx="21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رارات الاستثم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مستطيل 6"/>
          <p:cNvSpPr/>
          <p:nvPr/>
        </p:nvSpPr>
        <p:spPr>
          <a:xfrm>
            <a:off x="976320" y="3670200"/>
            <a:ext cx="21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دارة العمليات الج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مستطيل 8"/>
          <p:cNvSpPr/>
          <p:nvPr/>
        </p:nvSpPr>
        <p:spPr>
          <a:xfrm>
            <a:off x="3508560" y="571644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رارات توزيع الأربا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042560" y="2781000"/>
            <a:ext cx="72010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هناك نوعين من المجالات الاستثما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قصيرة الأجل مثل: شراء المواد الخام  (أصول متداول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طويلة الأجل مثل: شراء الآلات (أصول ثابت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42920" y="768240"/>
            <a:ext cx="7021440" cy="1030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money-market-1"/>
          <p:cNvPicPr/>
          <p:nvPr/>
        </p:nvPicPr>
        <p:blipFill>
          <a:blip r:embed="rId2"/>
          <a:stretch/>
        </p:blipFill>
        <p:spPr>
          <a:xfrm>
            <a:off x="468360" y="5373720"/>
            <a:ext cx="82803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شكل بيضاوي 1"/>
          <p:cNvSpPr/>
          <p:nvPr/>
        </p:nvSpPr>
        <p:spPr>
          <a:xfrm>
            <a:off x="1042920" y="1700280"/>
            <a:ext cx="705816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الاستخدام المربح للأموال التي يتم توفيرها للمنظ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اكملي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استثمارية ....... الأموال من المنظم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تمويلية ....... الأموال إلى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042920" y="974880"/>
            <a:ext cx="7021440" cy="1025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time-management-tips-for-freelancers3---calendar-2_s600x600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07" name="شكل بيضاوي 1"/>
          <p:cNvSpPr/>
          <p:nvPr/>
        </p:nvSpPr>
        <p:spPr>
          <a:xfrm>
            <a:off x="1116000" y="1844640"/>
            <a:ext cx="7201080" cy="17287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هو القرار الذي يختص بكيفية تدبير احتياجات المنظمة من الأموال بالكم والنوع المطلوبين ، وكذا بالتكلفة والوقت المناسب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24:58Z</dcterms:created>
  <dc:creator/>
  <dc:description/>
  <dc:language>en-US</dc:language>
  <cp:lastModifiedBy/>
  <dcterms:modified xsi:type="dcterms:W3CDTF">2015-12-09T22:19:22Z</dcterms:modified>
  <cp:revision>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