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5.jpeg" ContentType="image/jpeg"/>
  <Override PartName="/ppt/media/image27.jpeg" ContentType="image/jpeg"/>
  <Override PartName="/ppt/media/image7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DC3-57F3-4960-902A-8E0D1EBD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FFBD-ED92-42E1-97F5-86B695AF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B6F-1137-4BAD-91B8-562A4778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01F4-D68E-4729-8006-FEB4C484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4101-A16C-42B7-A514-18845FCD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0E8B-38C2-4899-8E09-FB1578EB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6EBE-39B1-481C-B213-43D144DD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E653-40E4-45F2-9042-BFD5439F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EAEC-B8B2-4144-8723-BA8D4575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3D39-4C6E-4B6E-A0DF-773F7301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17E3-21D5-4A57-A182-76536D3B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DC9-5D7E-47B0-9794-2BD4A884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3E63-CAD1-425A-8F88-A236322F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E49E-7160-4A5D-AD58-6DC99851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77E5-D3F9-430B-A50B-9671C3F7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8DC6-8EBF-4D3C-AA19-39F4F564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19FA-F6D8-4AA7-808E-75D10B59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7804E-F31D-447B-AD6C-6BA51EEE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82D02-6FA0-4624-AF8A-13C53C18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934C6-9587-43E6-BD0D-15FA33EB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AC93C-004B-44FB-AA45-DF81622B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3EB26-3171-4F76-B02B-85C3AEE5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B52-04DF-4CAF-A913-CD6C2BB9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0115B-803E-437C-A687-D39C3A3A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65C02-006B-4F71-B1A3-0B5DDA97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F1B01-809F-4BC3-8139-2B2BD769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F8620-B926-4C11-B7ED-69749C53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7184E-E295-49E5-877F-86DB0783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9CA53-36D7-4470-8BB9-62737920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991B4-3C07-463D-A98C-92CBE508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42360-3002-4B82-B64B-FD58C986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2D6B3-271D-4031-A41E-2D384CFB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618C1-0465-4F4C-9E1D-359A4EF4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B44-FEBB-45F6-91D1-B3284D9F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74949-7863-4FF0-8C6A-B4C9BC4B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E3944-E196-4767-B411-8DBC8BF7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241F9-E995-466D-B3D3-6DE46EE8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C0528-B959-48C3-94B4-473BCF87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D35BC-0083-4889-A139-ACF57541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16038-E7AA-4CE9-9802-D98F36BF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2F342-03C7-4801-967D-07F2159C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1022D-E2E8-4D20-99C2-94BC009B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66330-13EC-4CC7-A130-E2A6AD33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1077A-5001-4687-9F9E-7A53E9C1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5EF-BC83-4AA6-A23B-19057CD9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8A171-48FD-4792-9847-47752D1D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3B2CD-3A52-438E-AC39-BC93230C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1CCA5-158E-442E-8D26-21E70964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45297-1FDA-45FD-85D3-74EB43DA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6B3BA-07AB-4E30-87EF-4791644E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12B34-8386-4EBA-AFD3-1E2B390E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2CAF1-B384-4522-8A26-28E3B51B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71D10-B85D-4FA9-A2CF-8DEF236C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F966E-C7F3-4950-8480-4EC79574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5908E-162A-41E0-B6F1-172F2F07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104-230B-458F-8753-E2E887BF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D4C8A-75D4-4681-9031-4FD59E88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24513-741D-43A0-8316-771BAB43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E0234-EEA8-4EC8-83D4-F8B3CBE1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146B4-59FD-415B-BE75-96C278CC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49014-5216-42EC-A396-E470EEB8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B8A23-4DF1-4EBB-9DE9-C3A51E7B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C37DF-EDA9-401A-8B1C-379D806F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89122-D9DC-44E3-95DC-D4875A2D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AED22-7007-496D-83CA-B63D49FE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38100-B8BB-4713-AFC9-5921F026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D94-DB2F-497D-8510-91D5C8E8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779BD-801B-47B4-B646-DD907115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8F2B5-8025-4FB6-A2E2-3AF2BC95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60A08-58D3-44BF-9033-2064BA49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F6C02-58A2-4160-9D0E-3981FEF0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BEF69-868C-4117-89F3-79559AE1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CC925-8257-4C12-8DA2-FABE798D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0FCD3-DBD4-44ED-883D-AD44BB99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67EEC-D218-4D69-868D-71F663BA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36110-9F1F-4D59-AA88-DBC298C5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07634-D18B-404C-A25C-B6CB3875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6BB5-CB65-4137-9CD7-3FBD25BA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D510A-354C-4B5F-BBF5-D60B7117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1B909-A65C-47FB-9BF0-7ED02681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8F399-CA7F-4631-A5CB-4C8D2404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36E4E-E9ED-415D-8EBC-693EDF85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12A73-F942-45D1-BA65-5EB1EC33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D5A7E-2459-4202-B672-42CE3022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5622B-43F9-4F5B-B822-920E0430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C737D-0E02-4AD8-9D18-41171B2E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4461B-18AD-4642-931C-FBD4C8CB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627F4-522F-4411-8DD2-987619DA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A137-5C0F-445D-BBCE-198D370C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9876B-E4D9-4DB8-B93F-207D6A17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0B0D2-6BA8-4D70-B376-ECA046F7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2696E-61CC-405E-AEC7-D82ECC37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AF4C2-F479-4A9D-B349-DD9895AE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2CDA7-5790-49CA-9607-50362AE6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E4D0C-B34E-4A0B-AF3A-AB435C08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6EEAB-8BBD-43E1-B615-7A26BA3C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2CF9-D9ED-4952-BF10-296BB39D978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8B41-1AE2-4A6E-A783-5E3D6AED836B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82FC-0162-43E0-82DE-7AF57EC845D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930D-B233-4AB0-85F0-3A82EB11A8D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E9CF-B277-457C-8133-9719008B324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E946-0198-4E2C-AB89-0E32391CC0C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E20B-B4FC-47C0-BD92-EBF52FE8CB6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DB04-4B12-43E0-A62F-913541F5C403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1328760" y="401760"/>
            <a:ext cx="6870600" cy="18651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money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23640" y="1483920"/>
            <a:ext cx="81327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70c0"/>
                </a:solidFill>
                <a:latin typeface="Arial"/>
              </a:rPr>
              <a:t>التمويل بالملكي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أموال الملاك(حملة الأسهم) والأرباح المحتجزة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«تسمى التمويل الذاتي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Arial"/>
              </a:rPr>
              <a:t>التمويل بالمديونية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متى يلجأ إليه ؟؟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عدم كفاية رأس المال المملوك ، الحالات الطارئة ، المواسم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ويتم عن طريق الاستدانة من الغير ومن مصادرها 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مصادر استدانة قصيرة الأجل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يجب سدادها خلال سنة كحد أقصى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مصادر استدانة طويلة الأجل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يجب سدادها خلال مدة أطول من السنة</a:t>
            </a:r>
            <a:r>
              <a:rPr b="0" lang="ar-SA" sz="28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1042920" y="554040"/>
            <a:ext cx="7021440" cy="1079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forex-image"/>
          <p:cNvPicPr/>
          <p:nvPr/>
        </p:nvPicPr>
        <p:blipFill>
          <a:blip r:embed="rId2"/>
          <a:stretch/>
        </p:blipFill>
        <p:spPr>
          <a:xfrm>
            <a:off x="468360" y="4437000"/>
            <a:ext cx="29163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182600" y="1700280"/>
            <a:ext cx="67788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</a:rPr>
              <a:t>تسمى «إدارة رأس المال العامل»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042920" y="731880"/>
            <a:ext cx="7021440" cy="1030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d5f46beff42e60d2279d7d60acdd7267_342802701"/>
          <p:cNvPicPr/>
          <p:nvPr/>
        </p:nvPicPr>
        <p:blipFill>
          <a:blip r:embed="rId2"/>
          <a:stretch/>
        </p:blipFill>
        <p:spPr>
          <a:xfrm>
            <a:off x="468360" y="4548240"/>
            <a:ext cx="8280360" cy="2120760"/>
          </a:xfrm>
          <a:prstGeom prst="rect">
            <a:avLst/>
          </a:prstGeom>
          <a:ln w="0">
            <a:noFill/>
          </a:ln>
        </p:spPr>
      </p:pic>
      <p:sp>
        <p:nvSpPr>
          <p:cNvPr id="414" name="شكل بيضاوي 1"/>
          <p:cNvSpPr/>
          <p:nvPr/>
        </p:nvSpPr>
        <p:spPr>
          <a:xfrm>
            <a:off x="1403280" y="2220840"/>
            <a:ext cx="6769080" cy="12240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العمليات الجارية هي دورة النقدية المرهونة بكل من دورتي الانتاج والتسوي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042560" y="1484280"/>
            <a:ext cx="6777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09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</a:rPr>
              <a:t>عند توزيع الأرباح ، يواجه المدير المالي  مشكلة التوفيق بين مطلبين هما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5092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توزيع الارباح على أصحاب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5092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حاجة المنظمة إلى هذه الارباح لإعادة استثمار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042920" y="590400"/>
            <a:ext cx="7021440" cy="1025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money"/>
          <p:cNvPicPr/>
          <p:nvPr/>
        </p:nvPicPr>
        <p:blipFill>
          <a:blip r:embed="rId2"/>
          <a:stretch/>
        </p:blipFill>
        <p:spPr>
          <a:xfrm>
            <a:off x="468360" y="3645000"/>
            <a:ext cx="8280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0" y="1339560"/>
            <a:ext cx="91440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888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2"/>
          <p:cNvSpPr/>
          <p:nvPr/>
        </p:nvSpPr>
        <p:spPr>
          <a:xfrm>
            <a:off x="6048360" y="1844640"/>
            <a:ext cx="2160720" cy="936720"/>
          </a:xfrm>
          <a:prstGeom prst="rect">
            <a:avLst/>
          </a:prstGeom>
          <a:solidFill>
            <a:srgbClr val="ffffff"/>
          </a:solidFill>
          <a:ln w="55080">
            <a:solidFill>
              <a:srgbClr val="474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تخطيط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نوعي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traight Connector 8"/>
          <p:cNvSpPr/>
          <p:nvPr/>
        </p:nvSpPr>
        <p:spPr>
          <a:xfrm>
            <a:off x="7524720" y="1481040"/>
            <a:ext cx="0" cy="363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2" name="Straight Arrow Connector 10"/>
          <p:cNvCxnSpPr/>
          <p:nvPr/>
        </p:nvCxnSpPr>
        <p:spPr>
          <a:xfrm>
            <a:off x="4355640" y="1454040"/>
            <a:ext cx="1080" cy="3643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23" name="Straight Connector 13"/>
          <p:cNvSpPr/>
          <p:nvPr/>
        </p:nvSpPr>
        <p:spPr>
          <a:xfrm>
            <a:off x="4356000" y="1197000"/>
            <a:ext cx="0" cy="287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traight Connector 15"/>
          <p:cNvSpPr/>
          <p:nvPr/>
        </p:nvSpPr>
        <p:spPr>
          <a:xfrm flipH="1">
            <a:off x="1486080" y="1484280"/>
            <a:ext cx="2798640" cy="27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6"/>
          <p:cNvSpPr/>
          <p:nvPr/>
        </p:nvSpPr>
        <p:spPr>
          <a:xfrm>
            <a:off x="3492360" y="1844640"/>
            <a:ext cx="2016360" cy="936720"/>
          </a:xfrm>
          <a:prstGeom prst="rect">
            <a:avLst/>
          </a:prstGeom>
          <a:solidFill>
            <a:srgbClr val="ffffff"/>
          </a:solidFill>
          <a:ln w="55080">
            <a:solidFill>
              <a:srgbClr val="474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تنظيم المالي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Lucida Sans Unicode"/>
              </a:rPr>
              <a:t>التنسيق بين جهود العامل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traight Connector 18"/>
          <p:cNvSpPr/>
          <p:nvPr/>
        </p:nvSpPr>
        <p:spPr>
          <a:xfrm>
            <a:off x="1476360" y="1481040"/>
            <a:ext cx="0" cy="363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9"/>
          <p:cNvSpPr/>
          <p:nvPr/>
        </p:nvSpPr>
        <p:spPr>
          <a:xfrm>
            <a:off x="324000" y="1844640"/>
            <a:ext cx="1944360" cy="86364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رقابة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معيارين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traight Connector 22"/>
          <p:cNvSpPr/>
          <p:nvPr/>
        </p:nvSpPr>
        <p:spPr>
          <a:xfrm>
            <a:off x="7128000" y="2782800"/>
            <a:ext cx="0" cy="216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traight Connector 24"/>
          <p:cNvSpPr/>
          <p:nvPr/>
        </p:nvSpPr>
        <p:spPr>
          <a:xfrm>
            <a:off x="7848720" y="3068640"/>
            <a:ext cx="75564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traight Connector 26"/>
          <p:cNvSpPr/>
          <p:nvPr/>
        </p:nvSpPr>
        <p:spPr>
          <a:xfrm flipH="1">
            <a:off x="6048000" y="3068640"/>
            <a:ext cx="180036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traight Connector 28"/>
          <p:cNvSpPr/>
          <p:nvPr/>
        </p:nvSpPr>
        <p:spPr>
          <a:xfrm>
            <a:off x="6048360" y="3068640"/>
            <a:ext cx="0" cy="2890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traight Connector 30"/>
          <p:cNvSpPr/>
          <p:nvPr/>
        </p:nvSpPr>
        <p:spPr>
          <a:xfrm>
            <a:off x="8604360" y="3068640"/>
            <a:ext cx="0" cy="2890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19455"/>
          <p:cNvSpPr/>
          <p:nvPr/>
        </p:nvSpPr>
        <p:spPr>
          <a:xfrm>
            <a:off x="7380360" y="3357720"/>
            <a:ext cx="1655640" cy="576000"/>
          </a:xfrm>
          <a:prstGeom prst="ellipse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Lucida Sans Unicode"/>
              </a:rPr>
              <a:t>ت/قصير الأج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Oval 19456"/>
          <p:cNvSpPr/>
          <p:nvPr/>
        </p:nvSpPr>
        <p:spPr>
          <a:xfrm>
            <a:off x="5508720" y="3357720"/>
            <a:ext cx="1655640" cy="576000"/>
          </a:xfrm>
          <a:prstGeom prst="ellipse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Lucida Sans Unicode"/>
              </a:rPr>
              <a:t>ت/طويل الأج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traight Connector 19462"/>
          <p:cNvSpPr/>
          <p:nvPr/>
        </p:nvSpPr>
        <p:spPr>
          <a:xfrm>
            <a:off x="1295280" y="2708280"/>
            <a:ext cx="0" cy="3603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traight Connector 19464"/>
          <p:cNvSpPr/>
          <p:nvPr/>
        </p:nvSpPr>
        <p:spPr>
          <a:xfrm>
            <a:off x="1306440" y="3068640"/>
            <a:ext cx="203508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traight Connector 19466"/>
          <p:cNvSpPr/>
          <p:nvPr/>
        </p:nvSpPr>
        <p:spPr>
          <a:xfrm flipH="1">
            <a:off x="815760" y="3076560"/>
            <a:ext cx="75564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traight Connector 19468"/>
          <p:cNvSpPr/>
          <p:nvPr/>
        </p:nvSpPr>
        <p:spPr>
          <a:xfrm>
            <a:off x="2268360" y="3068640"/>
            <a:ext cx="107316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19470"/>
          <p:cNvSpPr/>
          <p:nvPr/>
        </p:nvSpPr>
        <p:spPr>
          <a:xfrm flipV="1">
            <a:off x="816120" y="3068280"/>
            <a:ext cx="0" cy="2890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19473"/>
          <p:cNvSpPr/>
          <p:nvPr/>
        </p:nvSpPr>
        <p:spPr>
          <a:xfrm>
            <a:off x="2340000" y="3357720"/>
            <a:ext cx="1944720" cy="718920"/>
          </a:xfrm>
          <a:prstGeom prst="ellipse">
            <a:avLst/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ميزانية،الدخ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Straight Arrow Connector 19477"/>
          <p:cNvCxnSpPr/>
          <p:nvPr/>
        </p:nvCxnSpPr>
        <p:spPr>
          <a:xfrm>
            <a:off x="3341160" y="3076200"/>
            <a:ext cx="1080" cy="2818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42" name="Oval 19479"/>
          <p:cNvSpPr/>
          <p:nvPr/>
        </p:nvSpPr>
        <p:spPr>
          <a:xfrm>
            <a:off x="179280" y="3357720"/>
            <a:ext cx="1944720" cy="718920"/>
          </a:xfrm>
          <a:prstGeom prst="ellipse">
            <a:avLst/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طريقتي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traight Connector 19495"/>
          <p:cNvSpPr/>
          <p:nvPr/>
        </p:nvSpPr>
        <p:spPr>
          <a:xfrm flipH="1">
            <a:off x="539640" y="4400640"/>
            <a:ext cx="76680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Straight Arrow Connector 19498"/>
          <p:cNvCxnSpPr/>
          <p:nvPr/>
        </p:nvCxnSpPr>
        <p:spPr>
          <a:xfrm>
            <a:off x="539280" y="4400280"/>
            <a:ext cx="1080" cy="324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45" name="Rounded Rectangle 19500"/>
          <p:cNvSpPr/>
          <p:nvPr/>
        </p:nvSpPr>
        <p:spPr>
          <a:xfrm>
            <a:off x="1784520" y="4756320"/>
            <a:ext cx="17269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تحليل رأسي ثاب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ounded Rectangle 19501"/>
          <p:cNvSpPr/>
          <p:nvPr/>
        </p:nvSpPr>
        <p:spPr>
          <a:xfrm>
            <a:off x="88920" y="4724280"/>
            <a:ext cx="15127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تحليل متحر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أكثر من مر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traight Connector 19503"/>
          <p:cNvSpPr/>
          <p:nvPr/>
        </p:nvSpPr>
        <p:spPr>
          <a:xfrm flipV="1">
            <a:off x="1295280" y="4076640"/>
            <a:ext cx="11160" cy="324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8" name="Straight Arrow Connector 19505"/>
          <p:cNvCxnSpPr/>
          <p:nvPr/>
        </p:nvCxnSpPr>
        <p:spPr>
          <a:xfrm>
            <a:off x="2647440" y="4723920"/>
            <a:ext cx="108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49" name="Straight Arrow Connector 19507"/>
          <p:cNvCxnSpPr/>
          <p:nvPr/>
        </p:nvCxnSpPr>
        <p:spPr>
          <a:xfrm>
            <a:off x="2725200" y="4400280"/>
            <a:ext cx="1080" cy="324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50" name="Straight Connector 19509"/>
          <p:cNvSpPr/>
          <p:nvPr/>
        </p:nvSpPr>
        <p:spPr>
          <a:xfrm flipH="1">
            <a:off x="1306440" y="4400640"/>
            <a:ext cx="141912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traight Connector 19512"/>
          <p:cNvSpPr/>
          <p:nvPr/>
        </p:nvSpPr>
        <p:spPr>
          <a:xfrm flipV="1">
            <a:off x="4284720" y="1454040"/>
            <a:ext cx="3240000" cy="30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1" descr=""/>
          <p:cNvPicPr/>
          <p:nvPr/>
        </p:nvPicPr>
        <p:blipFill>
          <a:blip r:embed="rId1"/>
          <a:stretch/>
        </p:blipFill>
        <p:spPr>
          <a:xfrm>
            <a:off x="689040" y="-3200400"/>
            <a:ext cx="7772400" cy="7126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900000" y="2550960"/>
            <a:ext cx="395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755640" y="333360"/>
            <a:ext cx="7272360" cy="2866680"/>
          </a:xfrm>
          <a:prstGeom prst="rect">
            <a:avLst/>
          </a:pr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بعد التحليل المالي الرأسي الثابت والتحلي المتحرك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تتم مقارنة المعلومات بـ:</a:t>
            </a:r>
            <a:br>
              <a:rPr sz="3200"/>
            </a:br>
            <a:br>
              <a:rPr sz="3200"/>
            </a:br>
            <a:r>
              <a:rPr b="1" lang="ar-SA" sz="1800" spc="-1" strike="noStrike">
                <a:solidFill>
                  <a:srgbClr val="000000"/>
                </a:solidFill>
                <a:latin typeface="Lucida Sans Unicode"/>
              </a:rPr>
              <a:t>-معايير تاريخية                         -معايير عالمية                  -معايير صناعي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فهوم الإدارة المال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الأنشطة الإدارية التي تمارسها الإدارة المال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هام الادارة المال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أهداف الادارة المال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القرارات المال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عنوان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Users\General\AppData\Local\Microsoft\Windows\Temporary Internet Files\Content.IE5\CQYLE2UM\MP900390095[1].jpg"/>
          <p:cNvPicPr/>
          <p:nvPr/>
        </p:nvPicPr>
        <p:blipFill>
          <a:blip r:embed="rId2"/>
          <a:stretch/>
        </p:blipFill>
        <p:spPr>
          <a:xfrm>
            <a:off x="539640" y="4292640"/>
            <a:ext cx="813600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682560" y="622440"/>
            <a:ext cx="7772400" cy="12618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money-management"/>
          <p:cNvPicPr/>
          <p:nvPr/>
        </p:nvPicPr>
        <p:blipFill>
          <a:blip r:embed="rId2"/>
          <a:stretch/>
        </p:blipFill>
        <p:spPr>
          <a:xfrm>
            <a:off x="2627280" y="4159080"/>
            <a:ext cx="3898800" cy="2698920"/>
          </a:xfrm>
          <a:prstGeom prst="rect">
            <a:avLst/>
          </a:prstGeom>
          <a:ln w="0">
            <a:noFill/>
          </a:ln>
        </p:spPr>
      </p:pic>
      <p:sp>
        <p:nvSpPr>
          <p:cNvPr id="378" name="شكل بيضاوي 1"/>
          <p:cNvSpPr/>
          <p:nvPr/>
        </p:nvSpPr>
        <p:spPr>
          <a:xfrm>
            <a:off x="1116000" y="1773360"/>
            <a:ext cx="7056360" cy="1922400"/>
          </a:xfrm>
          <a:prstGeom prst="ellipse">
            <a:avLst/>
          </a:prstGeom>
          <a:gradFill rotWithShape="0">
            <a:gsLst>
              <a:gs pos="0">
                <a:srgbClr val="a8a9c0"/>
              </a:gs>
              <a:gs pos="100000">
                <a:srgbClr val="e1e2ec"/>
              </a:gs>
            </a:gsLst>
            <a:lin ang="16200000"/>
          </a:gradFill>
          <a:ln w="9360">
            <a:solidFill>
              <a:srgbClr val="474b7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 ذلك النشاط الذهني الذي يختص بالتخطيط والتنظيم والمتابعة لحركتي الدخول والخروج للأموال الحالية والمرتقبة من والى المنظم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money_tree"/>
          <p:cNvPicPr/>
          <p:nvPr/>
        </p:nvPicPr>
        <p:blipFill>
          <a:blip r:embed="rId2"/>
          <a:stretch/>
        </p:blipFill>
        <p:spPr>
          <a:xfrm>
            <a:off x="2411280" y="3141720"/>
            <a:ext cx="4216680" cy="3273480"/>
          </a:xfrm>
          <a:prstGeom prst="rect">
            <a:avLst/>
          </a:prstGeom>
          <a:ln w="0">
            <a:noFill/>
          </a:ln>
        </p:spPr>
      </p:pic>
      <p:sp>
        <p:nvSpPr>
          <p:cNvPr id="382" name="شكل بيضاوي 1"/>
          <p:cNvSpPr/>
          <p:nvPr/>
        </p:nvSpPr>
        <p:spPr>
          <a:xfrm>
            <a:off x="739800" y="3500280"/>
            <a:ext cx="1873080" cy="1130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Lucida Sans Unicode"/>
              </a:rPr>
              <a:t>الرقابة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5" descr=""/>
          <p:cNvPicPr/>
          <p:nvPr/>
        </p:nvPicPr>
        <p:blipFill>
          <a:blip r:embed="rId3"/>
          <a:stretch/>
        </p:blipFill>
        <p:spPr>
          <a:xfrm>
            <a:off x="6443640" y="3625920"/>
            <a:ext cx="1895400" cy="1152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"/>
          <p:cNvPicPr/>
          <p:nvPr/>
        </p:nvPicPr>
        <p:blipFill>
          <a:blip r:embed="rId4"/>
          <a:stretch/>
        </p:blipFill>
        <p:spPr>
          <a:xfrm>
            <a:off x="3673440" y="2144880"/>
            <a:ext cx="1895400" cy="1152360"/>
          </a:xfrm>
          <a:prstGeom prst="rect">
            <a:avLst/>
          </a:prstGeom>
          <a:ln w="0">
            <a:noFill/>
          </a:ln>
        </p:spPr>
      </p:pic>
      <p:sp>
        <p:nvSpPr>
          <p:cNvPr id="385" name="مستطيل 6"/>
          <p:cNvSpPr/>
          <p:nvPr/>
        </p:nvSpPr>
        <p:spPr>
          <a:xfrm>
            <a:off x="3673440" y="2465280"/>
            <a:ext cx="18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تنظيم المال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3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-36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هام وظيف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   (توفير سيولة،تحقيق ربحي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101920" y="1444680"/>
            <a:ext cx="4041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هام ادار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       (تخطيط،تنظيم،رقاب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تعظيم صافي القيمة الحالية لثروة المساهمين (غاية المدير المالي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حاولة الوفاء بأعباء المسؤولية الاجتماعية من خلال تخصيص جزء من الايرادات في حل بعض القضايا مثل :دعم البحوث،حماية البيئة،تخفيف من البطا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3807000" y="3278160"/>
            <a:ext cx="1530000" cy="932040"/>
          </a:xfrm>
          <a:prstGeom prst="rect">
            <a:avLst/>
          </a:prstGeom>
          <a:ln w="0">
            <a:noFill/>
          </a:ln>
        </p:spPr>
      </p:pic>
      <p:pic>
        <p:nvPicPr>
          <p:cNvPr id="392" name="Rectangle 2" descr=""/>
          <p:cNvPicPr/>
          <p:nvPr/>
        </p:nvPicPr>
        <p:blipFill>
          <a:blip r:embed="rId2"/>
          <a:stretch/>
        </p:blipFill>
        <p:spPr>
          <a:xfrm>
            <a:off x="1042920" y="517680"/>
            <a:ext cx="7021440" cy="10252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572"/>
          <p:cNvPicPr/>
          <p:nvPr/>
        </p:nvPicPr>
        <p:blipFill>
          <a:blip r:embed="rId3"/>
          <a:stretch/>
        </p:blipFill>
        <p:spPr>
          <a:xfrm>
            <a:off x="3300480" y="2522520"/>
            <a:ext cx="3047760" cy="2529000"/>
          </a:xfrm>
          <a:prstGeom prst="rect">
            <a:avLst/>
          </a:prstGeom>
          <a:ln w="0">
            <a:noFill/>
          </a:ln>
        </p:spPr>
      </p:pic>
      <p:sp>
        <p:nvSpPr>
          <p:cNvPr id="394" name="شكل بيضاوي 2"/>
          <p:cNvSpPr/>
          <p:nvPr/>
        </p:nvSpPr>
        <p:spPr>
          <a:xfrm>
            <a:off x="3780000" y="1397160"/>
            <a:ext cx="208728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قرارات التمو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6" descr=""/>
          <p:cNvPicPr/>
          <p:nvPr/>
        </p:nvPicPr>
        <p:blipFill>
          <a:blip r:embed="rId4"/>
          <a:stretch/>
        </p:blipFill>
        <p:spPr>
          <a:xfrm>
            <a:off x="1092240" y="3357720"/>
            <a:ext cx="2111400" cy="933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5"/>
          <a:stretch/>
        </p:blipFill>
        <p:spPr>
          <a:xfrm>
            <a:off x="6611760" y="3357720"/>
            <a:ext cx="1920960" cy="1079280"/>
          </a:xfrm>
          <a:prstGeom prst="rect">
            <a:avLst/>
          </a:prstGeom>
          <a:ln w="0">
            <a:noFill/>
          </a:ln>
        </p:spPr>
      </p:pic>
      <p:sp>
        <p:nvSpPr>
          <p:cNvPr id="397" name="مستطيل 3"/>
          <p:cNvSpPr/>
          <p:nvPr/>
        </p:nvSpPr>
        <p:spPr>
          <a:xfrm>
            <a:off x="6419880" y="3639960"/>
            <a:ext cx="211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قرارات الاستثما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مستطيل 6"/>
          <p:cNvSpPr/>
          <p:nvPr/>
        </p:nvSpPr>
        <p:spPr>
          <a:xfrm>
            <a:off x="976320" y="3670200"/>
            <a:ext cx="21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إدارة العمليات الجا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مستطيل 8"/>
          <p:cNvSpPr/>
          <p:nvPr/>
        </p:nvSpPr>
        <p:spPr>
          <a:xfrm>
            <a:off x="3508560" y="571644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رارات توزيع الأربا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042560" y="2781000"/>
            <a:ext cx="720108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</a:rPr>
              <a:t>هناك نوعين من المجالات الاستثمارية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جالات استثمارية قصيرة الأجل مثل: شراء المواد الخام  (أصول متداول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جالات استثمارية طويلة الأجل مثل: شراء الآلات (أصول ثابت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042920" y="768240"/>
            <a:ext cx="7021440" cy="1030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money-market-1"/>
          <p:cNvPicPr/>
          <p:nvPr/>
        </p:nvPicPr>
        <p:blipFill>
          <a:blip r:embed="rId2"/>
          <a:stretch/>
        </p:blipFill>
        <p:spPr>
          <a:xfrm>
            <a:off x="468360" y="5373720"/>
            <a:ext cx="8280360" cy="1295280"/>
          </a:xfrm>
          <a:prstGeom prst="rect">
            <a:avLst/>
          </a:prstGeom>
          <a:ln w="0">
            <a:noFill/>
          </a:ln>
        </p:spPr>
      </p:pic>
      <p:sp>
        <p:nvSpPr>
          <p:cNvPr id="403" name="شكل بيضاوي 1"/>
          <p:cNvSpPr/>
          <p:nvPr/>
        </p:nvSpPr>
        <p:spPr>
          <a:xfrm>
            <a:off x="1042920" y="1700280"/>
            <a:ext cx="7058160" cy="12240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و الاستخدام المربح للأموال التي يتم توفيرها للمنظ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Lucida Sans Unicode"/>
              </a:rPr>
              <a:t>اكملي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يترتب على القرارات الاستثمارية ....... الأموال من المنظمة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يترتب على القرارات التمويلية ....... الأموال إلى المنظم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1042920" y="974880"/>
            <a:ext cx="7021440" cy="10252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time-management-tips-for-freelancers3---calendar-2_s600x600"/>
          <p:cNvPicPr/>
          <p:nvPr/>
        </p:nvPicPr>
        <p:blipFill>
          <a:blip r:embed="rId2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407" name="شكل بيضاوي 1"/>
          <p:cNvSpPr/>
          <p:nvPr/>
        </p:nvSpPr>
        <p:spPr>
          <a:xfrm>
            <a:off x="1116000" y="1844640"/>
            <a:ext cx="7201080" cy="17287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Lucida Sans Unicode"/>
              </a:rPr>
              <a:t>هو القرار الذي يختص بكيفية تدبير احتياجات المنظمة من الأموال بالكم والنوع المطلوبين ، وكذا بالتكلفة والوقت المناسب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1:24:58Z</dcterms:created>
  <dc:creator/>
  <dc:description/>
  <dc:language>en-US</dc:language>
  <cp:lastModifiedBy/>
  <dcterms:modified xsi:type="dcterms:W3CDTF">2015-12-09T22:19:22Z</dcterms:modified>
  <cp:revision>7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