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C1D9-5FA8-48B7-B62B-AB43B6EE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DD53-5CE1-4958-A15D-4B0BF791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8E188-6A36-48DC-B74A-27025F64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F8055-4821-45AA-AE13-0F0EBD16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F0608-8D82-407F-916B-3B3CB23C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1EE5B-F025-431F-A871-047AB75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2185B-5776-4F8F-BA99-CD8A95F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6C5C1-F927-4382-B4D0-D2D8F4E9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1955A-32E3-4FA5-A559-ABE6C34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E07D6-F4D3-4494-9D96-FD8D2905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30960-3F7C-46D1-A89C-11857718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6FE98-4E84-4183-A4D9-FB1C802E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CBB7-BF2D-4820-AF6E-F97C4116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AB7EA-A9FE-40E2-B250-0667279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A54FE-0508-43BD-8880-D563E76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1AB97-00B6-4525-B624-BD176A18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23388-BEF7-479B-96AF-7666B8A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4D961-5127-4D9D-8251-0903A8D7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A4D0D-9D52-47F0-86E0-A54AEB19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E6799-315B-4591-B3F0-C986D20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B5A75-B715-4289-91F9-501EF3D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6CA87-10D0-42B1-8D99-D6B5DA6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C2455-B8CF-48C3-BF74-BC932E9C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F044-DD15-475D-A42B-A5622B70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460A3-0E1A-4F0C-B4AC-C6AEFD57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B8092-5FA0-4D28-A691-BD7866C7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84E29-7DFC-497C-9626-A993797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8BED2-66E5-4097-AA09-5DAB3F3B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A3BDD-0998-46FE-A0FF-918E57AF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D1B83-9537-44B7-9076-AA27D90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182E0-F47C-465C-8F97-BDB3A36D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C81A7-773E-47B4-BAA9-9F211EA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2735B-C60B-4505-A442-26A1ED67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5F805-48CA-4B1F-8975-86EAC1A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3DE1-1FC5-4D31-B62E-AA4DC4F2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0A8F4-3013-48D7-8541-2B1B5909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0280B-9004-44C3-998E-C91FA412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A5A2F-7434-48F6-9240-E9BDAEEB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FA212-FA68-4EFC-AF84-EF236B2A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E5A17-451A-4C87-9B1C-1D6131DA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09128-0FC7-4897-849F-9944F22C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3EB42-83EE-4C88-A249-6711550F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C475F-CD6E-42AE-A852-B595977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BB942-7E7A-44E5-A98C-E590FAD1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8DCAB-F6C5-4F62-A683-80CACDE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332E-E8A0-4777-83B2-386F2606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24B5E-F681-408D-9259-ABD156A5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6A2BE-C060-4DE5-84C0-238A7816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93DDA-4515-4A48-AD2B-674BEBDD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CA584-ECC1-40E8-B581-AC8C2698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F2287-7C5F-41E6-BF7D-8582028A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463A97-752F-4F71-97BB-43FBAFBD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44D360-6350-43D4-865A-5BB00C53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B5E4CE-5E10-47C7-909A-DD1453F6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1FB116-4526-40D9-B4D5-CB7E00D8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AFD68E-FB2C-4E8A-801A-3DE848EE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0054-856A-40C4-A1CB-EC0EC650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A045D0-FFDA-474A-BC4A-3068C0FE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F49280-B259-43FC-B049-59E3518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43FA75-15FB-4E42-B7B1-1933147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E08CC-4065-4529-8BE8-71C9E0AB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471A21-ED60-4836-A4D3-1E2362F4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6FB594-99CE-4AA2-9660-76CF6F55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4E466-A0C9-4F0F-9CC5-DEE4981C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B2717-FAE2-4261-903A-74AEBD3E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1B17D-8EDD-4574-8CE7-527231EF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A9BB7-D3B1-4D48-97E6-49086412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B9D6-3469-4026-AED0-93501594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E6B06-8839-4616-B3CA-D9FBC000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2F059-067A-4815-9F5C-5B9FC1C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9F30D-A537-48A8-AF68-B03401B7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7FEF4-5EF6-4922-9DED-E90091FF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5B8F4-BD82-47FD-80D2-5A57D09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C805A-6D38-40F9-BC68-7F281B1E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00B41-0961-4855-890F-147E66B1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965B3-DA5D-46C9-ADA4-0F334DBE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7BED2-F0C3-4D1D-BD5B-18D001F5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FC942-10C4-4197-B3A0-F1BD1A71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7A89-D1CC-41C6-B444-F79FF099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66199-7FBA-43A1-B626-EAC06B03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BA502-248F-45D2-9512-5C636DE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D14C0-6052-4399-A139-D1F13F56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AD495-D5C9-4693-A6F2-E62192B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E5FA2-D6DF-4EEF-A2B2-FA5FAD7B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D6025-FDB7-4904-808A-9D06912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36B3E-6709-47A5-9B94-7403EC2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80E80-9C94-433F-A380-D98CA08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6EE80-69F4-49B4-AF23-46CF9649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29CF9-5C59-44CE-B3CA-401B5C55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9C2E-5D62-4CFD-A22D-4DA96AF0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1E74E-4FEB-4F9E-B746-B7AB729F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03620-939F-4246-AC77-817E72F8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35D80-E5E3-4F8F-BFE6-DA9FCF54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302F7-0356-41E2-A1A6-CE71121A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CAADA-936F-4CC6-B666-927E55A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80C3E-E396-4B89-872E-A660DD8D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F3951-00AA-4138-8A0E-85636057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26ADA-62D8-41C2-9B04-3BFFB0BE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6A11B-C570-4F76-BA87-5EAEC73C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42126-BC5F-4BEA-946E-518A9FF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BEF-A7D5-4173-ABCF-772FCF5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17F5B-4DA7-4407-92BB-68D694B9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712C0-4559-49DC-A642-6E12ADCD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24D82-A00A-468A-87A0-0117A6BF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7F8AE-133A-43D5-8FB6-7B792E84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6868D-F09A-45FC-9BCA-2C41359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8AE22-4472-4AF1-A1A1-6AFBCEF2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7FEBD-F743-4651-B241-64DC515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4DA40-7D6A-4D60-AFFD-F95ED90B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B13A8-3430-4EEA-A538-3B58351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1A6E4-B83E-40AB-B17C-C763A36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9993-97DD-4CD3-8FE7-9C63278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9DAE-954A-47BB-8D7F-60BB03E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AB2E2-5940-4889-B74B-DDF0E43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0DB13-10B0-4D29-8B33-EB1BE2D7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DE5BC3-D943-47DD-85D5-4D43031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286FC-2C41-43DC-942D-800CD6DD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50817-85EA-408D-A236-DA77CEE0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4E9B5-6462-4B2D-A5B3-F29F1DA2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A9B12-F8FC-45D1-A583-BCD563E8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942AB-1635-4D07-8A5A-9191FF26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D4D4A-BA1B-4673-B7C1-7C91F5C1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4FA57-62D9-4CEE-B388-FAC2D69E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F2E-121B-45A8-9F83-B34CB80B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10437-34B8-48B1-8EBC-C4166795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98E13-431F-4582-A048-8CFEE67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A7DC3-5013-4374-8AC9-22DB201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7DB80-AF9C-4605-B5BC-B91B953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4F6D9-A202-4C83-97EF-8CCD7C8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B4A69-1390-455B-A12E-8AA69611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37D8F-51CB-431E-A300-087D61DF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8BC6C-8411-4EC3-9B8E-5E03EAEF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F363F-87B1-42EC-B59A-225E29A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9E158-2624-4D08-A220-D7C8E95A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0E80-0E38-418D-A012-D64DE0D9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3A86A-F08E-46D9-8E20-1D79599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68933-7631-425E-AFC2-9AEAA071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9B252-E74D-49E2-9C77-CAF05B55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FA893-64E5-469B-93FD-3CAB3F4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C2846-C5C7-40E5-9DD1-CDCCC90A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B09C6-467F-43C6-ACEB-BDE367D6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15CD9-38AF-4869-ADD8-E80B0373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DACDB-2520-4F45-B518-4FAE1202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5C61F-466E-4328-B336-D04F4702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589F9-1260-4D63-98E8-2E290D97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4607-38A5-476B-9643-0C30FCA4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C5DC0-5C76-497A-A39F-B3CC883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142AB-9A57-42CA-A5D7-F66A0735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BA680-C864-4312-B8BB-A38F6CCA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D2EF1B-B656-4FCC-B3AD-188A8C61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9909D-3948-4CE2-8B04-EED32EC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F9705-E8C9-46C7-B954-0EF0EB50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DAD0E-2E2E-4278-8790-9B8DBC36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48E05-9218-445F-AAD9-1E755CFD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C7B48-861F-43E8-B244-6F95B686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7F6FF-C219-478C-B8A0-180955FA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2DA5-8549-4831-AB35-F186638D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5829E-38F6-4B05-9DAF-D1FFDCFD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4E073-0517-47C7-956B-F7B69B25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DB468-4E06-4176-BEF3-B447D9F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C05F9D-67E0-440A-9E33-37F482A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4E6CD-178E-420F-84F2-2D411383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53BE1-7130-444A-A5D8-DAC2EEF1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335AC-73A5-404C-9FAF-AE66C9DD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F7D58-2BE9-4B39-B466-E21DF0D8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D1CE8-22C2-4554-8386-F639F91F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7987D-8B24-4530-A7C9-32CD6851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13DD-276C-47E0-98F6-8927D18B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D1248-DA36-42C4-8919-794A80EA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AB205-CDD9-46C8-8335-E1B1F197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156D3-7CC4-49E5-920E-D18D0405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CFFBD-4A65-4524-9C4A-70EE6AF5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E2CD8B-0789-46E6-9A41-6F2CB799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8ACED-3ECA-4C96-8309-4786951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E8942-B799-4D7D-AEA4-9AFCEB9C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245F51-7FCE-4370-A283-3D763F9D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837B37-45CF-4E74-8521-384AD99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3EDA5B-B92A-4BB4-8155-C82AD71D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AC52-5F9E-4740-A3C0-CFCA0716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B18348-AB52-49C1-BC08-50EFAF12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1D29A4-EA84-4525-93E1-5BB47BD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CC6765-B79F-43AF-9D8B-D8E4DEB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E63C53-970C-4983-9A36-2E54E203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C94B41-F324-4902-817B-3425D17F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E924-D8A5-49B0-8B71-A0DCBF18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5A05-710C-44DB-A7AD-D758A350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11921-7C08-4F2A-889A-8C82F5C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32AC-53C7-42A6-A7FA-C855C84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E756-5796-49CD-BCE2-C79CC9D0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D656-9893-4EC4-81EC-00916E4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D65D-F827-4979-83C8-1A848DCF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7FA78-B4E5-4A98-8B88-C632B7D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72AC-8440-4207-B4BA-164F8DCD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D487-6FE7-4466-A46C-6A3B8F3C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8888-94F9-4C05-88E0-7464D8B5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8506-789F-4EBF-B872-1C72F951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9E95-8EE9-4DEB-A3FE-0A4D3D91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A3C27-B9B4-4B2B-8DAC-BC42C3C1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DF66-70C1-4E58-AF5A-FF0516D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BABE-6E98-47FE-895C-396B3CAC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66A6-176C-4273-9804-72999BAC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08DA-9981-42D6-998A-B358E5E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958F8-3A0E-48DB-B460-3AC1889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51E0-DAAC-47B7-BE94-95C8C6B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EB5E-0EB8-4ED1-9FC5-BD034F5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C72B-2728-4F1F-BACE-92BCA2B6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C9412-3005-43A8-B271-80736053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418D-8332-4539-A859-B2486C3E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591C-65ED-40CF-8399-72531DC4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1983-BF8D-45BA-BA4B-E0DB971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AE16-C185-4515-9692-9D335CE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8863-4141-475D-9D0B-01D2560C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8819-8519-4B04-9883-ADBF730C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28027-FE46-4564-AD57-C396E646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8038-11AD-4775-9D01-E1DAD25D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09C0-FB55-4C41-A452-0EF5DA4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5D40F-FC1F-41E8-ABCD-4D40926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DC54-CDAA-499B-B64D-27EB3F6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C1470-02D5-47D0-9EA9-7CB02320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F2A9-2618-4AAF-B023-AFA03C31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7185-2F67-4B07-B4DC-1E6A267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85165-4BE8-46EE-A3A7-D0CC97A2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3424F-DB96-48BA-BE24-4878271C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1F5AE-CFFF-4CB6-BCE0-F82062E8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CD849-F094-485B-8809-E1496FBA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3C86A-32D0-418E-BDB2-9B28BEA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06BF-8027-4B9B-99C9-F1628D56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92F69-B6B4-4B37-A10F-D5E0DBDC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0D790-7453-49BC-BBF6-01166C2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1C14D-CA0B-4B4B-A17C-A4AF4F7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D2E2F-A97D-43B4-920B-EAF0D00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0328-063B-4163-8AD0-2FCFB5E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10BA6-F922-4411-BEEB-013A807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D9D5-3007-4790-ABCD-5702F2B5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AC60-84FD-4C4E-8CD6-6A72504A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B403-CE2D-4C65-98CE-53D9EF3B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2624-C0E7-4E64-A9B2-EAB4ED3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583D1-F63E-44A5-AA76-F539D51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54CE-C020-4882-911D-2C954ABE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8B2F-FBC1-4046-A542-CD295A08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0FCB-AE7D-4AEF-89E5-5197AD9E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6D0D-CAB8-4752-A0DC-272BB04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2D15-54CF-4CEB-B9C1-C1D1404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629B8-BED3-4ED2-BA45-960A4590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A478D-2A7F-46B2-98F3-3F6B67A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EA245-D826-4C8B-AA98-0E89B1A4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6EF5C-8203-45AD-A229-98FDE8C1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171A8-F10F-4F19-A1FD-3ABB332F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3DA69-CD97-431B-BB30-F48BB4EE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6627-1A98-4407-A15F-6EDE05B4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15874-2CCF-4E51-ACC4-E4D2E80B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4151D-F592-4FB3-80DF-6E4FBAE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97BCC-A878-477A-9285-2DE3DB0E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AF58-69F3-40A8-B486-11E7DCB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B69C8-49EF-4720-87AA-F691AC50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2CDD-7714-41B9-80BD-12591B8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0DA55-0469-4B77-9C03-5D6E89B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C9292-05D9-451D-AA7F-0E47F62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9C66-519C-4A0F-B1E1-5E05EABA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18E68-3463-4A7F-A3CA-E8452637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05C16-4BAF-47F5-A340-5BC8FFB8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08D5F-1931-49E4-B16F-FC01A2DA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B13AB-BB2E-471E-A551-1701618D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4F66A-8C46-4397-B1BB-3139401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C2CA-A713-4B75-9CD6-AE2813F2EC4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2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7020-CA0F-4B1D-8130-4546A9A31B5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9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9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4D12-9B64-4AD1-AEAE-D1BA1FD57A4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4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71F3-D063-487E-A06D-5B8F2D6E3B2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FF5B-1BE4-4BFE-B474-FE62CBF48A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6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7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B44C-F7F8-45A5-8F04-E5CB3A6D257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E0F-D188-469F-B2AF-C892E18CBE8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8" name="Group 2"/>
          <p:cNvGrpSpPr/>
          <p:nvPr/>
        </p:nvGrpSpPr>
        <p:grpSpPr>
          <a:xfrm>
            <a:off x="-313920" y="798480"/>
            <a:ext cx="7084080" cy="6861600"/>
            <a:chOff x="-313920" y="798480"/>
            <a:chExt cx="7084080" cy="6861600"/>
          </a:xfrm>
        </p:grpSpPr>
        <p:grpSp>
          <p:nvGrpSpPr>
            <p:cNvPr id="1199" name="Group 3"/>
            <p:cNvGrpSpPr/>
            <p:nvPr/>
          </p:nvGrpSpPr>
          <p:grpSpPr>
            <a:xfrm>
              <a:off x="-313920" y="798480"/>
              <a:ext cx="7084080" cy="6861600"/>
              <a:chOff x="-313920" y="798480"/>
              <a:chExt cx="7084080" cy="6861600"/>
            </a:xfrm>
          </p:grpSpPr>
          <p:grpSp>
            <p:nvGrpSpPr>
              <p:cNvPr id="1200" name="Group 4"/>
              <p:cNvGrpSpPr/>
              <p:nvPr/>
            </p:nvGrpSpPr>
            <p:grpSpPr>
              <a:xfrm>
                <a:off x="-313920" y="798480"/>
                <a:ext cx="7084080" cy="6861600"/>
                <a:chOff x="-313920" y="798480"/>
                <a:chExt cx="7084080" cy="6861600"/>
              </a:xfrm>
            </p:grpSpPr>
            <p:sp>
              <p:nvSpPr>
                <p:cNvPr id="1201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2" name="Group 6"/>
                <p:cNvGrpSpPr/>
                <p:nvPr/>
              </p:nvGrpSpPr>
              <p:grpSpPr>
                <a:xfrm>
                  <a:off x="-313920" y="798480"/>
                  <a:ext cx="7084080" cy="6861600"/>
                  <a:chOff x="-313920" y="798480"/>
                  <a:chExt cx="7084080" cy="6861600"/>
                </a:xfrm>
              </p:grpSpPr>
              <p:sp>
                <p:nvSpPr>
                  <p:cNvPr id="1203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6" name="Group 10"/>
                  <p:cNvGrpSpPr/>
                  <p:nvPr/>
                </p:nvGrpSpPr>
                <p:grpSpPr>
                  <a:xfrm>
                    <a:off x="-313920" y="798480"/>
                    <a:ext cx="7084080" cy="6861600"/>
                    <a:chOff x="-313920" y="798480"/>
                    <a:chExt cx="7084080" cy="6861600"/>
                  </a:xfrm>
                </p:grpSpPr>
                <p:sp>
                  <p:nvSpPr>
                    <p:cNvPr id="1207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08" name="Group 12"/>
                    <p:cNvGrpSpPr/>
                    <p:nvPr/>
                  </p:nvGrpSpPr>
                  <p:grpSpPr>
                    <a:xfrm>
                      <a:off x="-313920" y="805680"/>
                      <a:ext cx="7074360" cy="6854400"/>
                      <a:chOff x="-313920" y="805680"/>
                      <a:chExt cx="7074360" cy="6854400"/>
                    </a:xfrm>
                  </p:grpSpPr>
                  <p:sp>
                    <p:nvSpPr>
                      <p:cNvPr id="1209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10" name="Group 14"/>
                      <p:cNvGrpSpPr/>
                      <p:nvPr/>
                    </p:nvGrpSpPr>
                    <p:grpSpPr>
                      <a:xfrm>
                        <a:off x="-313920" y="805680"/>
                        <a:ext cx="7074360" cy="6854400"/>
                        <a:chOff x="-313920" y="805680"/>
                        <a:chExt cx="7074360" cy="6854400"/>
                      </a:xfrm>
                    </p:grpSpPr>
                    <p:sp>
                      <p:nvSpPr>
                        <p:cNvPr id="1211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2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3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4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5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6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7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8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9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0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1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2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3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4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5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6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7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8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9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0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1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2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3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4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5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6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7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8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9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0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1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2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3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4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5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6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247" name="Group 51"/>
                        <p:cNvGrpSpPr/>
                        <p:nvPr/>
                      </p:nvGrpSpPr>
                      <p:grpSpPr>
                        <a:xfrm>
                          <a:off x="-313920" y="1282320"/>
                          <a:ext cx="6462720" cy="6377760"/>
                          <a:chOff x="-313920" y="1282320"/>
                          <a:chExt cx="6462720" cy="6377760"/>
                        </a:xfrm>
                      </p:grpSpPr>
                      <p:sp>
                        <p:nvSpPr>
                          <p:cNvPr id="1248" name="Oval 52"/>
                          <p:cNvSpPr/>
                          <p:nvPr/>
                        </p:nvSpPr>
                        <p:spPr>
                          <a:xfrm rot="18780000">
                            <a:off x="2445120" y="452052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49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0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1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2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3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4" name="Oval 58"/>
                          <p:cNvSpPr/>
                          <p:nvPr/>
                        </p:nvSpPr>
                        <p:spPr>
                          <a:xfrm rot="18780000">
                            <a:off x="1829160" y="29264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5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6" name="Oval 60"/>
                          <p:cNvSpPr/>
                          <p:nvPr/>
                        </p:nvSpPr>
                        <p:spPr>
                          <a:xfrm rot="18780000">
                            <a:off x="1578240" y="240408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7" name="Oval 61"/>
                          <p:cNvSpPr/>
                          <p:nvPr/>
                        </p:nvSpPr>
                        <p:spPr>
                          <a:xfrm rot="18780000">
                            <a:off x="1475280" y="212004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8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59" name="Oval 63"/>
                          <p:cNvSpPr/>
                          <p:nvPr/>
                        </p:nvSpPr>
                        <p:spPr>
                          <a:xfrm rot="18819600">
                            <a:off x="1290960" y="155628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260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1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2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3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4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5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6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0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1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2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3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4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5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6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7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8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9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0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1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2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3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4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5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6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0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1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2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3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5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296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297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9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300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9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1310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6" name="Group 120"/>
              <p:cNvGrpSpPr/>
              <p:nvPr/>
            </p:nvGrpSpPr>
            <p:grpSpPr>
              <a:xfrm>
                <a:off x="4767480" y="2127240"/>
                <a:ext cx="498240" cy="490680"/>
                <a:chOff x="4767480" y="2127240"/>
                <a:chExt cx="498240" cy="490680"/>
              </a:xfrm>
            </p:grpSpPr>
            <p:sp>
              <p:nvSpPr>
                <p:cNvPr id="1317" name="Oval 121"/>
                <p:cNvSpPr/>
                <p:nvPr/>
              </p:nvSpPr>
              <p:spPr>
                <a:xfrm rot="2828400">
                  <a:off x="4783320" y="2350080"/>
                  <a:ext cx="31428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122"/>
                <p:cNvSpPr/>
                <p:nvPr/>
              </p:nvSpPr>
              <p:spPr>
                <a:xfrm>
                  <a:off x="4880520" y="2249280"/>
                  <a:ext cx="25632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123"/>
                <p:cNvSpPr/>
                <p:nvPr/>
              </p:nvSpPr>
              <p:spPr>
                <a:xfrm>
                  <a:off x="4966560" y="2238120"/>
                  <a:ext cx="18288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24"/>
                <p:cNvSpPr/>
                <p:nvPr/>
              </p:nvSpPr>
              <p:spPr>
                <a:xfrm>
                  <a:off x="5030280" y="2134800"/>
                  <a:ext cx="229320" cy="21996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125"/>
                <p:cNvSpPr/>
                <p:nvPr/>
              </p:nvSpPr>
              <p:spPr>
                <a:xfrm>
                  <a:off x="5177160" y="2127240"/>
                  <a:ext cx="8856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F11F-7AB2-442E-B849-AE5F1711046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3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364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4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5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5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AF4-5B70-4812-806E-97AE83E1712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0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1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2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4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6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6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6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DE0-2F1D-4E8D-A5F6-76994933B5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83BF-3ECE-41CD-AC91-8D54DBD75EFD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8FCB-7B91-47D7-83BD-3886342677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 type="dt" idx="5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 type="ftr" idx="5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B177-FA25-47F7-A80F-768D22A8845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4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4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6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8A9-3DE6-4137-922F-A4A95E4ECC21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3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4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4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dt" idx="6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 type="ftr" idx="6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28D-2C99-4906-9CAF-A3CC71B03AB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1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E8AC-E223-4A85-9A72-FF36EB9BD8C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8F9-F9E9-4A5F-897F-04D0F435EF8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56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58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60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3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64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5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66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67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68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04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305" name="Oval 52"/>
                          <p:cNvSpPr/>
                          <p:nvPr/>
                        </p:nvSpPr>
                        <p:spPr>
                          <a:xfrm rot="18780000">
                            <a:off x="246564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6" name="Oval 53"/>
                          <p:cNvSpPr/>
                          <p:nvPr/>
                        </p:nvSpPr>
                        <p:spPr>
                          <a:xfrm rot="18780000">
                            <a:off x="2379600" y="42951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7" name="Oval 54"/>
                          <p:cNvSpPr/>
                          <p:nvPr/>
                        </p:nvSpPr>
                        <p:spPr>
                          <a:xfrm rot="18780000">
                            <a:off x="2260080" y="39985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8" name="Oval 55"/>
                          <p:cNvSpPr/>
                          <p:nvPr/>
                        </p:nvSpPr>
                        <p:spPr>
                          <a:xfrm rot="18780000">
                            <a:off x="2167920" y="37396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9" name="Oval 56"/>
                          <p:cNvSpPr/>
                          <p:nvPr/>
                        </p:nvSpPr>
                        <p:spPr>
                          <a:xfrm rot="18780000">
                            <a:off x="2067120" y="342288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0" name="Oval 57"/>
                          <p:cNvSpPr/>
                          <p:nvPr/>
                        </p:nvSpPr>
                        <p:spPr>
                          <a:xfrm rot="18780000">
                            <a:off x="1978560" y="31687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1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2" name="Oval 59"/>
                          <p:cNvSpPr/>
                          <p:nvPr/>
                        </p:nvSpPr>
                        <p:spPr>
                          <a:xfrm rot="18780000">
                            <a:off x="1736280" y="26254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Oval 60"/>
                          <p:cNvSpPr/>
                          <p:nvPr/>
                        </p:nvSpPr>
                        <p:spPr>
                          <a:xfrm rot="18780000">
                            <a:off x="1600560" y="236916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Oval 61"/>
                          <p:cNvSpPr/>
                          <p:nvPr/>
                        </p:nvSpPr>
                        <p:spPr>
                          <a:xfrm rot="18780000">
                            <a:off x="1497600" y="2085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Oval 62"/>
                          <p:cNvSpPr/>
                          <p:nvPr/>
                        </p:nvSpPr>
                        <p:spPr>
                          <a:xfrm rot="18734400">
                            <a:off x="1405440" y="18151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17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53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54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57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67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18"/>
              <p:cNvSpPr/>
              <p:nvPr/>
            </p:nvSpPr>
            <p:spPr>
              <a:xfrm rot="18182400">
                <a:off x="1613880" y="428040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374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9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EE5-7699-45EA-AB0E-7752A7F649FA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ED55-C0E5-44BE-B92F-C8C2E9A2A3E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A757-0C30-4093-ADCB-65031FC104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EDC7-5D09-43A9-9902-BF7523610DC9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50E3-EE43-43DC-816A-769498519F8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ffff"/>
                </a:solidFill>
                <a:latin typeface="Arial"/>
              </a:rPr>
              <a:t>الاسلام وبناء المجتمع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أهمية الأسرة ومكانتها في الإسلا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6600" spc="-1" strike="noStrike">
                <a:solidFill>
                  <a:srgbClr val="ffffff"/>
                </a:solidFill>
                <a:latin typeface="Tahoma"/>
              </a:rPr>
              <a:t>- عند العرب الجاهليين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cccc"/>
                </a:solidFill>
                <a:latin typeface="Arial"/>
              </a:rPr>
              <a:t>المرأة في الإسلام</a:t>
            </a:r>
            <a:r>
              <a:rPr b="0" lang="ar-SA" sz="88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أهمية الأسرة ومكانتها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هي اللبنة الأولى لبناء المجتمع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سكن وطمأنينة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3</a:t>
            </a:r>
            <a:r>
              <a:rPr b="1" lang="ar-SA" sz="4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طريق الوحيد لإنجاب الأولاد.............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مرأة في المجتمعات والأنظمة القديمة والحديثة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cc"/>
                </a:solidFill>
                <a:latin typeface="Arabic Typesetting"/>
                <a:cs typeface="Arabic Typesetting"/>
              </a:rPr>
              <a:t>المرأة عند غير المسلمين 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1</a:t>
            </a:r>
            <a:r>
              <a:rPr b="0" lang="ar-SA" sz="80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يونانيون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2</a:t>
            </a:r>
            <a:r>
              <a:rPr b="0" lang="ar-SA" sz="8000" spc="-1" strike="noStrike">
                <a:solidFill>
                  <a:srgbClr val="000000"/>
                </a:solidFill>
                <a:latin typeface="Arial"/>
                <a:ea typeface="Akhbar MT"/>
              </a:rPr>
              <a:t>- الحضارة الهندية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3</a:t>
            </a:r>
            <a:r>
              <a:rPr b="0" lang="ar-SA" sz="88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اليهود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4</a:t>
            </a:r>
            <a:r>
              <a:rPr b="0" lang="ar-SA" sz="9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- النصارى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10:24Z</dcterms:created>
  <dc:creator>Administrator</dc:creator>
  <dc:description/>
  <dc:language>en-US</dc:language>
  <cp:lastModifiedBy>HAPPY</cp:lastModifiedBy>
  <dcterms:modified xsi:type="dcterms:W3CDTF">2015-10-11T21:31:48Z</dcterms:modified>
  <cp:revision>5</cp:revision>
  <dc:subject/>
  <dc:title>الاسلام وبناء المجتم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