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1862-31FF-4F8C-8218-6791A5F8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D3CF-D4FE-403D-92E3-415E2697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EC7D7-70F7-4AEB-A68B-40B404C2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65B31-461F-495A-A91D-3BEEA17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B1721-60EA-46B5-8F82-236D10D1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7E8ED-5F8F-4F87-BE04-5CB28BD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7B726-B938-4FED-B6B1-E52210AC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3EBCD-9DE7-45FC-9BCC-116854A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3819E-CEA9-4ECA-AF79-801201A3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456EB-8ADE-4651-8BFD-FDE71718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B2962-33F1-442D-B933-AC059638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4C4BF-DEA4-4FAE-8354-7FC4712A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4298-72FB-4C05-BA30-DE16C2E8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E2AAC-0F48-49BB-9A21-025FCED6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FE7DE-0FD5-4AFC-879A-9E8777B0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703A0-9469-436B-AE43-032E701D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9CA08-DD8D-45CB-B1E4-D3A3A7E5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C9800-B8A0-4128-9EF9-9BE143D2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B98DC-E00C-4C13-9952-0BC36FA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1F42C-D999-4A3A-B72E-D4137FD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25FFB-91DE-47F6-A407-7BE3ADB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B9C43-6735-4570-A4CB-3F6B5141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D7BD0-C5EF-4B35-AF80-DCECE306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AAE2-C3B7-4722-997E-0B5B3E88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BD825-386A-4483-8211-87FAEA2C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E8DFA-3FD6-4630-985D-2A4FEF59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740D1-C40D-4E3C-8493-76791F3D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9CC0C-5FAA-45F9-B3CA-70D2CE2C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71266-B8E4-40F7-8EBC-38DF0505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CBCEC-7F33-41CE-A189-8A8C546F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C698E-740C-4B4B-99E6-8433107D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703FE-23B2-49CC-9516-512CBA0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9E67C-BEF8-4CFF-86A4-FD0C192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10F12-259D-4B00-AAA7-4E306D10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3CFB-8835-4D1C-859A-20BB6E2D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5E41B-F027-41A2-AF5E-D7ADAC19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68244-3CF5-402C-AF36-6A06B4E1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38960-FF3D-48C8-A829-3423ABF0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57FEB-5BEB-4BBC-BB90-AE546DD7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193F8-FC8C-4F48-9BF8-649F4818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DF859-5AAD-40C1-8877-8B1B82B3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2DF41-1CA3-4D62-952B-478DFDD4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D3719-93AB-41D4-BD73-EABD9EBC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711DE-6962-4D8F-9176-48B9A3C5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A1D10-25A8-40ED-8213-B567E09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198A-0927-4552-9193-33B9B137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45DA1-97F5-4B10-A8A0-FC722487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76D7C-C31A-4AD0-8D9F-F32108B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ECD5F-2DB3-491D-BBF5-E583486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BA055-0805-4269-A172-8C3BBE04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DEE86-1148-4588-B484-2DDDC43D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553657-C4DE-44A4-8A8B-330FFDDF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649B2B-C642-488C-9423-1EB5599F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109E6D-C894-49C4-906C-474BF142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F04041-1CAB-4C72-BA98-F292DF2E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3FB450-7004-44F0-9E8C-77E173EC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C3DE-0E9D-45B2-AA01-22F14D19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84594C-59A6-4084-A0C2-6B132354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9F1FFD-1B24-4669-8DE7-D2455DEC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A81D48-949D-4BE2-9DF0-D65F32FD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C85EFA-DBE3-4F37-BFA3-656D0E29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6E2FDD-2EE9-4DAE-B9E5-C64C0BA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9565F2-8590-44C6-9524-B1BF6220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DD2D8E-4FF5-4120-876B-6BC70CD2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182C3-478D-49DE-B085-498D3EE9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4D4C9-78AB-4146-B11C-2114354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AE028-CD42-4FE5-9FD5-79C76BDB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70AE-7DA0-4C4D-81B0-4D16EC62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FDACD-58BE-486E-997A-AF0D77DC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19BA0-420A-4C52-884A-3D35A9A4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13DBC-6FEC-4DB6-BCFE-F0EE37A0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2C464-0019-408F-83EC-DCA2017D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51AAC-6996-4E34-BC92-13B442C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22728-EAC5-4432-930A-08B866EF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1271E-ED48-4CCB-A1A6-42B9C912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0404B-A84D-4990-9AC4-B2514C7C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6E051-A2BF-4BB5-8CBC-59F6DF95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16000-6C43-4FEC-9DC1-1C0F7820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52DA-7DB6-4BD9-9DEF-AFE50B69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478EA-A05C-402E-B20A-F8C1AA9B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81C8C-65C0-4C75-A2EB-27220679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C1865-5F48-4AF1-9678-DD33CD0B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0A215-3814-4A2E-B50D-4057153B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A3886-5D34-491F-9196-B5E179A9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B0C7C-B972-4216-9295-202F9909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2484D-42E8-40EA-9B8C-E9C8D6B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4EAF6-D8FA-4E89-9A86-DBE5A78E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5405D-8ABC-4E1C-B068-3C757AAC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AE86A-8999-4EB8-827A-D3E7100C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2A4-4572-4B2F-9AD5-58B5E93A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01F16-9475-4313-AF94-8A170E06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E28BB-EFB1-4082-879A-68C0EBD6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61C82-7CD4-4BA5-A9E2-100EB3A1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F171E-7F84-4225-8003-988A50E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3BD73-A5A4-4D18-B89C-73026894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F2AE4-E7F3-41A4-AD6A-66C82521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DE9CD-E65F-4938-B77F-329C33E1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89539-9A36-47B2-AC40-D5C955A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4324C-D9DF-4AD1-8C71-86802170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7DDFA-EBE3-4818-A952-AA5AFCD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5CA9-B3B5-496F-896E-14DE89E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EF3E4-4CA3-46F5-A0F6-02B2C473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21270-966C-4E56-A69F-6E6A9C9B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0BF3C-8C19-44D0-B469-A3F59861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F5707-A8AF-4E7C-A658-843E4C7A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B9E81-D2A1-418E-BBF2-9D261E0C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AC3AD-8F1E-4DBC-8190-D2DDBD66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0938E-526D-4E2D-87B0-90CA5B11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63EF58-056C-4EDD-81EF-5FFE17B5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5938D-852A-48E8-910D-2D3FAE22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F7B76-20B4-45EA-BAF6-1464D455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F061-3A28-4428-A080-F9923DE3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7105-A640-4F8F-A835-D1481FC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9ECE1-E8F3-4A6A-B3DD-1EAF519D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CC951-B1BD-40F6-9CF9-FD91065B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39036-4D5A-4683-8F9D-7CCE3001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CE3EF-1C7F-48E6-96C2-8762B8EC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E2168-4285-4211-B763-8BD4FA77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79406-8D00-4FC0-9D84-7B47377E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F58F5-DECA-4F03-B2C2-A002BF2E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3D273-182B-4A87-91E4-CFE56096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B19CA-A619-46D9-B229-D36363D9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BDF76-B710-4DD1-AE84-DA61E0D1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0DE0-874E-46FC-8150-BA38322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ADD43-FD4F-474C-8246-792A3600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3F1E1D-FA95-42D9-98C7-81E5FD27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D0F3C-4FA9-4046-9725-EA3B9B71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D44020-8941-45BC-8D9C-C9B4FCA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B2C3C-B331-4152-AE07-B6C413E9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2BD7A2-DBC9-4BF3-9EF0-F0CEC8D3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07526-6127-40C4-AACF-A32FD120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0CE18-A061-4D60-84E1-906CFCD6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65CD8-E200-4AEA-8B08-CD9A3F15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EF8F5-E827-4B9A-AE89-AD876F7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1417-4A51-498E-851E-B5410792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54528-B9BA-41BE-9C60-6D687A2B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08A4D6-8640-497D-9618-E8F00FC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A960B-0221-4B0F-B1C1-00C0AAD1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F6D5D-C3C9-4D4D-BBFE-9C354CA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70CFA-4334-491C-ABD0-C4431F6D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852B25-978F-431D-B6DD-8A02596D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0905B-369D-4002-AA72-17871434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56406-3B83-4FCC-BB53-32E41DEC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60F29-7448-4525-847B-908AA9AE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45FD4-7092-4695-BD33-F6E397AB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6010-DCB7-448D-9DFF-AC6BEC83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42142-537D-4DA9-BA3D-D839C0B5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2C0EA-C92A-404E-8445-CBC54973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5D679-B612-43DC-B190-F66B30DC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9FBFD-BDAC-4F09-B40D-CFA286E4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7308D9-58F6-4AA9-9050-DDE90BE3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41817-5763-4041-A094-A862B1C1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5EEF3-7BD3-4E26-BBE6-BED73CF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7DA348-5849-4811-AE8F-738D4E7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FC4B1-AE1F-4E8B-BBCA-587B91B2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EA168-AEC7-4F47-8F1C-8D43C6C6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63F1-D3FF-4AB2-A395-FC1E497C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FA02C-40BC-4A75-8C46-E1A8E9C3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99BDCA-F874-4443-990B-482E24C8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706691-204C-470C-B0A0-F0B6CFAD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EDA15B-0F64-4226-A011-4D5D8673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8904A-E023-4F2B-A53B-D6DC8951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DDA176-1B15-4F32-A442-02639D2D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2FE7D-AC65-4030-B4D8-1EA40330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E6D67F-66C8-4B16-8B48-04B305B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728AD6-3624-45AD-9351-F9ADCD9C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114F17-47BA-4BA9-9F99-8BACD384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2A64-E430-452D-A721-0078C506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D215C-C12B-4F14-BC09-0FF24492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FF7D0-6226-460D-8235-3EB86B89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096E0-DBFA-42CE-88DE-E0382A88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07301-9F25-453C-B966-EE48C54A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21BACA-DBFB-4C8E-AF58-55EAA1F0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D686B9-401D-4CAB-9E0D-68FF094B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E62927-5AAB-4740-822D-84EF6F81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B3B4C6-800F-4CAE-A023-91B5A27F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C8BD01-501C-4F1C-80AD-0D0E9202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56D6AE-B41F-4D97-B5EF-9E1C46B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F71E-E614-4723-8443-1B9F5949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F5DAF9-6180-42DE-9D60-4ED2C5EE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4F06AF-3CB3-4D7F-946B-5E8C2165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17FF85-08B0-4B11-9F1B-D5D7662A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C555B9-76CE-4C4C-A6B5-F993C46E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0E4C64-FD12-4723-89FE-5B7DDAFE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EBE7B-845A-49E5-977E-6E01A74A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73CEA-33D9-4972-B46A-FE895322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181D-FC79-4028-94B7-C2AB3D67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B118-D988-4391-A525-A5321E93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CC3D-0B9E-4203-8D98-A05BD0DC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A1ED-F226-4CB8-905B-48322F3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9DDD-0BF5-49A5-B15E-BA9E4AB7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34E3-63CA-462D-87A9-45AE2F7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21D1-7DDE-4D0B-B519-756F22B9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B5A9-ACBB-43CC-93B7-0CCC2740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F4ED-0601-4319-ADF3-F47395B9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2A52B-3BC5-494D-8625-C3BE323C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BF28-BA75-429F-A582-CE6303CE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3401-61E8-4478-8EBD-4549CE0C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9637-EBAC-4B89-9878-228FF2D2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289F1-B940-40E1-BF2F-91A77808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4789-3CF5-498B-917C-59E8750E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44FC-250B-4314-B9C9-6524D5A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1E04-90B4-4FF6-86EB-BB79AD4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CFC14-9029-4DAA-94BC-4EB85AB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F41F-E515-4BA1-9CC6-D250DCA8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E50A-5D84-459B-AEC9-CB6D7920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87CB3-D5E7-4BD6-BB7C-14D2F564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62DA-C472-44D5-9D3E-F589D990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32C1-5A44-4293-93E3-6871288F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6CF1-9627-4F9A-8AE5-E365783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E6824-E38E-4F96-8927-B0394D0B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DCDDE-A3E2-4C91-B2B3-A0D4A4EA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ECF55-D495-4BA4-9E23-84032F91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E8AF9-375E-4D4A-B0EC-075E6F09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116A2-5DC9-418D-A884-AF02CC6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1F444-A1FF-449F-A4ED-543E3711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9653-0418-469A-A025-646627D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C2192-702A-4649-B923-47AC5A0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C8C6-BC51-4287-A72B-8276DAB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D7808-5FDF-4CD9-B5D6-0D1E6565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6311-371C-49AE-878C-E09FFA28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71F68-BE89-4A54-8465-D1F15BA2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493F2-296C-48B7-AC25-BB452E57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2A776-86C8-4695-8DFE-6D3D0B48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9D452-D7E2-4CCF-84F2-26AB2F8A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4A37D-B5E2-4EC5-AEE1-D438E839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FA78-3F1C-48C7-B3DF-861F9FF7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15F05-A4B6-4BC9-933F-48CA3EB1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4112B-58DC-42EE-9681-CCA473E5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731DA-99FC-47CF-92B1-C540659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76767-C58D-435C-8615-21582D86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1264-5617-48C1-8C1F-7B4319A8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29B39-DB71-434C-A660-02200896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1DA98-358A-4DDD-A94A-6CED1A58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35886-1385-45DA-B7B6-BDC31773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30763-F063-48C3-8E5B-4A214E53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E359F-0CFE-40EF-9776-1649C805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872F5-4DFE-4A8E-B5DF-7891F8EA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A6F5E-DB92-4E04-A504-5A3F2D76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5EB25-102D-494B-8556-AF773D45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8FDFF-36E9-48EB-994C-CB90D37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39B1-9997-4F6C-B815-FE179CA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1C8E-AC10-474E-A67E-0B6CF9ED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C4148-7D08-45EC-BF7B-AE5F053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E23B8-CB0A-4E4A-A97F-B5D762D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3E826-A138-45EA-9309-AC3DCDA8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097B9-30DA-4A51-9E03-E5CC70CF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C0730-B5B9-49B1-A3C5-191B8649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93FA7-6E82-42DD-ACC8-9BC3226F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9ADE1-8420-4851-8659-ABAC76FF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6127-193D-43E3-9383-B4B6DB5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75F34-C0D1-4657-9EBB-BF0D358C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50443-28EE-4EFF-9BEE-9A6339C2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3D10-9980-4A2C-9771-F649823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A6ADA-7AFB-490C-AB58-4EADB998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087F6-18E9-4ABC-8B1C-B76B9BAC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94AA2-C235-4D8F-9D83-D8EFD38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19CA5-A1A0-41AF-85CF-473E6641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7E67-9CD7-4CF1-ACD0-4C11FB1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E7283-3484-4CF7-94BE-5F0832E0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DC899-0981-4D49-9491-B8EBAB50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2C454-901D-4CD1-96D3-6E92470F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9BE58-EB94-4DCD-8D71-5FEBE4C9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221FF-9A2A-4B1D-B491-3FA71B2C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3A56-9AB3-4A7C-8833-367341CA65C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20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88BA-D91E-4525-BD47-7A482CD42F7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9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9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A8E2-DDF0-43C2-8E10-7D8C1E8C065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45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8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36ED-E327-4809-B8F1-E10ECDD7122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0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0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5EE7-5C9C-4695-AA23-4D90A944F2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6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7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04F8-8467-402D-A752-12969871B8D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A9EE-CD67-4F36-AEC1-C9C81E484B2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Group 2"/>
          <p:cNvGrpSpPr/>
          <p:nvPr/>
        </p:nvGrpSpPr>
        <p:grpSpPr>
          <a:xfrm>
            <a:off x="-313920" y="798480"/>
            <a:ext cx="7084080" cy="6861600"/>
            <a:chOff x="-313920" y="798480"/>
            <a:chExt cx="7084080" cy="6861600"/>
          </a:xfrm>
        </p:grpSpPr>
        <p:grpSp>
          <p:nvGrpSpPr>
            <p:cNvPr id="1199" name="Group 3"/>
            <p:cNvGrpSpPr/>
            <p:nvPr/>
          </p:nvGrpSpPr>
          <p:grpSpPr>
            <a:xfrm>
              <a:off x="-313920" y="798480"/>
              <a:ext cx="7084080" cy="6861600"/>
              <a:chOff x="-313920" y="798480"/>
              <a:chExt cx="7084080" cy="6861600"/>
            </a:xfrm>
          </p:grpSpPr>
          <p:grpSp>
            <p:nvGrpSpPr>
              <p:cNvPr id="1200" name="Group 4"/>
              <p:cNvGrpSpPr/>
              <p:nvPr/>
            </p:nvGrpSpPr>
            <p:grpSpPr>
              <a:xfrm>
                <a:off x="-313920" y="798480"/>
                <a:ext cx="7084080" cy="6861600"/>
                <a:chOff x="-313920" y="798480"/>
                <a:chExt cx="7084080" cy="6861600"/>
              </a:xfrm>
            </p:grpSpPr>
            <p:sp>
              <p:nvSpPr>
                <p:cNvPr id="1201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2" name="Group 6"/>
                <p:cNvGrpSpPr/>
                <p:nvPr/>
              </p:nvGrpSpPr>
              <p:grpSpPr>
                <a:xfrm>
                  <a:off x="-313920" y="798480"/>
                  <a:ext cx="7084080" cy="6861600"/>
                  <a:chOff x="-313920" y="798480"/>
                  <a:chExt cx="7084080" cy="6861600"/>
                </a:xfrm>
              </p:grpSpPr>
              <p:sp>
                <p:nvSpPr>
                  <p:cNvPr id="1203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6" name="Group 10"/>
                  <p:cNvGrpSpPr/>
                  <p:nvPr/>
                </p:nvGrpSpPr>
                <p:grpSpPr>
                  <a:xfrm>
                    <a:off x="-313920" y="798480"/>
                    <a:ext cx="7084080" cy="6861600"/>
                    <a:chOff x="-313920" y="798480"/>
                    <a:chExt cx="7084080" cy="6861600"/>
                  </a:xfrm>
                </p:grpSpPr>
                <p:sp>
                  <p:nvSpPr>
                    <p:cNvPr id="1207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08" name="Group 12"/>
                    <p:cNvGrpSpPr/>
                    <p:nvPr/>
                  </p:nvGrpSpPr>
                  <p:grpSpPr>
                    <a:xfrm>
                      <a:off x="-313920" y="805680"/>
                      <a:ext cx="7074360" cy="6854400"/>
                      <a:chOff x="-313920" y="805680"/>
                      <a:chExt cx="7074360" cy="6854400"/>
                    </a:xfrm>
                  </p:grpSpPr>
                  <p:sp>
                    <p:nvSpPr>
                      <p:cNvPr id="1209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10" name="Group 14"/>
                      <p:cNvGrpSpPr/>
                      <p:nvPr/>
                    </p:nvGrpSpPr>
                    <p:grpSpPr>
                      <a:xfrm>
                        <a:off x="-313920" y="805680"/>
                        <a:ext cx="7074360" cy="6854400"/>
                        <a:chOff x="-313920" y="805680"/>
                        <a:chExt cx="7074360" cy="6854400"/>
                      </a:xfrm>
                    </p:grpSpPr>
                    <p:sp>
                      <p:nvSpPr>
                        <p:cNvPr id="1211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2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3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4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5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6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7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8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9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0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1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2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3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4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5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6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7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8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9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0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1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2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3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4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5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6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7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8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9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0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1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2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3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4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5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6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247" name="Group 51"/>
                        <p:cNvGrpSpPr/>
                        <p:nvPr/>
                      </p:nvGrpSpPr>
                      <p:grpSpPr>
                        <a:xfrm>
                          <a:off x="-313920" y="1282320"/>
                          <a:ext cx="6462720" cy="6377760"/>
                          <a:chOff x="-313920" y="1282320"/>
                          <a:chExt cx="6462720" cy="6377760"/>
                        </a:xfrm>
                      </p:grpSpPr>
                      <p:sp>
                        <p:nvSpPr>
                          <p:cNvPr id="1248" name="Oval 52"/>
                          <p:cNvSpPr/>
                          <p:nvPr/>
                        </p:nvSpPr>
                        <p:spPr>
                          <a:xfrm rot="18780000">
                            <a:off x="2445120" y="452052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49" name="Oval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0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1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2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3" name="Oval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4" name="Oval 58"/>
                          <p:cNvSpPr/>
                          <p:nvPr/>
                        </p:nvSpPr>
                        <p:spPr>
                          <a:xfrm rot="18780000">
                            <a:off x="1829160" y="292644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5" name="Oval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6" name="Oval 60"/>
                          <p:cNvSpPr/>
                          <p:nvPr/>
                        </p:nvSpPr>
                        <p:spPr>
                          <a:xfrm rot="18780000">
                            <a:off x="1578240" y="240408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7" name="Oval 61"/>
                          <p:cNvSpPr/>
                          <p:nvPr/>
                        </p:nvSpPr>
                        <p:spPr>
                          <a:xfrm rot="18780000">
                            <a:off x="1475280" y="212004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8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9" name="Oval 63"/>
                          <p:cNvSpPr/>
                          <p:nvPr/>
                        </p:nvSpPr>
                        <p:spPr>
                          <a:xfrm rot="18819600">
                            <a:off x="1290960" y="155628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260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1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2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3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4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5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6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0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1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2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4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5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6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7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8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9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0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1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2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3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4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5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6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0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1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2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3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4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5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296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297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9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300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9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1310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6" name="Group 120"/>
              <p:cNvGrpSpPr/>
              <p:nvPr/>
            </p:nvGrpSpPr>
            <p:grpSpPr>
              <a:xfrm>
                <a:off x="4767480" y="2127240"/>
                <a:ext cx="498240" cy="490680"/>
                <a:chOff x="4767480" y="2127240"/>
                <a:chExt cx="498240" cy="490680"/>
              </a:xfrm>
            </p:grpSpPr>
            <p:sp>
              <p:nvSpPr>
                <p:cNvPr id="1317" name="Oval 121"/>
                <p:cNvSpPr/>
                <p:nvPr/>
              </p:nvSpPr>
              <p:spPr>
                <a:xfrm rot="2828400">
                  <a:off x="4783320" y="2350080"/>
                  <a:ext cx="31428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122"/>
                <p:cNvSpPr/>
                <p:nvPr/>
              </p:nvSpPr>
              <p:spPr>
                <a:xfrm>
                  <a:off x="4880520" y="2249280"/>
                  <a:ext cx="25632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123"/>
                <p:cNvSpPr/>
                <p:nvPr/>
              </p:nvSpPr>
              <p:spPr>
                <a:xfrm>
                  <a:off x="4966560" y="2238120"/>
                  <a:ext cx="18288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24"/>
                <p:cNvSpPr/>
                <p:nvPr/>
              </p:nvSpPr>
              <p:spPr>
                <a:xfrm>
                  <a:off x="5030280" y="2134800"/>
                  <a:ext cx="229320" cy="21996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125"/>
                <p:cNvSpPr/>
                <p:nvPr/>
              </p:nvSpPr>
              <p:spPr>
                <a:xfrm>
                  <a:off x="5177160" y="2127240"/>
                  <a:ext cx="8856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3285-2761-4EA8-927C-BAE6BB5A932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3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364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4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5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5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DDCB-C9A8-4564-B1E2-2F036582743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0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1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2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4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6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6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6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7428-27F4-4675-B6AE-567942670D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7E9-C543-45EB-85C4-C22C6A6C7B8D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1CB6-624B-403A-B178-5214181FF5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 type="dt" idx="5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 type="ftr" idx="5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3763-7EA3-40D3-9040-48ACF137117B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4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4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62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33A9-9C71-445B-8DE3-6B23D40B6D50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83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84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84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dt" idx="6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 type="ftr" idx="6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BB4A-C3D0-4EB6-BC43-083973E0C9D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1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F565-FCF7-404C-BDF4-281EB8B3668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0740-A343-4105-808E-5A3EC582C5F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56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58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60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3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64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5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66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67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68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04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305" name="Oval 52"/>
                          <p:cNvSpPr/>
                          <p:nvPr/>
                        </p:nvSpPr>
                        <p:spPr>
                          <a:xfrm rot="18780000">
                            <a:off x="246564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6" name="Oval 53"/>
                          <p:cNvSpPr/>
                          <p:nvPr/>
                        </p:nvSpPr>
                        <p:spPr>
                          <a:xfrm rot="18780000">
                            <a:off x="2379600" y="42951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7" name="Oval 54"/>
                          <p:cNvSpPr/>
                          <p:nvPr/>
                        </p:nvSpPr>
                        <p:spPr>
                          <a:xfrm rot="18780000">
                            <a:off x="2260080" y="39985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8" name="Oval 55"/>
                          <p:cNvSpPr/>
                          <p:nvPr/>
                        </p:nvSpPr>
                        <p:spPr>
                          <a:xfrm rot="18780000">
                            <a:off x="2167920" y="37396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9" name="Oval 56"/>
                          <p:cNvSpPr/>
                          <p:nvPr/>
                        </p:nvSpPr>
                        <p:spPr>
                          <a:xfrm rot="18780000">
                            <a:off x="2067120" y="342288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0" name="Oval 57"/>
                          <p:cNvSpPr/>
                          <p:nvPr/>
                        </p:nvSpPr>
                        <p:spPr>
                          <a:xfrm rot="18780000">
                            <a:off x="1978560" y="31687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1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2" name="Oval 59"/>
                          <p:cNvSpPr/>
                          <p:nvPr/>
                        </p:nvSpPr>
                        <p:spPr>
                          <a:xfrm rot="18780000">
                            <a:off x="1736280" y="26254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Oval 60"/>
                          <p:cNvSpPr/>
                          <p:nvPr/>
                        </p:nvSpPr>
                        <p:spPr>
                          <a:xfrm rot="18780000">
                            <a:off x="1600560" y="236916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Oval 61"/>
                          <p:cNvSpPr/>
                          <p:nvPr/>
                        </p:nvSpPr>
                        <p:spPr>
                          <a:xfrm rot="18780000">
                            <a:off x="1497600" y="2085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Oval 62"/>
                          <p:cNvSpPr/>
                          <p:nvPr/>
                        </p:nvSpPr>
                        <p:spPr>
                          <a:xfrm rot="18734400">
                            <a:off x="1405440" y="18151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17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53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354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357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6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67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18"/>
              <p:cNvSpPr/>
              <p:nvPr/>
            </p:nvSpPr>
            <p:spPr>
              <a:xfrm rot="18182400">
                <a:off x="1613880" y="428040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3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374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9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EB4-5E80-44C4-AEED-13B95000EEE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645B-0952-4D8F-83C7-77CCF22AF61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16D9-FA2A-4B71-9C31-9FE94F48EB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35A6-16AF-4DC2-9450-90BB19110615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70FF-B08C-40ED-B69C-C1301C02A3C1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</a:rPr>
              <a:t>الاسلام وبناء المجتمع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أهمية الأسرة ومكانتها في الإسلا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SA" sz="6600" spc="-1" strike="noStrike">
                <a:solidFill>
                  <a:srgbClr val="ffffff"/>
                </a:solidFill>
                <a:latin typeface="Tahoma"/>
              </a:rPr>
              <a:t>- عند العرب الجاهليين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cccc"/>
                </a:solidFill>
                <a:latin typeface="Arial"/>
              </a:rPr>
              <a:t>المرأة في الإسلام</a:t>
            </a:r>
            <a:r>
              <a:rPr b="0" lang="ar-SA" sz="88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أهمية الأسرة ومكانتها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هي اللبنة الأولى لبناء المجتمع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سكن وطمأنينة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3</a:t>
            </a: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الطريق الوحيد لإنجاب الأولاد.............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رأة في المجتمعات والأنظمة القديمة والحديثة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cc"/>
                </a:solidFill>
                <a:latin typeface="Arabic Typesetting"/>
                <a:cs typeface="Arabic Typesetting"/>
              </a:rPr>
              <a:t>المرأة عند غير المسلمين 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1</a:t>
            </a: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اليونانيون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2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- الحضارة الهندية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3</a:t>
            </a:r>
            <a:r>
              <a:rPr b="0" lang="ar-SA" sz="88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اليهود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4</a:t>
            </a:r>
            <a:r>
              <a:rPr b="0" lang="ar-SA" sz="9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النصارى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10:24Z</dcterms:created>
  <dc:creator>Administrator</dc:creator>
  <dc:description/>
  <dc:language>en-US</dc:language>
  <cp:lastModifiedBy>HAPPY</cp:lastModifiedBy>
  <dcterms:modified xsi:type="dcterms:W3CDTF">2015-10-11T21:31:48Z</dcterms:modified>
  <cp:revision>5</cp:revision>
  <dc:subject/>
  <dc:title>الاسلام وبناء المجتم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