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1C3-5F96-4662-A58B-0EB4A2346C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8F0-0B9A-4E08-BDB7-092A224141D7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080-978B-41B6-BF51-F4950790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16B-4A49-481B-A2FC-E55CB05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DCD-918F-4C87-8005-4074AFA3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3A3-DFED-4329-9C4A-75D48BB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455B-4BC4-4435-B138-F7C2CA9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CE69-B951-4ECF-9992-3710306C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2C9B-1E61-4CC1-ADFB-0DE3DDB3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BF09-36F5-4891-89D6-5BE1642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4EE-7D2D-4DFC-8A59-253EF96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012-0FC4-484D-BFE4-F3A14E31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684C-0989-4A16-BA79-C790D5A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85E-80B9-41FA-B863-0E14E37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AA4-5C0E-4171-8A34-AD2343FC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D8F9-4D9E-4278-B226-3F53A4F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17A-30BF-402F-84DB-3BCFADC2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E438-0323-4D4E-8068-AA0B5DA3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63F-C778-4A45-BC8D-1031B9E3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CFE6-D917-4246-9159-A5368AFC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2B65-E1F0-4E63-B83A-0AC8D0BC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6D5B-EDA9-4E68-9C71-343148E3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65B0-2E18-4B4C-9BB6-1C147738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C6B7-ED4E-41BC-A96D-A8FEBC05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CB2-8F3C-40FA-A40D-EC86BE52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9C3C-6813-4B0A-BD83-F1B42752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50B7-689F-4676-8944-BFF6D81D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3490-8C09-4E90-B2F6-7A5C482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7A11-F9C6-45A7-B33A-A3282D0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6980-C173-4245-B026-EE6996F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5E3B-93B2-454E-8D61-775B2CF1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03B1-F98C-43DC-9497-EC35F8CA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79A3A-6172-4DF6-B204-12BA9BB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8755-73B8-415C-9B1D-578C00DE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6AF1-AE16-48F6-9A23-2856193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5FE-56F1-4C47-81FB-890AE040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DDC7-402C-4DDA-BA7A-93BA9DDC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D385-A3E8-4A62-BEBB-8937E90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68B1-2A6C-49B7-AC9E-C2A3C8B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A70C-AE63-4441-AD84-2715833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B780-67E6-488E-8CA4-42F4A6C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C678-C79D-4780-A797-71C4733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E356E-DEEB-4A49-8D4A-7A0C33D8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D4F0-C9E2-4AD1-9DAC-8132A336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4658-84F4-4868-AE34-B503EF07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BF8-E070-4033-8119-61FE35B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169-CEA0-4E84-8D2F-F4F770D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D7E-62F8-48EA-BF69-8BC84F1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7B2-D7B3-4DF5-A29A-165D38F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28C-8256-4495-A071-2E652DF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B8BD-C945-4D07-A530-AC3DDE60FCFA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0FE-9174-422C-96FB-23C0A84A8326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8B91-7F38-40A0-B70C-E922D754C01D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12E-F9D9-46CA-A39E-0C7DFB967420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مربع نص 3"/>
          <p:cNvSpPr/>
          <p:nvPr/>
        </p:nvSpPr>
        <p:spPr>
          <a:xfrm>
            <a:off x="3715200" y="2638440"/>
            <a:ext cx="507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ahoma"/>
              </a:rPr>
              <a:t>البناء الضوئي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700" spc="-1" strike="noStrike">
                <a:solidFill>
                  <a:srgbClr val="ff0000"/>
                </a:solidFill>
                <a:latin typeface="Arial Narrow"/>
              </a:rPr>
              <a:t>Photosynthesi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51160" cy="304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07880" y="3651120"/>
            <a:ext cx="40179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user\My Documents\80yaqroqsznehwv06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مستطيل 3"/>
          <p:cNvSpPr/>
          <p:nvPr/>
        </p:nvSpPr>
        <p:spPr>
          <a:xfrm>
            <a:off x="798480" y="468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قد تمّ اكتشاف قدرة النبات على إطلاق غاز الأكسجين، وامتصاص غاز ثاني أكسيد الكربون من الجو من أجل صنع غذائه الّذي يعتمد عليه في النموّ والتطور، وهذه العمليّة تُسمّى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</a:rPr>
              <a:t>بالبناء الضوئي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مستطيل 5" descr=""/>
          <p:cNvPicPr/>
          <p:nvPr/>
        </p:nvPicPr>
        <p:blipFill>
          <a:blip r:embed="rId1"/>
          <a:stretch/>
        </p:blipFill>
        <p:spPr>
          <a:xfrm>
            <a:off x="596880" y="2597040"/>
            <a:ext cx="8407440" cy="3571920"/>
          </a:xfrm>
          <a:prstGeom prst="rect">
            <a:avLst/>
          </a:prstGeom>
          <a:ln w="0">
            <a:noFill/>
          </a:ln>
        </p:spPr>
      </p:pic>
      <p:pic>
        <p:nvPicPr>
          <p:cNvPr id="179" name="مستطيل 6" descr=""/>
          <p:cNvPicPr/>
          <p:nvPr/>
        </p:nvPicPr>
        <p:blipFill>
          <a:blip r:embed="rId2"/>
          <a:stretch/>
        </p:blipFill>
        <p:spPr>
          <a:xfrm>
            <a:off x="4194000" y="1785960"/>
            <a:ext cx="4827600" cy="1042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349200" y="6170760"/>
            <a:ext cx="3591000" cy="6458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8"/>
          <p:cNvSpPr/>
          <p:nvPr/>
        </p:nvSpPr>
        <p:spPr>
          <a:xfrm>
            <a:off x="3803760" y="6321600"/>
            <a:ext cx="2016000" cy="215640"/>
          </a:xfrm>
          <a:prstGeom prst="rightArrow">
            <a:avLst>
              <a:gd name="adj1" fmla="val 50000"/>
              <a:gd name="adj2" fmla="val 233723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4079160" y="5951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2d050"/>
                </a:solidFill>
                <a:latin typeface="Tahoma"/>
              </a:rPr>
              <a:t>الكلوروفي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793120" y="615168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6H12O6 + O2   +H2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8029440" y="597204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مستطيل 3"/>
          <p:cNvSpPr/>
          <p:nvPr/>
        </p:nvSpPr>
        <p:spPr>
          <a:xfrm>
            <a:off x="2484360" y="1197000"/>
            <a:ext cx="6029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أهمية عملية البناء الضوئ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•تزويد النبات بالغذاء اللازم من أجل نموّه وإنتاج الثمار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•المحافظة على توازن نسبة الأكسجين وثاني أكسيد الكربون في الجو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960" y="145080"/>
            <a:ext cx="10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استخلاص الأصباغ والفحص عن النشأ في الأور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-14040" y="1298160"/>
            <a:ext cx="3072240" cy="3599280"/>
            <a:chOff x="-14040" y="1298160"/>
            <a:chExt cx="3072240" cy="3599280"/>
          </a:xfrm>
        </p:grpSpPr>
        <p:pic>
          <p:nvPicPr>
            <p:cNvPr id="188" name="Picture 5" descr="qiodin"/>
            <p:cNvPicPr/>
            <p:nvPr/>
          </p:nvPicPr>
          <p:blipFill>
            <a:blip r:embed="rId1"/>
            <a:stretch/>
          </p:blipFill>
          <p:spPr>
            <a:xfrm rot="11913000">
              <a:off x="250200" y="2684520"/>
              <a:ext cx="1863000" cy="196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qiodin"/>
            <p:cNvPicPr/>
            <p:nvPr/>
          </p:nvPicPr>
          <p:blipFill>
            <a:blip r:embed="rId2"/>
            <a:stretch/>
          </p:blipFill>
          <p:spPr>
            <a:xfrm rot="13872600">
              <a:off x="-103320" y="2406600"/>
              <a:ext cx="3366000" cy="10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Rectangle 8"/>
          <p:cNvSpPr/>
          <p:nvPr/>
        </p:nvSpPr>
        <p:spPr>
          <a:xfrm>
            <a:off x="5719320" y="95796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المواد والأدوات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راق نب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حول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مام مائي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ه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ؤوس زجاج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و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93560" y="3855240"/>
            <a:ext cx="84376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طريقة العمل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خذي ورقة نبات سبق وأن تعرض للضوء لمدة كافية ، ضعي الورقة في كأس به ماء مغلي وذلك لقتل الخلايا الح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نقلي ورقة النبات إلى كحول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%لأستخلاص الكلوروفيل من الخلايا حتى يختفي اللون الأخضر تمام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 اغمسي الورقة في محلول اليود المخفف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00040" y="236520"/>
            <a:ext cx="1643040" cy="2357280"/>
          </a:xfrm>
          <a:prstGeom prst="rect">
            <a:avLst/>
          </a:prstGeom>
          <a:ln w="0">
            <a:noFill/>
          </a:ln>
        </p:spPr>
      </p:pic>
      <p:sp>
        <p:nvSpPr>
          <p:cNvPr id="193" name="مستطيل 2"/>
          <p:cNvSpPr/>
          <p:nvPr/>
        </p:nvSpPr>
        <p:spPr>
          <a:xfrm>
            <a:off x="357120" y="2643120"/>
            <a:ext cx="30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IL THE LEAF IN WATER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929120" y="214200"/>
            <a:ext cx="1657440" cy="2386080"/>
          </a:xfrm>
          <a:prstGeom prst="rect">
            <a:avLst/>
          </a:prstGeom>
          <a:ln w="0">
            <a:noFill/>
          </a:ln>
        </p:spPr>
      </p:pic>
      <p:sp>
        <p:nvSpPr>
          <p:cNvPr id="195" name="مستطيل 4"/>
          <p:cNvSpPr/>
          <p:nvPr/>
        </p:nvSpPr>
        <p:spPr>
          <a:xfrm>
            <a:off x="4221720" y="26431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IL IT IN ALCOHOL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642960" y="3857760"/>
            <a:ext cx="1571760" cy="2214360"/>
          </a:xfrm>
          <a:prstGeom prst="rect">
            <a:avLst/>
          </a:prstGeom>
          <a:ln w="0">
            <a:noFill/>
          </a:ln>
        </p:spPr>
      </p:pic>
      <p:sp>
        <p:nvSpPr>
          <p:cNvPr id="197" name="مستطيل 6"/>
          <p:cNvSpPr/>
          <p:nvPr/>
        </p:nvSpPr>
        <p:spPr>
          <a:xfrm>
            <a:off x="204840" y="614376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IL IN WATER AGAIN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8" name="رابط كسهم مستقيم 8"/>
          <p:cNvCxnSpPr/>
          <p:nvPr/>
        </p:nvCxnSpPr>
        <p:spPr>
          <a:xfrm>
            <a:off x="2857320" y="1213920"/>
            <a:ext cx="1500840" cy="2520"/>
          </a:xfrm>
          <a:prstGeom prst="straightConnector1">
            <a:avLst/>
          </a:prstGeom>
          <a:ln w="76320">
            <a:solidFill>
              <a:srgbClr val="7e97ad"/>
            </a:solidFill>
            <a:miter/>
            <a:tailEnd len="med" type="arrow" w="med"/>
          </a:ln>
        </p:spPr>
      </p:cxnSp>
      <p:cxnSp>
        <p:nvCxnSpPr>
          <p:cNvPr id="199" name="رابط كسهم مستقيم 11"/>
          <p:cNvCxnSpPr/>
          <p:nvPr/>
        </p:nvCxnSpPr>
        <p:spPr>
          <a:xfrm>
            <a:off x="7072200" y="1213920"/>
            <a:ext cx="1501200" cy="2520"/>
          </a:xfrm>
          <a:prstGeom prst="straightConnector1">
            <a:avLst/>
          </a:prstGeom>
          <a:ln w="76320">
            <a:solidFill>
              <a:srgbClr val="7e97ad"/>
            </a:solidFill>
            <a:miter/>
            <a:tailEnd len="med" type="arrow" w="med"/>
          </a:ln>
        </p:spPr>
      </p:cxnSp>
      <p:pic>
        <p:nvPicPr>
          <p:cNvPr id="200" name="Picture 5" descr=""/>
          <p:cNvPicPr/>
          <p:nvPr/>
        </p:nvPicPr>
        <p:blipFill>
          <a:blip r:embed="rId4"/>
          <a:stretch/>
        </p:blipFill>
        <p:spPr>
          <a:xfrm>
            <a:off x="5429160" y="3714840"/>
            <a:ext cx="158112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مستطيل 13"/>
          <p:cNvSpPr/>
          <p:nvPr/>
        </p:nvSpPr>
        <p:spPr>
          <a:xfrm>
            <a:off x="4711320" y="61437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IN WITH IODIN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2" name="رابط كسهم مستقيم 14"/>
          <p:cNvCxnSpPr/>
          <p:nvPr/>
        </p:nvCxnSpPr>
        <p:spPr>
          <a:xfrm>
            <a:off x="2928600" y="4642920"/>
            <a:ext cx="1500840" cy="2520"/>
          </a:xfrm>
          <a:prstGeom prst="straightConnector1">
            <a:avLst/>
          </a:prstGeom>
          <a:ln w="76320">
            <a:solidFill>
              <a:srgbClr val="7e97a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573920" y="325440"/>
            <a:ext cx="80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- أهمية الضوء لعملية البناء الضوئي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5792400" y="1137600"/>
            <a:ext cx="3304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راق نب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صد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حول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9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مام مائي وله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ؤوس زجاج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و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95280" y="3790800"/>
            <a:ext cx="8377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Arial"/>
              </a:rPr>
              <a:t>طريقة العمل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غطي بعض اوراق النبات بالقصدير قبل طلوع الشمس لمنع وصول الضوء إلي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عد فترة زمنية أقطفي هذه الأوراق وأزيلي منها القصد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تم الكشف عن وجود النشأ وذلك بمعاملة الورقة كما في الخطوات السابقة وصبغها باليود المخف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57360" y="1125360"/>
            <a:ext cx="4346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312480" y="373680"/>
            <a:ext cx="9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أهمية ثاني أكسيد الكربون لعملية البناء الضوئ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904720" y="1132200"/>
            <a:ext cx="33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ب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لورات الصودا الكاو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نواقيس زجاج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34800" y="2583000"/>
            <a:ext cx="8533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33"/>
                </a:solidFill>
                <a:latin typeface="Arial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ضعي أصيص محتوي على النبات تحت ناقوس محكم الغلق لمنع دخول أي هواء من الخارج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ضعي بلورات الصودا الكاوية في كأس زجاجي تحت الناقوس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تركي النبات تحت الناقوس لفترة من الزمن ثم يتم الكشف عن وجود النشأ وذلك كما في التجارب السابق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571920" cy="481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5000760" y="714240"/>
            <a:ext cx="37144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7:14:30Z</dcterms:created>
  <dc:creator>HELP</dc:creator>
  <dc:description/>
  <dc:language>en-US</dc:language>
  <cp:lastModifiedBy>pc</cp:lastModifiedBy>
  <dcterms:modified xsi:type="dcterms:W3CDTF">2017-11-06T05:16:09Z</dcterms:modified>
  <cp:revision>36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