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4888-B571-4BE6-80C8-FB5A2C56FA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ECDF-C709-43E0-9936-E7DB268C5FC4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C7F-CC46-4215-93FF-2D61CC9E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C5E-72EF-491A-8481-893EEE96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310-5F44-4A90-ACAB-E09F7A7B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61E-B28F-4020-880F-88E83F30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8F53-0E1A-445B-84D1-DDBB0C7B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687B-BCE8-46A4-B190-071F06F3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AB21-00A0-4124-9ABE-7AB736AF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A119-73CF-4C5D-A4A0-2F5CC93E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F055-8514-44CF-B1B2-CF45277C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09DA-765C-44BF-B3A7-17FF3ED0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1A47-A255-4A14-9248-605B0B97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78B-A133-4922-A470-047748BA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81BC-0E2E-4C68-9284-67F29399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AFE9-4838-47F3-B6F5-3D22982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ADC9-35B1-4A22-A877-C7A79EE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A9ED-683B-4B06-9E6D-5B1FDEF5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18A6-5F44-4226-8121-D99F33FE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7966-3471-49F4-80EC-D3D3DEB7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E7DA-A901-4880-BAE5-B3A0A8E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3B26-67C8-4037-BD36-306868B2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31DD-2839-4A9E-83C6-232E4815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4C87-9E30-4A96-BA50-F52754EF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8D4-B52A-4119-AA9E-92691157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5199-02EE-478D-BB70-32FF6FE0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E76C-AAFE-4173-A0D5-A0F0344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288E-5CB6-4E32-9235-7FF7C5F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44F1-4C95-49EF-8247-6C54665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D000-8B36-4119-8574-4D2015BD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17E2-B6F7-4BCE-B09C-5F2022B8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483E-718A-45A6-AEED-1A8D8DBE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F0D8F-FFE5-4162-87BA-CBDE0623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7083E-2FEC-4C43-9DAE-AD7D7EB8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7EA64-5BBD-4870-99C5-A9468C9C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06C-F7A9-4C3F-AD20-54C0746C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69E6-BC53-4D9B-AD47-7AB6CC58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D7D05-67DE-476F-A225-96BB6822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DDA9-413E-4663-918D-A230549E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D340-F201-409A-9DC7-A67831A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5162-9FEA-44EE-B35B-E79A91E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D541-7B0A-40B6-8921-2F8FB9D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90066-4EBC-4999-A0D5-66BDF037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6AD4-21AE-44F2-8578-95C55238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5536-D6AB-4AD5-A9DC-63C3EDA2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C5C-F07F-423B-80B6-DDBA94D1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603-575A-4187-925D-9CA9865C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18F-C9B2-435D-A2F8-2F7C3678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FF5-560B-4490-B35D-14177D86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4C3-0731-4D7F-9423-366BFCF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7E51-6D38-4780-B003-E6821BF9A139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6932-305D-4E88-A389-04C3AA94ADDA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BE6F-B2D4-40EE-8ED2-80F35343E484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2AA9-C47B-4093-84D7-D5AC7D722315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مربع نص 3"/>
          <p:cNvSpPr/>
          <p:nvPr/>
        </p:nvSpPr>
        <p:spPr>
          <a:xfrm>
            <a:off x="3715200" y="2638440"/>
            <a:ext cx="507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ahoma"/>
              </a:rPr>
              <a:t>البناء الضوئي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700" spc="-1" strike="noStrike">
                <a:solidFill>
                  <a:srgbClr val="ff0000"/>
                </a:solidFill>
                <a:latin typeface="Arial Narrow"/>
              </a:rPr>
              <a:t>Photosynthesis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51160" cy="304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07880" y="3651120"/>
            <a:ext cx="40179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user\My Documents\80yaqroqsznehwv061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مستطيل 3"/>
          <p:cNvSpPr/>
          <p:nvPr/>
        </p:nvSpPr>
        <p:spPr>
          <a:xfrm>
            <a:off x="798480" y="468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قد تمّ اكتشاف قدرة النبات على إطلاق غاز الأكسجين، وامتصاص غاز ثاني أكسيد الكربون من الجو من أجل صنع غذائه الّذي يعتمد عليه في النموّ والتطور، وهذه العمليّة تُسمّى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</a:rPr>
              <a:t>بالبناء الضوئي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مستطيل 5" descr=""/>
          <p:cNvPicPr/>
          <p:nvPr/>
        </p:nvPicPr>
        <p:blipFill>
          <a:blip r:embed="rId1"/>
          <a:stretch/>
        </p:blipFill>
        <p:spPr>
          <a:xfrm>
            <a:off x="596880" y="2597040"/>
            <a:ext cx="8407440" cy="3571920"/>
          </a:xfrm>
          <a:prstGeom prst="rect">
            <a:avLst/>
          </a:prstGeom>
          <a:ln w="0">
            <a:noFill/>
          </a:ln>
        </p:spPr>
      </p:pic>
      <p:pic>
        <p:nvPicPr>
          <p:cNvPr id="179" name="مستطيل 6" descr=""/>
          <p:cNvPicPr/>
          <p:nvPr/>
        </p:nvPicPr>
        <p:blipFill>
          <a:blip r:embed="rId2"/>
          <a:stretch/>
        </p:blipFill>
        <p:spPr>
          <a:xfrm>
            <a:off x="4194000" y="1785960"/>
            <a:ext cx="4827600" cy="1042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349200" y="6170760"/>
            <a:ext cx="3591000" cy="64584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8"/>
          <p:cNvSpPr/>
          <p:nvPr/>
        </p:nvSpPr>
        <p:spPr>
          <a:xfrm>
            <a:off x="3803760" y="6321600"/>
            <a:ext cx="2016000" cy="215640"/>
          </a:xfrm>
          <a:prstGeom prst="rightArrow">
            <a:avLst>
              <a:gd name="adj1" fmla="val 50000"/>
              <a:gd name="adj2" fmla="val 233723"/>
            </a:avLst>
          </a:pr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4079160" y="5951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2d050"/>
                </a:solidFill>
                <a:latin typeface="Tahoma"/>
              </a:rPr>
              <a:t>الكلوروفي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793120" y="615168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6H12O6 + O2   +H2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8029440" y="597204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مستطيل 3"/>
          <p:cNvSpPr/>
          <p:nvPr/>
        </p:nvSpPr>
        <p:spPr>
          <a:xfrm>
            <a:off x="2484360" y="1197000"/>
            <a:ext cx="6029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أهمية عملية البناء الضوئ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•تزويد النبات بالغذاء اللازم من أجل نموّه وإنتاج الثمار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•المحافظة على توازن نسبة الأكسجين وثاني أكسيد الكربون في الجو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28960" y="145080"/>
            <a:ext cx="10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- استخلاص الأصباغ والفحص عن النشأ في الأور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-14040" y="1298160"/>
            <a:ext cx="3072240" cy="3599280"/>
            <a:chOff x="-14040" y="1298160"/>
            <a:chExt cx="3072240" cy="3599280"/>
          </a:xfrm>
        </p:grpSpPr>
        <p:pic>
          <p:nvPicPr>
            <p:cNvPr id="188" name="Picture 5" descr="qiodin"/>
            <p:cNvPicPr/>
            <p:nvPr/>
          </p:nvPicPr>
          <p:blipFill>
            <a:blip r:embed="rId1"/>
            <a:stretch/>
          </p:blipFill>
          <p:spPr>
            <a:xfrm rot="11913000">
              <a:off x="250200" y="2684520"/>
              <a:ext cx="1863000" cy="19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6" descr="qiodin"/>
            <p:cNvPicPr/>
            <p:nvPr/>
          </p:nvPicPr>
          <p:blipFill>
            <a:blip r:embed="rId2"/>
            <a:stretch/>
          </p:blipFill>
          <p:spPr>
            <a:xfrm rot="13872600">
              <a:off x="-103320" y="2406600"/>
              <a:ext cx="3366000" cy="10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Rectangle 8"/>
          <p:cNvSpPr/>
          <p:nvPr/>
        </p:nvSpPr>
        <p:spPr>
          <a:xfrm>
            <a:off x="5719320" y="95796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المواد والأدوات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راق نب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حول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9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مام مائي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ه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ؤوس زجاج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و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493560" y="3855240"/>
            <a:ext cx="84376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طريقة العمل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خذي ورقة نبات سبق وأن تعرض للضوء لمدة كافية ، ضعي الورقة في كأس به ماء مغلي وذلك لقتل الخلايا الح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انقلي ورقة النبات إلى كحول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9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%لأستخلاص الكلوروفيل من الخلايا حتى يختفي اللون الأخضر تمام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اغمسي الورقة في محلول اليود المخفف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00040" y="236520"/>
            <a:ext cx="1643040" cy="2357280"/>
          </a:xfrm>
          <a:prstGeom prst="rect">
            <a:avLst/>
          </a:prstGeom>
          <a:ln w="0">
            <a:noFill/>
          </a:ln>
        </p:spPr>
      </p:pic>
      <p:sp>
        <p:nvSpPr>
          <p:cNvPr id="193" name="مستطيل 2"/>
          <p:cNvSpPr/>
          <p:nvPr/>
        </p:nvSpPr>
        <p:spPr>
          <a:xfrm>
            <a:off x="357120" y="2643120"/>
            <a:ext cx="30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IL THE LEAF IN WATER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4929120" y="214200"/>
            <a:ext cx="1657440" cy="2386080"/>
          </a:xfrm>
          <a:prstGeom prst="rect">
            <a:avLst/>
          </a:prstGeom>
          <a:ln w="0">
            <a:noFill/>
          </a:ln>
        </p:spPr>
      </p:pic>
      <p:sp>
        <p:nvSpPr>
          <p:cNvPr id="195" name="مستطيل 4"/>
          <p:cNvSpPr/>
          <p:nvPr/>
        </p:nvSpPr>
        <p:spPr>
          <a:xfrm>
            <a:off x="4221720" y="26431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IL IT IN ALCOHOL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642960" y="3857760"/>
            <a:ext cx="1571760" cy="2214360"/>
          </a:xfrm>
          <a:prstGeom prst="rect">
            <a:avLst/>
          </a:prstGeom>
          <a:ln w="0">
            <a:noFill/>
          </a:ln>
        </p:spPr>
      </p:pic>
      <p:sp>
        <p:nvSpPr>
          <p:cNvPr id="197" name="مستطيل 6"/>
          <p:cNvSpPr/>
          <p:nvPr/>
        </p:nvSpPr>
        <p:spPr>
          <a:xfrm>
            <a:off x="204840" y="614376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IL IN WATER AGAIN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98" name="رابط كسهم مستقيم 8"/>
          <p:cNvCxnSpPr/>
          <p:nvPr/>
        </p:nvCxnSpPr>
        <p:spPr>
          <a:xfrm>
            <a:off x="2857320" y="1213920"/>
            <a:ext cx="1500840" cy="2520"/>
          </a:xfrm>
          <a:prstGeom prst="straightConnector1">
            <a:avLst/>
          </a:prstGeom>
          <a:ln w="76320">
            <a:solidFill>
              <a:srgbClr val="7e97ad"/>
            </a:solidFill>
            <a:miter/>
            <a:tailEnd len="med" type="arrow" w="med"/>
          </a:ln>
        </p:spPr>
      </p:cxnSp>
      <p:cxnSp>
        <p:nvCxnSpPr>
          <p:cNvPr id="199" name="رابط كسهم مستقيم 11"/>
          <p:cNvCxnSpPr/>
          <p:nvPr/>
        </p:nvCxnSpPr>
        <p:spPr>
          <a:xfrm>
            <a:off x="7072200" y="1213920"/>
            <a:ext cx="1501200" cy="2520"/>
          </a:xfrm>
          <a:prstGeom prst="straightConnector1">
            <a:avLst/>
          </a:prstGeom>
          <a:ln w="76320">
            <a:solidFill>
              <a:srgbClr val="7e97ad"/>
            </a:solidFill>
            <a:miter/>
            <a:tailEnd len="med" type="arrow" w="med"/>
          </a:ln>
        </p:spPr>
      </p:cxnSp>
      <p:pic>
        <p:nvPicPr>
          <p:cNvPr id="200" name="Picture 5" descr=""/>
          <p:cNvPicPr/>
          <p:nvPr/>
        </p:nvPicPr>
        <p:blipFill>
          <a:blip r:embed="rId4"/>
          <a:stretch/>
        </p:blipFill>
        <p:spPr>
          <a:xfrm>
            <a:off x="5429160" y="3714840"/>
            <a:ext cx="1581120" cy="2286000"/>
          </a:xfrm>
          <a:prstGeom prst="rect">
            <a:avLst/>
          </a:prstGeom>
          <a:ln w="0">
            <a:noFill/>
          </a:ln>
        </p:spPr>
      </p:pic>
      <p:sp>
        <p:nvSpPr>
          <p:cNvPr id="201" name="مستطيل 13"/>
          <p:cNvSpPr/>
          <p:nvPr/>
        </p:nvSpPr>
        <p:spPr>
          <a:xfrm>
            <a:off x="4711320" y="61437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IN WITH IODIN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02" name="رابط كسهم مستقيم 14"/>
          <p:cNvCxnSpPr/>
          <p:nvPr/>
        </p:nvCxnSpPr>
        <p:spPr>
          <a:xfrm>
            <a:off x="2928600" y="4642920"/>
            <a:ext cx="1500840" cy="2520"/>
          </a:xfrm>
          <a:prstGeom prst="straightConnector1">
            <a:avLst/>
          </a:prstGeom>
          <a:ln w="76320">
            <a:solidFill>
              <a:srgbClr val="7e97a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573920" y="325440"/>
            <a:ext cx="80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- أهمية الضوء لعملية البناء الضوئي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5792400" y="1137600"/>
            <a:ext cx="3304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راق نب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صد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حول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9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مام مائي وله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ؤوس زجاج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و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95280" y="3790800"/>
            <a:ext cx="8377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33"/>
                </a:solidFill>
                <a:latin typeface="Arial"/>
              </a:rPr>
              <a:t>طريقة العمل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غطي بعض اوراق النبات بالقصدير قبل طلوع الشمس لمنع وصول الضوء إلي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عد فترة زمنية أقطفي هذه الأوراق وأزيلي منها القصد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تم الكشف عن وجود النشأ وذلك بمعاملة الورقة كما في الخطوات السابقة وصبغها باليود المخف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657360" y="1125360"/>
            <a:ext cx="4346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312480" y="373680"/>
            <a:ext cx="98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- أهمية ثاني أكسيد الكربون لعملية البناء الضوئ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904720" y="1132200"/>
            <a:ext cx="33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لورات الصودا الكاو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واقيس زجاج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34800" y="2583000"/>
            <a:ext cx="8533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33"/>
                </a:solidFill>
                <a:latin typeface="Arial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ضعي أصيص محتوي على النبات تحت ناقوس محكم الغلق لمنع دخول أي هواء من الخارج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ضعي بلورات الصودا الكاوية في كأس زجاجي تحت الناقوس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تركي النبات تحت الناقوس لفترة من الزمن ثم يتم الكشف عن وجود النشأ وذلك كما في التجارب السابق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3571920" cy="481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5000760" y="714240"/>
            <a:ext cx="371448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7:14:30Z</dcterms:created>
  <dc:creator>HELP</dc:creator>
  <dc:description/>
  <dc:language>en-US</dc:language>
  <cp:lastModifiedBy>pc</cp:lastModifiedBy>
  <dcterms:modified xsi:type="dcterms:W3CDTF">2017-11-06T05:16:09Z</dcterms:modified>
  <cp:revision>36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